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8.jpeg" ContentType="image/jpeg"/>
  <Override PartName="/ppt/media/image25.jpeg" ContentType="image/jpeg"/>
  <Override PartName="/ppt/media/image26.jpeg" ContentType="image/jpeg"/>
  <Override PartName="/ppt/media/image32.jpeg" ContentType="image/jpeg"/>
  <Override PartName="/ppt/media/image6.jpeg" ContentType="image/jpeg"/>
  <Override PartName="/ppt/media/image11.jpeg" ContentType="image/jpeg"/>
  <Override PartName="/ppt/media/image7.gif" ContentType="image/gif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9.png" ContentType="image/png"/>
  <Override PartName="/ppt/media/image13.jpeg" ContentType="image/jpeg"/>
  <Override PartName="/ppt/media/image30.jpeg" ContentType="image/jpeg"/>
  <Override PartName="/ppt/media/image31.jpeg" ContentType="image/jpeg"/>
  <Override PartName="/ppt/media/image4.png" ContentType="image/png"/>
  <Override PartName="/ppt/media/image27.png" ContentType="image/png"/>
  <Override PartName="/ppt/media/image3.gif" ContentType="image/gif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media/image14.jpeg" ContentType="image/jpeg"/>
  <Override PartName="/ppt/media/image15.jpeg" ContentType="image/jpeg"/>
  <Override PartName="/ppt/media/image16.gif" ContentType="image/gif"/>
  <Override PartName="/ppt/media/image20.jpeg" ContentType="image/jpeg"/>
  <Override PartName="/ppt/media/image19.png" ContentType="image/png"/>
  <Override PartName="/ppt/media/image17.gif" ContentType="image/gif"/>
  <Override PartName="/ppt/media/image21.jpeg" ContentType="image/jpeg"/>
  <Override PartName="/ppt/media/image24.jpeg" ContentType="image/jpeg"/>
  <Override PartName="/ppt/media/image22.png" ContentType="image/pn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60CC-35BF-481A-979C-C2C3DBE77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8AC1-0DE4-4DF8-B0A8-724079E32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6DAE-04DC-4FB2-B208-C9FFBAB7D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14C5-078C-4E1F-A3DA-7D55D97B8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F6D5B-C1BA-4B63-9888-CA8656C02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5E2C4-3372-4F36-98D2-28EDBFBCB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69B67-968D-4EF8-8A7E-38CD11780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ED762-DC26-443C-887E-DC7BCA677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9943D-09AF-424E-AA58-57E55C420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AA10C-6EB7-4814-BA7B-E6FE296B4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FAC27-E182-483F-A374-3656801D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76B7-1D76-4872-8ABD-23832CFC6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38C1D-8C95-440A-B7C5-9706D97C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6ED92-B725-40DD-A3A3-6E99A76E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1B2CF-7D02-4D45-86A8-6F15AB6C2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5EFA0-A39F-4272-BC5D-BA0F53F3C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33F1C-7330-4E20-9D3F-E8723FBB5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4CDCA-18D3-4CF5-9053-CA5475380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67A3E-33CB-439A-9FA7-48ECA7C26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06D77-6A53-4B7C-BB59-07F728D1A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6F44F-9688-41E4-BA0E-461B533F8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251EB-3ACA-449A-B8A0-9C1C435B8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48A5-975C-46A5-BCF1-609185AD4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D57D9-C069-4E97-AD9E-D9069AE87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A5427-9C8E-4A80-9775-50AF0F71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2C257-5A2B-4D7A-A7AB-99E5D268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23354-D6D5-4B24-B89E-AE74DA1E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0EEBD-8422-4E34-BCFD-66B5B6256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584AF-0961-4FA9-8742-A7A909DF0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E2AB6-5E01-4705-9A66-486E9FC2E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9E61-D1BE-4C82-8313-B0B044AE2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F2F7-50EC-4540-9109-57C58BF34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5FEC-AFF6-46E8-AF91-E3DB42E0E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633C-52ED-4E16-B065-D60DB813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EF9E-1F7F-4B84-93B2-06C51F37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67C8-3B21-4BFB-AB42-2ACD41EA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E54CC-C001-4C2D-BECB-C98980051E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0D2BB-024A-4A52-87E4-CAC8E313A3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F1BF9-805D-461E-81DA-3943AE6BE2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hyperlink" Target="350,8,&#24187;&#28783;&#29255; 8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hyperlink" Target="http://image.baidu.com/i?ct=503316480&amp;z=1196888702&amp;tn=baiduimagedetail&amp;word=&#31206;&#37030;&#23466;&amp;in=18" TargetMode="External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jpeg"/><Relationship Id="rId3" Type="http://schemas.openxmlformats.org/officeDocument/2006/relationships/hyperlink" Target="http://www.sucaiw.com/../images.asp?url=http://py.sucaiw.com/%B6%AF%BB%AD%C0%E0/&#1211;%B0&#15791;%BB%AD/%CE%E5%D0%C7/%B0%D7&#619;%B1%B3%BE%B0%B5%C4//&amp;pic=gif&amp;num=026&amp;ext=.gif&amp;picall=36" TargetMode="External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6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ec-pop.nease.net/bk/bk04.wmf" TargetMode="External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2.jpe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99"/>
                </a:solidFill>
                <a:latin typeface="华文仿宋"/>
                <a:ea typeface="华文仿宋"/>
              </a:rPr>
              <a:t>南昌起义</a:t>
            </a:r>
            <a:endParaRPr b="0" lang="en-US" sz="6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2700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华文仿宋"/>
                <a:ea typeface="华文仿宋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华文仿宋"/>
                <a:ea typeface="华文仿宋"/>
              </a:rPr>
              <a:t>时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华文仿宋"/>
                <a:ea typeface="华文仿宋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华文仿宋"/>
                <a:ea typeface="华文仿宋"/>
              </a:rPr>
              <a:t>领导人</a:t>
            </a:r>
            <a:r>
              <a:rPr b="1" lang="en-US" sz="4400" spc="-1" strike="noStrike">
                <a:solidFill>
                  <a:srgbClr val="000000"/>
                </a:solidFill>
                <a:latin typeface="华文仿宋"/>
                <a:ea typeface="华文仿宋"/>
              </a:rPr>
              <a:t>: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华文仿宋"/>
                <a:ea typeface="华文仿宋"/>
              </a:rPr>
              <a:t>3.</a:t>
            </a:r>
            <a:r>
              <a:rPr b="1" lang="zh-CN" sz="4400" spc="-1" strike="noStrike">
                <a:solidFill>
                  <a:srgbClr val="000000"/>
                </a:solidFill>
                <a:latin typeface="华文仿宋"/>
                <a:ea typeface="华文仿宋"/>
              </a:rPr>
              <a:t>过程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24000" y="1270080"/>
            <a:ext cx="405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92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1844640"/>
            <a:ext cx="58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刘伯承、贺龙、叶挺、朱德、周恩来</a:t>
            </a:r>
            <a:r>
              <a:rPr b="1" lang="zh-CN" sz="4400" spc="-1" strike="noStrike">
                <a:solidFill>
                  <a:srgbClr val="000000"/>
                </a:solidFill>
                <a:latin typeface="华文仿宋"/>
                <a:ea typeface="华文仿宋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 （留荷叶煮粥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40000" y="4437000"/>
            <a:ext cx="655308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华文仿宋"/>
                <a:ea typeface="华文仿宋"/>
              </a:rPr>
              <a:t>(</a:t>
            </a:r>
            <a:r>
              <a:rPr b="1" lang="zh-CN" sz="4400" spc="-1" strike="noStrike">
                <a:solidFill>
                  <a:srgbClr val="000000"/>
                </a:solidFill>
                <a:latin typeface="华文仿宋"/>
                <a:ea typeface="华文仿宋"/>
              </a:rPr>
              <a:t>打响了武装反抗国民党反动统治的</a:t>
            </a:r>
            <a:r>
              <a:rPr b="0" lang="zh-CN" sz="4400" spc="-1" strike="noStrike" u="sng">
                <a:solidFill>
                  <a:srgbClr val="800080"/>
                </a:solidFill>
                <a:uFillTx/>
                <a:latin typeface="华文仿宋"/>
                <a:ea typeface="华文仿宋"/>
                <a:hlinkClick r:id="rId2"/>
              </a:rPr>
              <a:t>第一枪</a:t>
            </a:r>
            <a:r>
              <a:rPr b="1" lang="en-US" sz="4400" spc="-1" strike="noStrike">
                <a:solidFill>
                  <a:srgbClr val="000000"/>
                </a:solidFill>
                <a:latin typeface="华文仿宋"/>
                <a:ea typeface="华文仿宋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411280" y="335772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南昌起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067280" y="3573360"/>
            <a:ext cx="718920" cy="216000"/>
          </a:xfrm>
          <a:prstGeom prst="rightArrow">
            <a:avLst>
              <a:gd name="adj1" fmla="val 50000"/>
              <a:gd name="adj2" fmla="val 8320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59280" y="342900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南下广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3645000"/>
            <a:ext cx="719280" cy="215640"/>
          </a:xfrm>
          <a:prstGeom prst="rightArrow">
            <a:avLst>
              <a:gd name="adj1" fmla="val 50000"/>
              <a:gd name="adj2" fmla="val 8338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08720" y="3500280"/>
            <a:ext cx="18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受挫分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5300640"/>
            <a:ext cx="291636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4581360"/>
            <a:ext cx="194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4.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意义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474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40" name=""/>
          <p:cNvGrpSpPr/>
          <p:nvPr/>
        </p:nvGrpSpPr>
        <p:grpSpPr>
          <a:xfrm>
            <a:off x="104760" y="12600"/>
            <a:ext cx="4455720" cy="5876640"/>
            <a:chOff x="104760" y="12600"/>
            <a:chExt cx="4455720" cy="5876640"/>
          </a:xfrm>
        </p:grpSpPr>
        <p:pic>
          <p:nvPicPr>
            <p:cNvPr id="241" name="" descr=""/>
            <p:cNvPicPr/>
            <p:nvPr/>
          </p:nvPicPr>
          <p:blipFill>
            <a:blip r:embed="rId2"/>
            <a:stretch/>
          </p:blipFill>
          <p:spPr>
            <a:xfrm>
              <a:off x="104760" y="12600"/>
              <a:ext cx="4448520" cy="504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PlaceHolder 1"/>
            <p:cNvSpPr>
              <a:spLocks noGrp="1"/>
            </p:cNvSpPr>
            <p:nvPr>
              <p:ph/>
            </p:nvPr>
          </p:nvSpPr>
          <p:spPr>
            <a:xfrm>
              <a:off x="115200" y="5067000"/>
              <a:ext cx="4445280" cy="82224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0" algn="ctr">
                <a:spcBef>
                  <a:spcPts val="2251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第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34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师师长陈树湘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372960" y="6021360"/>
            <a:ext cx="946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导致红军长征初期损失惨重的主要原因是什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054760" y="2401920"/>
            <a:ext cx="362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年不食湘江鱼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054760" y="3176640"/>
            <a:ext cx="296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河底遍尸体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03600" y="4121280"/>
            <a:ext cx="492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摘自陈靖《湘江黔山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054760" y="15526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血染十里溪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0" y="0"/>
            <a:ext cx="9112320" cy="8582040"/>
          </a:xfrm>
          <a:prstGeom prst="downArrowCallout">
            <a:avLst>
              <a:gd name="adj1" fmla="val 0"/>
              <a:gd name="adj2" fmla="val 2143"/>
              <a:gd name="adj3" fmla="val -15669"/>
              <a:gd name="adj4" fmla="val 78866"/>
            </a:avLst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3116160" y="3780000"/>
            <a:ext cx="3600360" cy="2498040"/>
            <a:chOff x="3116160" y="3780000"/>
            <a:chExt cx="3600360" cy="2498040"/>
          </a:xfrm>
        </p:grpSpPr>
        <p:sp>
          <p:nvSpPr>
            <p:cNvPr id="251" name=""/>
            <p:cNvSpPr/>
            <p:nvPr/>
          </p:nvSpPr>
          <p:spPr>
            <a:xfrm>
              <a:off x="3997080" y="3780000"/>
              <a:ext cx="1657440" cy="576000"/>
            </a:xfrm>
            <a:prstGeom prst="leftRightArrow">
              <a:avLst>
                <a:gd name="adj1" fmla="val 50000"/>
                <a:gd name="adj2" fmla="val 57550"/>
              </a:avLst>
            </a:prstGeom>
            <a:solidFill>
              <a:srgbClr val="66ffff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 txBox="1"/>
            <p:nvPr/>
          </p:nvSpPr>
          <p:spPr>
            <a:xfrm>
              <a:off x="3116160" y="5557680"/>
              <a:ext cx="3600360" cy="7203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>
                        <a:alpha val="75000"/>
                      </a:srgbClr>
                    </a:outerShdw>
                  </a:effectLst>
                  <a:latin typeface="华文中宋"/>
                </a:rPr>
                <a:t>你支持谁</a:t>
              </a:r>
              <a:r>
                <a:rPr b="1" lang="en-US" sz="2400" spc="-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>
                        <a:alpha val="75000"/>
                      </a:srgbClr>
                    </a:outerShdw>
                  </a:effectLst>
                  <a:latin typeface="华文中宋"/>
                </a:rPr>
                <a:t>?</a:t>
              </a:r>
              <a:endParaRPr b="1" lang="en-US" sz="2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华文中宋"/>
                <a:ea typeface="华文中宋"/>
              </a:endParaRPr>
            </a:p>
          </p:txBody>
        </p:sp>
      </p:grpSp>
      <p:sp>
        <p:nvSpPr>
          <p:cNvPr id="253" name=""/>
          <p:cNvSpPr txBox="1"/>
          <p:nvPr/>
        </p:nvSpPr>
        <p:spPr>
          <a:xfrm>
            <a:off x="5418000" y="3187800"/>
            <a:ext cx="2114640" cy="1762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毛泽东</a:t>
            </a:r>
            <a:endParaRPr b="1" lang="en-US" sz="2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贵州</a:t>
            </a:r>
            <a:endParaRPr b="1" lang="en-US" sz="2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敌人力量薄弱</a:t>
            </a:r>
            <a:endParaRPr b="1" lang="en-US" sz="2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6105600" y="65160"/>
            <a:ext cx="2990880" cy="2824200"/>
          </a:xfrm>
          <a:prstGeom prst="rect">
            <a:avLst/>
          </a:prstGeom>
          <a:ln w="0">
            <a:noFill/>
          </a:ln>
        </p:spPr>
      </p:pic>
      <p:grpSp>
        <p:nvGrpSpPr>
          <p:cNvPr id="255" name=""/>
          <p:cNvGrpSpPr/>
          <p:nvPr/>
        </p:nvGrpSpPr>
        <p:grpSpPr>
          <a:xfrm>
            <a:off x="-384480" y="38160"/>
            <a:ext cx="4969080" cy="4911840"/>
            <a:chOff x="-384480" y="38160"/>
            <a:chExt cx="4969080" cy="4911840"/>
          </a:xfrm>
        </p:grpSpPr>
        <p:sp>
          <p:nvSpPr>
            <p:cNvPr id="256" name=""/>
            <p:cNvSpPr txBox="1"/>
            <p:nvPr/>
          </p:nvSpPr>
          <p:spPr>
            <a:xfrm>
              <a:off x="1765080" y="3187800"/>
              <a:ext cx="2819520" cy="17622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博古、李德</a:t>
              </a:r>
              <a:endParaRPr b="1" lang="en-US" sz="2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湘西</a:t>
              </a:r>
              <a:endParaRPr b="1" lang="en-US" sz="2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敌人已布下口袋阵</a:t>
              </a:r>
              <a:endParaRPr b="1" lang="en-US" sz="2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-384480" y="38160"/>
              <a:ext cx="2984760" cy="2836800"/>
              <a:chOff x="-384480" y="38160"/>
              <a:chExt cx="2984760" cy="2836800"/>
            </a:xfrm>
          </p:grpSpPr>
          <p:pic>
            <p:nvPicPr>
              <p:cNvPr id="258" name="" descr="">
                <a:hlinkClick r:id="rId4"/>
              </p:cNvPr>
              <p:cNvPicPr/>
              <p:nvPr/>
            </p:nvPicPr>
            <p:blipFill>
              <a:blip r:embed="rId5"/>
              <a:stretch/>
            </p:blipFill>
            <p:spPr>
              <a:xfrm>
                <a:off x="31680" y="50760"/>
                <a:ext cx="2568600" cy="282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>
                <a:off x="-384480" y="38160"/>
                <a:ext cx="1033560" cy="99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Times New Roman"/>
                  </a:rPr>
                  <a:t>博古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117360" y="757080"/>
            <a:ext cx="14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原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17360" y="1538280"/>
            <a:ext cx="126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经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38120" y="798480"/>
            <a:ext cx="55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红军              反“围剿”失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338560" y="798480"/>
            <a:ext cx="157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第五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979880" y="889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1934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、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308240" y="1432080"/>
            <a:ext cx="1908000" cy="10792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黑体"/>
              </a:rPr>
              <a:t>中央革命根据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3228840" y="1432080"/>
            <a:ext cx="2219400" cy="1079280"/>
            <a:chOff x="3228840" y="1432080"/>
            <a:chExt cx="2219400" cy="1079280"/>
          </a:xfrm>
        </p:grpSpPr>
        <p:sp>
          <p:nvSpPr>
            <p:cNvPr id="268" name=""/>
            <p:cNvSpPr/>
            <p:nvPr/>
          </p:nvSpPr>
          <p:spPr>
            <a:xfrm>
              <a:off x="3228840" y="1971360"/>
              <a:ext cx="36036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539880" y="1432080"/>
              <a:ext cx="1908360" cy="10792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66"/>
                  </a:solidFill>
                  <a:latin typeface="Times New Roman"/>
                  <a:ea typeface="黑体"/>
                </a:rPr>
                <a:t>突破四道封锁线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5411880" y="1432080"/>
            <a:ext cx="1563120" cy="1079280"/>
            <a:chOff x="5411880" y="1432080"/>
            <a:chExt cx="1563120" cy="1079280"/>
          </a:xfrm>
        </p:grpSpPr>
        <p:sp>
          <p:nvSpPr>
            <p:cNvPr id="271" name=""/>
            <p:cNvSpPr/>
            <p:nvPr/>
          </p:nvSpPr>
          <p:spPr>
            <a:xfrm>
              <a:off x="5964120" y="1432080"/>
              <a:ext cx="1010880" cy="10792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66"/>
                  </a:solidFill>
                  <a:latin typeface="Times New Roman"/>
                  <a:ea typeface="黑体"/>
                </a:rPr>
                <a:t>突破湘江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11880" y="1971360"/>
              <a:ext cx="57600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6892920" y="1432080"/>
            <a:ext cx="1353960" cy="1079280"/>
            <a:chOff x="6892920" y="1432080"/>
            <a:chExt cx="1353960" cy="1079280"/>
          </a:xfrm>
        </p:grpSpPr>
        <p:sp>
          <p:nvSpPr>
            <p:cNvPr id="274" name=""/>
            <p:cNvSpPr/>
            <p:nvPr/>
          </p:nvSpPr>
          <p:spPr>
            <a:xfrm>
              <a:off x="6892920" y="1971360"/>
              <a:ext cx="36036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236000" y="1432080"/>
              <a:ext cx="1010880" cy="10792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66"/>
                  </a:solidFill>
                  <a:latin typeface="Times New Roman"/>
                  <a:ea typeface="黑体"/>
                </a:rPr>
                <a:t>渡过乌江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7236000" y="1800360"/>
            <a:ext cx="1457280" cy="1981080"/>
            <a:chOff x="7236000" y="1800360"/>
            <a:chExt cx="1457280" cy="1981080"/>
          </a:xfrm>
        </p:grpSpPr>
        <p:sp>
          <p:nvSpPr>
            <p:cNvPr id="277" name=""/>
            <p:cNvSpPr/>
            <p:nvPr/>
          </p:nvSpPr>
          <p:spPr>
            <a:xfrm>
              <a:off x="8298000" y="1800360"/>
              <a:ext cx="395280" cy="1622520"/>
            </a:xfrm>
            <a:custGeom>
              <a:avLst/>
              <a:gdLst>
                <a:gd name="textAreaLeft" fmla="*/ 52920 w 395280"/>
                <a:gd name="textAreaRight" fmla="*/ 342360 w 395280"/>
                <a:gd name="textAreaTop" fmla="*/ 297720 h 1622520"/>
                <a:gd name="textAreaBottom" fmla="*/ 1153440 h 162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931" stAng="-5400000" swAng="5400000"/>
                  <a:lnTo>
                    <a:pt x="21600" y="11388"/>
                  </a:lnTo>
                  <a:arcTo wR="21600" hR="7931" stAng="0" swAng="2764861"/>
                  <a:lnTo>
                    <a:pt x="7200" y="21146"/>
                  </a:lnTo>
                  <a:lnTo>
                    <a:pt x="0" y="17590"/>
                  </a:lnTo>
                  <a:lnTo>
                    <a:pt x="7200" y="13125"/>
                  </a:lnTo>
                  <a:lnTo>
                    <a:pt x="7200" y="15407"/>
                  </a:lnTo>
                  <a:arcTo wR="21600" hR="7931" stAng="2764861" swAng="-2483614"/>
                  <a:lnTo>
                    <a:pt x="21081" y="9659"/>
                  </a:lnTo>
                  <a:arcTo wR="21600" hR="7931" stAng="-281247" swAng="-5118753"/>
                  <a:close/>
                </a:path>
                <a:path fill="darkenLess" w="21600" h="21600">
                  <a:moveTo>
                    <a:pt x="0" y="0"/>
                  </a:moveTo>
                  <a:arcTo wR="21600" hR="7931" stAng="-5400000" swAng="5400000"/>
                  <a:lnTo>
                    <a:pt x="21600" y="11388"/>
                  </a:lnTo>
                  <a:arcTo wR="21600" hR="7931" stAng="0" swAng="-281247"/>
                  <a:lnTo>
                    <a:pt x="21081" y="9659"/>
                  </a:lnTo>
                  <a:arcTo wR="21600" hR="7931" stAng="-281247" swAng="-5118753"/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236000" y="2702160"/>
              <a:ext cx="1011240" cy="10792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66"/>
                  </a:solidFill>
                  <a:latin typeface="Times New Roman"/>
                  <a:ea typeface="黑体"/>
                </a:rPr>
                <a:t>解放遵义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192320" y="88920"/>
            <a:ext cx="438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红军不怕远征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7086600" y="5562720"/>
            <a:ext cx="5335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幼圆"/>
              </a:rPr>
              <a:t>中   央</a:t>
            </a:r>
            <a:endParaRPr b="0" lang="en-US" sz="24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幼圆"/>
              <a:ea typeface="幼圆"/>
            </a:endParaRPr>
          </a:p>
        </p:txBody>
      </p:sp>
      <p:sp>
        <p:nvSpPr>
          <p:cNvPr id="281" name=""/>
          <p:cNvSpPr/>
          <p:nvPr/>
        </p:nvSpPr>
        <p:spPr>
          <a:xfrm>
            <a:off x="6858000" y="5638680"/>
            <a:ext cx="152280" cy="228600"/>
          </a:xfrm>
          <a:prstGeom prst="triangle">
            <a:avLst>
              <a:gd name="adj" fmla="val 6333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7010280" y="5867280"/>
            <a:ext cx="30492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于都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7620120" y="5867280"/>
            <a:ext cx="30456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瑞金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84" name=""/>
          <p:cNvSpPr/>
          <p:nvPr/>
        </p:nvSpPr>
        <p:spPr>
          <a:xfrm>
            <a:off x="7391520" y="6019920"/>
            <a:ext cx="199800" cy="152280"/>
          </a:xfrm>
          <a:prstGeom prst="star5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未知"/>
          <p:cNvSpPr/>
          <p:nvPr/>
        </p:nvSpPr>
        <p:spPr>
          <a:xfrm>
            <a:off x="3257640" y="4819680"/>
            <a:ext cx="617400" cy="576360"/>
          </a:xfrm>
          <a:custGeom>
            <a:avLst/>
            <a:gdLst/>
            <a:ahLst/>
            <a:rect l="l" t="t" r="r" b="b"/>
            <a:pathLst>
              <a:path w="389" h="363">
                <a:moveTo>
                  <a:pt x="156" y="0"/>
                </a:moveTo>
                <a:cubicBezTo>
                  <a:pt x="164" y="12"/>
                  <a:pt x="174" y="23"/>
                  <a:pt x="180" y="36"/>
                </a:cubicBezTo>
                <a:cubicBezTo>
                  <a:pt x="186" y="51"/>
                  <a:pt x="182" y="71"/>
                  <a:pt x="192" y="84"/>
                </a:cubicBezTo>
                <a:cubicBezTo>
                  <a:pt x="200" y="94"/>
                  <a:pt x="216" y="92"/>
                  <a:pt x="228" y="96"/>
                </a:cubicBezTo>
                <a:cubicBezTo>
                  <a:pt x="236" y="108"/>
                  <a:pt x="247" y="118"/>
                  <a:pt x="252" y="132"/>
                </a:cubicBezTo>
                <a:cubicBezTo>
                  <a:pt x="259" y="151"/>
                  <a:pt x="253" y="175"/>
                  <a:pt x="264" y="192"/>
                </a:cubicBezTo>
                <a:cubicBezTo>
                  <a:pt x="271" y="203"/>
                  <a:pt x="289" y="198"/>
                  <a:pt x="300" y="204"/>
                </a:cubicBezTo>
                <a:cubicBezTo>
                  <a:pt x="325" y="218"/>
                  <a:pt x="372" y="252"/>
                  <a:pt x="372" y="252"/>
                </a:cubicBezTo>
                <a:cubicBezTo>
                  <a:pt x="376" y="264"/>
                  <a:pt x="389" y="276"/>
                  <a:pt x="384" y="288"/>
                </a:cubicBezTo>
                <a:cubicBezTo>
                  <a:pt x="378" y="302"/>
                  <a:pt x="326" y="322"/>
                  <a:pt x="312" y="324"/>
                </a:cubicBezTo>
                <a:cubicBezTo>
                  <a:pt x="264" y="330"/>
                  <a:pt x="216" y="332"/>
                  <a:pt x="168" y="336"/>
                </a:cubicBezTo>
                <a:cubicBezTo>
                  <a:pt x="129" y="349"/>
                  <a:pt x="107" y="363"/>
                  <a:pt x="60" y="336"/>
                </a:cubicBezTo>
                <a:cubicBezTo>
                  <a:pt x="49" y="330"/>
                  <a:pt x="57" y="309"/>
                  <a:pt x="48" y="300"/>
                </a:cubicBezTo>
                <a:cubicBezTo>
                  <a:pt x="35" y="287"/>
                  <a:pt x="16" y="288"/>
                  <a:pt x="0" y="288"/>
                </a:cubicBezTo>
              </a:path>
            </a:pathLst>
          </a:custGeom>
          <a:noFill/>
          <a:ln w="255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5181480"/>
            <a:ext cx="152280" cy="152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5238000">
            <a:off x="6283080" y="5373720"/>
            <a:ext cx="309600" cy="1751040"/>
          </a:xfrm>
          <a:prstGeom prst="downArrow">
            <a:avLst>
              <a:gd name="adj1" fmla="val 62287"/>
              <a:gd name="adj2" fmla="val 152026"/>
            </a:avLst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800600" y="1143000"/>
            <a:ext cx="15228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495680" y="1371600"/>
            <a:ext cx="7621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solidFill>
                    <a:srgbClr val="000000"/>
                  </a:solidFill>
                </a:ln>
                <a:solidFill>
                  <a:srgbClr val="000000"/>
                </a:solidFill>
                <a:latin typeface="宋体"/>
              </a:rPr>
              <a:t>吴起镇</a:t>
            </a:r>
            <a:endParaRPr b="0" lang="en-US" sz="2400" spc="-1" strike="noStrike">
              <a:ln w="0">
                <a:solidFill>
                  <a:srgbClr val="000000"/>
                </a:solidFill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90" name=""/>
          <p:cNvSpPr/>
          <p:nvPr/>
        </p:nvSpPr>
        <p:spPr>
          <a:xfrm>
            <a:off x="3124080" y="1447920"/>
            <a:ext cx="15264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2819520" y="1600200"/>
            <a:ext cx="4572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solidFill>
                    <a:srgbClr val="000000"/>
                  </a:solidFill>
                </a:ln>
                <a:solidFill>
                  <a:srgbClr val="000000"/>
                </a:solidFill>
                <a:latin typeface="宋体"/>
              </a:rPr>
              <a:t>会宁</a:t>
            </a:r>
            <a:endParaRPr b="0" lang="en-US" sz="2400" spc="-1" strike="noStrike">
              <a:ln w="0">
                <a:solidFill>
                  <a:srgbClr val="000000"/>
                </a:solidFill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92" name=""/>
          <p:cNvSpPr/>
          <p:nvPr/>
        </p:nvSpPr>
        <p:spPr>
          <a:xfrm>
            <a:off x="5257800" y="5105520"/>
            <a:ext cx="1066680" cy="380880"/>
          </a:xfrm>
          <a:prstGeom prst="wedgeRectCallout">
            <a:avLst>
              <a:gd name="adj1" fmla="val -19495"/>
              <a:gd name="adj2" fmla="val 215833"/>
            </a:avLst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3300"/>
                </a:solidFill>
                <a:latin typeface="黑体"/>
                <a:ea typeface="黑体"/>
              </a:rPr>
              <a:t>突破湘江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696080" y="6324480"/>
            <a:ext cx="1447920" cy="533520"/>
          </a:xfrm>
          <a:prstGeom prst="wedgeRectCallout">
            <a:avLst>
              <a:gd name="adj1" fmla="val -60416"/>
              <a:gd name="adj2" fmla="val -92263"/>
            </a:avLst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黑体"/>
                <a:ea typeface="黑体"/>
              </a:rPr>
              <a:t>1934</a:t>
            </a:r>
            <a:r>
              <a:rPr b="0" lang="zh-CN" sz="1400" spc="-1" strike="noStrike">
                <a:solidFill>
                  <a:srgbClr val="ff3300"/>
                </a:solidFill>
                <a:latin typeface="黑体"/>
                <a:ea typeface="黑体"/>
              </a:rPr>
              <a:t>年</a:t>
            </a:r>
            <a:r>
              <a:rPr b="0" lang="en-US" sz="1400" spc="-1" strike="noStrike">
                <a:solidFill>
                  <a:srgbClr val="ff3300"/>
                </a:solidFill>
                <a:latin typeface="黑体"/>
                <a:ea typeface="黑体"/>
              </a:rPr>
              <a:t>10</a:t>
            </a:r>
            <a:r>
              <a:rPr b="0" lang="zh-CN" sz="1400" spc="-1" strike="noStrike">
                <a:solidFill>
                  <a:srgbClr val="ff3300"/>
                </a:solidFill>
                <a:latin typeface="黑体"/>
                <a:ea typeface="黑体"/>
              </a:rPr>
              <a:t>月中央红军开始长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81280" y="1295280"/>
            <a:ext cx="152640" cy="152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267080" y="838080"/>
            <a:ext cx="10670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solidFill>
                    <a:srgbClr val="ff0000"/>
                  </a:solidFill>
                </a:ln>
                <a:solidFill>
                  <a:srgbClr val="ff0000"/>
                </a:solidFill>
                <a:latin typeface="幼圆"/>
              </a:rPr>
              <a:t>陕甘宁</a:t>
            </a:r>
            <a:endParaRPr b="0" lang="en-US" sz="2400" spc="-1" strike="noStrike">
              <a:ln w="0">
                <a:solidFill>
                  <a:srgbClr val="ff0000"/>
                </a:solidFill>
              </a:ln>
              <a:solidFill>
                <a:srgbClr val="ff0000"/>
              </a:solidFill>
              <a:latin typeface="幼圆"/>
              <a:ea typeface="幼圆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429000" y="1447920"/>
            <a:ext cx="4572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solidFill>
                    <a:srgbClr val="000000"/>
                  </a:solidFill>
                </a:ln>
                <a:solidFill>
                  <a:srgbClr val="000000"/>
                </a:solidFill>
                <a:latin typeface="宋体"/>
              </a:rPr>
              <a:t>将台堡</a:t>
            </a:r>
            <a:endParaRPr b="0" lang="en-US" sz="2400" spc="-1" strike="noStrike">
              <a:ln w="0">
                <a:solidFill>
                  <a:srgbClr val="000000"/>
                </a:solidFill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3934440" y="5257800"/>
            <a:ext cx="3788280" cy="2714760"/>
            <a:chOff x="3934440" y="5257800"/>
            <a:chExt cx="3788280" cy="2714760"/>
          </a:xfrm>
        </p:grpSpPr>
        <p:grpSp>
          <p:nvGrpSpPr>
            <p:cNvPr id="298" name=""/>
            <p:cNvGrpSpPr/>
            <p:nvPr/>
          </p:nvGrpSpPr>
          <p:grpSpPr>
            <a:xfrm>
              <a:off x="3934440" y="5467320"/>
              <a:ext cx="3788280" cy="2505240"/>
              <a:chOff x="3934440" y="5467320"/>
              <a:chExt cx="3788280" cy="2505240"/>
            </a:xfrm>
          </p:grpSpPr>
          <p:grpSp>
            <p:nvGrpSpPr>
              <p:cNvPr id="299" name=""/>
              <p:cNvGrpSpPr/>
              <p:nvPr/>
            </p:nvGrpSpPr>
            <p:grpSpPr>
              <a:xfrm>
                <a:off x="3934440" y="5467320"/>
                <a:ext cx="3788280" cy="2505240"/>
                <a:chOff x="3934440" y="5467320"/>
                <a:chExt cx="3788280" cy="2505240"/>
              </a:xfrm>
            </p:grpSpPr>
            <p:grpSp>
              <p:nvGrpSpPr>
                <p:cNvPr id="300" name=""/>
                <p:cNvGrpSpPr/>
                <p:nvPr/>
              </p:nvGrpSpPr>
              <p:grpSpPr>
                <a:xfrm>
                  <a:off x="4484880" y="5525280"/>
                  <a:ext cx="3237840" cy="2447280"/>
                  <a:chOff x="4484880" y="5525280"/>
                  <a:chExt cx="3237840" cy="2447280"/>
                </a:xfrm>
              </p:grpSpPr>
              <p:sp>
                <p:nvSpPr>
                  <p:cNvPr id="301" name=""/>
                  <p:cNvSpPr/>
                  <p:nvPr/>
                </p:nvSpPr>
                <p:spPr>
                  <a:xfrm rot="4123800">
                    <a:off x="4989600" y="5444280"/>
                    <a:ext cx="1065960" cy="18126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318707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3187072"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 rot="1095600">
                    <a:off x="6148800" y="5983560"/>
                    <a:ext cx="1320840" cy="18277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355761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3557614"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 rot="3433800">
                    <a:off x="5582160" y="5788800"/>
                    <a:ext cx="1065960" cy="18126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5559" y="1357"/>
                        </a:moveTo>
                        <a:arcTo wR="10800" hR="10800" stAng="-7142001" swAng="492907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5559" y="1357"/>
                        </a:moveTo>
                        <a:arcTo wR="10800" hR="10800" stAng="-7142001" swAng="4929074"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04" name=""/>
                <p:cNvSpPr/>
                <p:nvPr/>
              </p:nvSpPr>
              <p:spPr>
                <a:xfrm rot="5247600">
                  <a:off x="4334760" y="5129280"/>
                  <a:ext cx="1065960" cy="182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318707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3187072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5" name=""/>
              <p:cNvSpPr/>
              <p:nvPr/>
            </p:nvSpPr>
            <p:spPr>
              <a:xfrm>
                <a:off x="4724280" y="6400440"/>
                <a:ext cx="1143000" cy="456840"/>
              </a:xfrm>
              <a:prstGeom prst="wedgeRectCallout">
                <a:avLst>
                  <a:gd name="adj1" fmla="val 93472"/>
                  <a:gd name="adj2" fmla="val -70138"/>
                </a:avLst>
              </a:prstGeom>
              <a:solidFill>
                <a:srgbClr val="ffffff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3300"/>
                    </a:solidFill>
                    <a:latin typeface="黑体"/>
                    <a:ea typeface="黑体"/>
                  </a:rPr>
                  <a:t>冲破四道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3300"/>
                    </a:solidFill>
                    <a:latin typeface="黑体"/>
                    <a:ea typeface="黑体"/>
                  </a:rPr>
                  <a:t>封锁线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5790960" y="5257800"/>
              <a:ext cx="990000" cy="838080"/>
              <a:chOff x="5790960" y="5257800"/>
              <a:chExt cx="990000" cy="838080"/>
            </a:xfrm>
          </p:grpSpPr>
          <p:sp>
            <p:nvSpPr>
              <p:cNvPr id="307" name=""/>
              <p:cNvSpPr txBox="1"/>
              <p:nvPr/>
            </p:nvSpPr>
            <p:spPr>
              <a:xfrm>
                <a:off x="6533640" y="5257800"/>
                <a:ext cx="247320" cy="152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Deflate">
                  <a:avLst>
                    <a:gd name="adj" fmla="val 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ln w="0">
                      <a:solidFill>
                        <a:srgbClr val="0000ff"/>
                      </a:solidFill>
                    </a:ln>
                    <a:solidFill>
                      <a:srgbClr val="0000ff"/>
                    </a:solidFill>
                    <a:latin typeface="宋体"/>
                  </a:rPr>
                  <a:t>湘</a:t>
                </a:r>
                <a:endParaRPr b="0" lang="en-US" sz="2400" spc="-1" strike="noStrike">
                  <a:ln w="0">
                    <a:solidFill>
                      <a:srgbClr val="0000ff"/>
                    </a:solidFill>
                  </a:ln>
                  <a:solidFill>
                    <a:srgbClr val="0000ff"/>
                  </a:solidFill>
                  <a:latin typeface="宋体"/>
                  <a:ea typeface="宋体"/>
                </a:endParaRPr>
              </a:p>
            </p:txBody>
          </p:sp>
          <p:sp>
            <p:nvSpPr>
              <p:cNvPr id="308" name=""/>
              <p:cNvSpPr txBox="1"/>
              <p:nvPr/>
            </p:nvSpPr>
            <p:spPr>
              <a:xfrm>
                <a:off x="5790960" y="5943600"/>
                <a:ext cx="247320" cy="152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Deflate">
                  <a:avLst>
                    <a:gd name="adj" fmla="val 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ln w="0">
                      <a:solidFill>
                        <a:srgbClr val="0000ff"/>
                      </a:solidFill>
                    </a:ln>
                    <a:solidFill>
                      <a:srgbClr val="0000ff"/>
                    </a:solidFill>
                    <a:latin typeface="宋体"/>
                  </a:rPr>
                  <a:t>江</a:t>
                </a:r>
                <a:endParaRPr b="0" lang="en-US" sz="2400" spc="-1" strike="noStrike">
                  <a:ln w="0">
                    <a:solidFill>
                      <a:srgbClr val="0000ff"/>
                    </a:solidFill>
                  </a:ln>
                  <a:solidFill>
                    <a:srgbClr val="0000ff"/>
                  </a:solidFill>
                  <a:latin typeface="宋体"/>
                  <a:ea typeface="宋体"/>
                </a:endParaRPr>
              </a:p>
            </p:txBody>
          </p:sp>
        </p:grpSp>
      </p:grpSp>
      <p:grpSp>
        <p:nvGrpSpPr>
          <p:cNvPr id="309" name=""/>
          <p:cNvGrpSpPr/>
          <p:nvPr/>
        </p:nvGrpSpPr>
        <p:grpSpPr>
          <a:xfrm>
            <a:off x="3454560" y="4714920"/>
            <a:ext cx="1326240" cy="1020600"/>
            <a:chOff x="3454560" y="4714920"/>
            <a:chExt cx="1326240" cy="1020600"/>
          </a:xfrm>
        </p:grpSpPr>
        <p:sp>
          <p:nvSpPr>
            <p:cNvPr id="310" name=""/>
            <p:cNvSpPr/>
            <p:nvPr/>
          </p:nvSpPr>
          <p:spPr>
            <a:xfrm>
              <a:off x="3454560" y="4714920"/>
              <a:ext cx="128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00"/>
                  </a:solidFill>
                  <a:latin typeface="Times New Roman"/>
                </a:rPr>
                <a:t>遵 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1800000">
              <a:off x="4098240" y="5281560"/>
              <a:ext cx="647640" cy="312840"/>
            </a:xfrm>
            <a:prstGeom prst="leftArrow">
              <a:avLst>
                <a:gd name="adj1" fmla="val 50000"/>
                <a:gd name="adj2" fmla="val 51755"/>
              </a:avLst>
            </a:prstGeom>
            <a:solidFill>
              <a:srgbClr val="ff0066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4546440" y="4122720"/>
            <a:ext cx="1539720" cy="2253600"/>
            <a:chOff x="4546440" y="4122720"/>
            <a:chExt cx="1539720" cy="2253600"/>
          </a:xfrm>
        </p:grpSpPr>
        <p:grpSp>
          <p:nvGrpSpPr>
            <p:cNvPr id="313" name=""/>
            <p:cNvGrpSpPr/>
            <p:nvPr/>
          </p:nvGrpSpPr>
          <p:grpSpPr>
            <a:xfrm>
              <a:off x="4546440" y="4397400"/>
              <a:ext cx="1088640" cy="1978920"/>
              <a:chOff x="4546440" y="4397400"/>
              <a:chExt cx="1088640" cy="1978920"/>
            </a:xfrm>
          </p:grpSpPr>
          <p:sp>
            <p:nvSpPr>
              <p:cNvPr id="314" name=""/>
              <p:cNvSpPr/>
              <p:nvPr/>
            </p:nvSpPr>
            <p:spPr>
              <a:xfrm rot="2080200">
                <a:off x="4571640" y="5738760"/>
                <a:ext cx="1050840" cy="371520"/>
              </a:xfrm>
              <a:prstGeom prst="leftArrow">
                <a:avLst>
                  <a:gd name="adj1" fmla="val 50000"/>
                  <a:gd name="adj2" fmla="val 70712"/>
                </a:avLst>
              </a:prstGeom>
              <a:solidFill>
                <a:srgbClr val="ff0066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546440" y="4397400"/>
                <a:ext cx="546120" cy="12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vert="eaVer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ff"/>
                    </a:solidFill>
                    <a:latin typeface="Times New Roman"/>
                  </a:rPr>
                  <a:t>乌   江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6" name=""/>
            <p:cNvSpPr/>
            <p:nvPr/>
          </p:nvSpPr>
          <p:spPr>
            <a:xfrm>
              <a:off x="5019480" y="4122720"/>
              <a:ext cx="1066680" cy="380880"/>
            </a:xfrm>
            <a:prstGeom prst="wedgeRectCallout">
              <a:avLst>
                <a:gd name="adj1" fmla="val -60564"/>
                <a:gd name="adj2" fmla="val 325833"/>
              </a:avLst>
            </a:prstGeom>
            <a:solidFill>
              <a:srgbClr val="ffffff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渡过乌江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18" name=""/>
          <p:cNvGrpSpPr/>
          <p:nvPr/>
        </p:nvGrpSpPr>
        <p:grpSpPr>
          <a:xfrm>
            <a:off x="31680" y="1297080"/>
            <a:ext cx="4687920" cy="3701880"/>
            <a:chOff x="31680" y="1297080"/>
            <a:chExt cx="4687920" cy="3701880"/>
          </a:xfrm>
        </p:grpSpPr>
        <p:sp>
          <p:nvSpPr>
            <p:cNvPr id="319" name=""/>
            <p:cNvSpPr/>
            <p:nvPr/>
          </p:nvSpPr>
          <p:spPr>
            <a:xfrm>
              <a:off x="31680" y="2828880"/>
              <a:ext cx="23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</a:rPr>
                <a:t>遵义会议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2585520" y="1297080"/>
              <a:ext cx="2134080" cy="3701880"/>
              <a:chOff x="2585520" y="1297080"/>
              <a:chExt cx="2134080" cy="3701880"/>
            </a:xfrm>
          </p:grpSpPr>
          <p:sp>
            <p:nvSpPr>
              <p:cNvPr id="321" name=""/>
              <p:cNvSpPr/>
              <p:nvPr/>
            </p:nvSpPr>
            <p:spPr>
              <a:xfrm>
                <a:off x="2585880" y="1832040"/>
                <a:ext cx="21337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3300"/>
                    </a:solidFill>
                    <a:latin typeface="Times New Roman"/>
                  </a:rPr>
                  <a:t>地点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585880" y="4357800"/>
                <a:ext cx="152388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3300"/>
                    </a:solidFill>
                    <a:latin typeface="Times New Roman"/>
                  </a:rPr>
                  <a:t>意义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PlaceHolder 1"/>
              <p:cNvSpPr>
                <a:spLocks noGrp="1"/>
              </p:cNvSpPr>
              <p:nvPr>
                <p:ph/>
              </p:nvPr>
            </p:nvSpPr>
            <p:spPr>
              <a:xfrm>
                <a:off x="2585520" y="3097080"/>
                <a:ext cx="1306440" cy="609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rmAutofit/>
              </a:bodyPr>
              <a:p>
                <a:pPr indent="0">
                  <a:lnSpc>
                    <a:spcPct val="90000"/>
                  </a:lnSpc>
                  <a:spcBef>
                    <a:spcPts val="22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3300"/>
                    </a:solidFill>
                    <a:latin typeface="Times New Roman"/>
                  </a:rPr>
                  <a:t>内容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PlaceHolder 2"/>
              <p:cNvSpPr>
                <a:spLocks noGrp="1"/>
              </p:cNvSpPr>
              <p:nvPr>
                <p:ph type="title"/>
              </p:nvPr>
            </p:nvSpPr>
            <p:spPr>
              <a:xfrm>
                <a:off x="2606040" y="1297080"/>
                <a:ext cx="1722600" cy="735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22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3300"/>
                    </a:solidFill>
                    <a:latin typeface="Times New Roman"/>
                  </a:rPr>
                  <a:t>时间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>
              <a:off x="2224080" y="1447920"/>
              <a:ext cx="415800" cy="3403440"/>
            </a:xfrm>
            <a:custGeom>
              <a:avLst/>
              <a:gdLst>
                <a:gd name="textAreaLeft" fmla="*/ 265680 w 415800"/>
                <a:gd name="textAreaRight" fmla="*/ 416160 w 415800"/>
                <a:gd name="textAreaTop" fmla="*/ 88560 h 3403440"/>
                <a:gd name="textAreaBottom" fmla="*/ 3314880 h 340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49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3946680" y="1314360"/>
            <a:ext cx="262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1935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年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946680" y="18558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遵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3946680" y="2514600"/>
            <a:ext cx="3584520" cy="1523880"/>
            <a:chOff x="3946680" y="2514600"/>
            <a:chExt cx="3584520" cy="1523880"/>
          </a:xfrm>
        </p:grpSpPr>
        <p:sp>
          <p:nvSpPr>
            <p:cNvPr id="329" name=""/>
            <p:cNvSpPr/>
            <p:nvPr/>
          </p:nvSpPr>
          <p:spPr>
            <a:xfrm>
              <a:off x="4330800" y="2514600"/>
              <a:ext cx="3200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</a:rPr>
                <a:t>解决了……，取消了……，肯定了……。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946680" y="2730600"/>
              <a:ext cx="368280" cy="1307880"/>
            </a:xfrm>
            <a:custGeom>
              <a:avLst/>
              <a:gdLst>
                <a:gd name="textAreaLeft" fmla="*/ 235440 w 368280"/>
                <a:gd name="textAreaRight" fmla="*/ 368640 w 368280"/>
                <a:gd name="textAreaTop" fmla="*/ 33840 h 1307880"/>
                <a:gd name="textAreaBottom" fmla="*/ 1274040 h 130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49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0" y="5648400"/>
            <a:ext cx="9048600" cy="6426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为什么说遵义会议是我党历史上生死攸关的转折点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6515280" y="1197000"/>
            <a:ext cx="2304720" cy="101592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新中国成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1949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93840" y="1197000"/>
            <a:ext cx="2376360" cy="101592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中国共产党诞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1921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258920" y="3286080"/>
            <a:ext cx="2663640" cy="45972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出现了很多错误，如大革命的失败、第五次反“围剿”的失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1258920" y="1197000"/>
            <a:ext cx="4319640" cy="1726920"/>
            <a:chOff x="1258920" y="1197000"/>
            <a:chExt cx="4319640" cy="1726920"/>
          </a:xfrm>
        </p:grpSpPr>
        <p:sp>
          <p:nvSpPr>
            <p:cNvPr id="336" name=""/>
            <p:cNvSpPr/>
            <p:nvPr/>
          </p:nvSpPr>
          <p:spPr>
            <a:xfrm>
              <a:off x="3633840" y="1197000"/>
              <a:ext cx="1944720" cy="1015920"/>
            </a:xfrm>
            <a:prstGeom prst="rect">
              <a:avLst/>
            </a:prstGeom>
            <a:noFill/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遵义会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（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1935</a:t>
              </a:r>
              <a:r>
                <a:rPr b="1" lang="zh-CN" sz="24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年）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7" name=""/>
            <p:cNvGrpSpPr/>
            <p:nvPr/>
          </p:nvGrpSpPr>
          <p:grpSpPr>
            <a:xfrm>
              <a:off x="1258920" y="2276640"/>
              <a:ext cx="2808360" cy="647280"/>
              <a:chOff x="1258920" y="2276640"/>
              <a:chExt cx="2808360" cy="647280"/>
            </a:xfrm>
          </p:grpSpPr>
          <p:sp>
            <p:nvSpPr>
              <p:cNvPr id="338" name=""/>
              <p:cNvSpPr/>
              <p:nvPr/>
            </p:nvSpPr>
            <p:spPr>
              <a:xfrm>
                <a:off x="1258920" y="2276640"/>
                <a:ext cx="0" cy="647280"/>
              </a:xfrm>
              <a:prstGeom prst="line">
                <a:avLst/>
              </a:prstGeom>
              <a:ln w="507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258920" y="2923920"/>
                <a:ext cx="2808360" cy="0"/>
              </a:xfrm>
              <a:prstGeom prst="line">
                <a:avLst/>
              </a:prstGeom>
              <a:ln w="507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V="1">
                <a:off x="4067280" y="2276640"/>
                <a:ext cx="0" cy="647280"/>
              </a:xfrm>
              <a:prstGeom prst="line">
                <a:avLst/>
              </a:prstGeom>
              <a:ln w="50760">
                <a:solidFill>
                  <a:srgbClr val="00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>
              <a:off x="2254320" y="2274840"/>
              <a:ext cx="1088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cc"/>
                  </a:solidFill>
                  <a:latin typeface="华文中宋"/>
                  <a:ea typeface="华文中宋"/>
                </a:rPr>
                <a:t>14</a:t>
              </a:r>
              <a:r>
                <a:rPr b="1" lang="zh-CN" sz="3600" spc="-1" strike="noStrike">
                  <a:solidFill>
                    <a:srgbClr val="ff33cc"/>
                  </a:solidFill>
                  <a:latin typeface="华文中宋"/>
                  <a:ea typeface="华文中宋"/>
                </a:rPr>
                <a:t>年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5410080" y="3276720"/>
            <a:ext cx="1944720" cy="82548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由胜利走向胜利，建立新中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4978440" y="2286000"/>
            <a:ext cx="2808360" cy="649080"/>
            <a:chOff x="4978440" y="2286000"/>
            <a:chExt cx="2808360" cy="649080"/>
          </a:xfrm>
        </p:grpSpPr>
        <p:grpSp>
          <p:nvGrpSpPr>
            <p:cNvPr id="344" name=""/>
            <p:cNvGrpSpPr/>
            <p:nvPr/>
          </p:nvGrpSpPr>
          <p:grpSpPr>
            <a:xfrm>
              <a:off x="4978440" y="2287080"/>
              <a:ext cx="2808360" cy="648000"/>
              <a:chOff x="4978440" y="2287080"/>
              <a:chExt cx="2808360" cy="648000"/>
            </a:xfrm>
          </p:grpSpPr>
          <p:sp>
            <p:nvSpPr>
              <p:cNvPr id="345" name=""/>
              <p:cNvSpPr/>
              <p:nvPr/>
            </p:nvSpPr>
            <p:spPr>
              <a:xfrm>
                <a:off x="4978440" y="2287440"/>
                <a:ext cx="0" cy="647640"/>
              </a:xfrm>
              <a:prstGeom prst="line">
                <a:avLst/>
              </a:prstGeom>
              <a:ln w="507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978440" y="2935080"/>
                <a:ext cx="2808360" cy="0"/>
              </a:xfrm>
              <a:prstGeom prst="line">
                <a:avLst/>
              </a:prstGeom>
              <a:ln w="507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V="1">
                <a:off x="7786800" y="2287080"/>
                <a:ext cx="0" cy="647640"/>
              </a:xfrm>
              <a:prstGeom prst="line">
                <a:avLst/>
              </a:prstGeom>
              <a:ln w="50760">
                <a:solidFill>
                  <a:srgbClr val="00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8" name=""/>
            <p:cNvSpPr/>
            <p:nvPr/>
          </p:nvSpPr>
          <p:spPr>
            <a:xfrm>
              <a:off x="5828040" y="2286000"/>
              <a:ext cx="1088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cc"/>
                  </a:solidFill>
                  <a:latin typeface="华文中宋"/>
                  <a:ea typeface="华文中宋"/>
                </a:rPr>
                <a:t>14</a:t>
              </a:r>
              <a:r>
                <a:rPr b="1" lang="zh-CN" sz="3600" spc="-1" strike="noStrike">
                  <a:solidFill>
                    <a:srgbClr val="ff33cc"/>
                  </a:solidFill>
                  <a:latin typeface="华文中宋"/>
                  <a:ea typeface="华文中宋"/>
                </a:rPr>
                <a:t>年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4067280" y="2349360"/>
            <a:ext cx="722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转折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979640" y="5661000"/>
            <a:ext cx="1440000" cy="746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华文中宋"/>
              </a:rPr>
              <a:t>幼稚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3708360" y="5589720"/>
            <a:ext cx="3527280" cy="745920"/>
            <a:chOff x="3708360" y="5589720"/>
            <a:chExt cx="3527280" cy="745920"/>
          </a:xfrm>
        </p:grpSpPr>
        <p:sp>
          <p:nvSpPr>
            <p:cNvPr id="352" name=""/>
            <p:cNvSpPr txBox="1"/>
            <p:nvPr/>
          </p:nvSpPr>
          <p:spPr>
            <a:xfrm>
              <a:off x="5796000" y="5589720"/>
              <a:ext cx="1439640" cy="7459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>
                        <a:alpha val="75000"/>
                      </a:srgbClr>
                    </a:outerShdw>
                  </a:effectLst>
                  <a:latin typeface="华文中宋"/>
                </a:rPr>
                <a:t>成熟</a:t>
              </a:r>
              <a:endParaRPr b="1" lang="en-US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华文中宋"/>
                <a:ea typeface="华文中宋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708360" y="6092640"/>
              <a:ext cx="194328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8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117360" y="757080"/>
            <a:ext cx="14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原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17360" y="1538280"/>
            <a:ext cx="126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经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338120" y="798480"/>
            <a:ext cx="55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红军              反“围剿”失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38560" y="798480"/>
            <a:ext cx="157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第五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932360" y="586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1934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、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3214800" y="4024440"/>
            <a:ext cx="2233440" cy="1079280"/>
            <a:chOff x="3214800" y="4024440"/>
            <a:chExt cx="2233440" cy="1079280"/>
          </a:xfrm>
        </p:grpSpPr>
        <p:sp>
          <p:nvSpPr>
            <p:cNvPr id="361" name=""/>
            <p:cNvSpPr/>
            <p:nvPr/>
          </p:nvSpPr>
          <p:spPr>
            <a:xfrm>
              <a:off x="3214800" y="4563720"/>
              <a:ext cx="36036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540240" y="4024440"/>
              <a:ext cx="1908000" cy="10792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66"/>
                  </a:solidFill>
                  <a:latin typeface="Times New Roman"/>
                  <a:ea typeface="黑体"/>
                </a:rPr>
                <a:t>爬雪山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831960" y="3166920"/>
            <a:ext cx="2384280" cy="1936800"/>
            <a:chOff x="831960" y="3166920"/>
            <a:chExt cx="2384280" cy="1936800"/>
          </a:xfrm>
        </p:grpSpPr>
        <p:sp>
          <p:nvSpPr>
            <p:cNvPr id="364" name=""/>
            <p:cNvSpPr/>
            <p:nvPr/>
          </p:nvSpPr>
          <p:spPr>
            <a:xfrm>
              <a:off x="1308240" y="4024080"/>
              <a:ext cx="1908000" cy="10796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66"/>
                  </a:solidFill>
                  <a:latin typeface="Times New Roman"/>
                  <a:ea typeface="黑体"/>
                </a:rPr>
                <a:t>飞夺泸定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831960" y="3166920"/>
              <a:ext cx="395280" cy="1622520"/>
            </a:xfrm>
            <a:custGeom>
              <a:avLst/>
              <a:gdLst>
                <a:gd name="textAreaLeft" fmla="*/ 52920 w 395280"/>
                <a:gd name="textAreaRight" fmla="*/ 342360 w 395280"/>
                <a:gd name="textAreaTop" fmla="*/ 297720 h 1622520"/>
                <a:gd name="textAreaBottom" fmla="*/ 1153440 h 162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931" stAng="-5400000" swAng="5400000"/>
                  <a:lnTo>
                    <a:pt x="21600" y="11388"/>
                  </a:lnTo>
                  <a:arcTo wR="21600" hR="7931" stAng="0" swAng="2764861"/>
                  <a:lnTo>
                    <a:pt x="7200" y="21146"/>
                  </a:lnTo>
                  <a:lnTo>
                    <a:pt x="0" y="17590"/>
                  </a:lnTo>
                  <a:lnTo>
                    <a:pt x="7200" y="13125"/>
                  </a:lnTo>
                  <a:lnTo>
                    <a:pt x="7200" y="15407"/>
                  </a:lnTo>
                  <a:arcTo wR="21600" hR="7931" stAng="2764861" swAng="-2483614"/>
                  <a:lnTo>
                    <a:pt x="21081" y="9659"/>
                  </a:lnTo>
                  <a:arcTo wR="21600" hR="7931" stAng="-281247" swAng="-5118753"/>
                  <a:close/>
                </a:path>
                <a:path fill="darkenLess" w="21600" h="21600">
                  <a:moveTo>
                    <a:pt x="0" y="0"/>
                  </a:moveTo>
                  <a:arcTo wR="21600" hR="7931" stAng="-5400000" swAng="5400000"/>
                  <a:lnTo>
                    <a:pt x="21600" y="11388"/>
                  </a:lnTo>
                  <a:arcTo wR="21600" hR="7931" stAng="0" swAng="-281247"/>
                  <a:lnTo>
                    <a:pt x="21081" y="9659"/>
                  </a:lnTo>
                  <a:arcTo wR="21600" hR="7931" stAng="-281247" swAng="-5118753"/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3540240" y="2701800"/>
            <a:ext cx="2417400" cy="1079640"/>
            <a:chOff x="3540240" y="2701800"/>
            <a:chExt cx="2417400" cy="1079640"/>
          </a:xfrm>
        </p:grpSpPr>
        <p:sp>
          <p:nvSpPr>
            <p:cNvPr id="367" name=""/>
            <p:cNvSpPr/>
            <p:nvPr/>
          </p:nvSpPr>
          <p:spPr>
            <a:xfrm flipH="1">
              <a:off x="5381280" y="3244680"/>
              <a:ext cx="57636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540240" y="2701800"/>
              <a:ext cx="1908000" cy="10796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66"/>
                  </a:solidFill>
                  <a:latin typeface="Times New Roman"/>
                  <a:ea typeface="黑体"/>
                </a:rPr>
                <a:t>巧渡金沙江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1308240" y="2701800"/>
            <a:ext cx="2237760" cy="1079640"/>
            <a:chOff x="1308240" y="2701800"/>
            <a:chExt cx="2237760" cy="1079640"/>
          </a:xfrm>
        </p:grpSpPr>
        <p:sp>
          <p:nvSpPr>
            <p:cNvPr id="370" name=""/>
            <p:cNvSpPr/>
            <p:nvPr/>
          </p:nvSpPr>
          <p:spPr>
            <a:xfrm>
              <a:off x="1308240" y="2701800"/>
              <a:ext cx="1907640" cy="10796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66"/>
                  </a:solidFill>
                  <a:latin typeface="Times New Roman"/>
                  <a:ea typeface="黑体"/>
                </a:rPr>
                <a:t>强渡大渡河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3186000" y="3241440"/>
              <a:ext cx="36000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6919920" y="4024440"/>
            <a:ext cx="1947960" cy="1079280"/>
            <a:chOff x="6919920" y="4024440"/>
            <a:chExt cx="1947960" cy="1079280"/>
          </a:xfrm>
        </p:grpSpPr>
        <p:sp>
          <p:nvSpPr>
            <p:cNvPr id="373" name=""/>
            <p:cNvSpPr/>
            <p:nvPr/>
          </p:nvSpPr>
          <p:spPr>
            <a:xfrm>
              <a:off x="6919920" y="4563720"/>
              <a:ext cx="36036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236000" y="4024440"/>
              <a:ext cx="1631880" cy="10792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66"/>
                  </a:solidFill>
                  <a:latin typeface="Times New Roman"/>
                  <a:ea typeface="黑体"/>
                </a:rPr>
                <a:t>陕北吴起镇会师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1308240" y="1432080"/>
            <a:ext cx="1908000" cy="10792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黑体"/>
              </a:rPr>
              <a:t>中央革命根据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5411880" y="1432080"/>
            <a:ext cx="1563120" cy="1079280"/>
            <a:chOff x="5411880" y="1432080"/>
            <a:chExt cx="1563120" cy="1079280"/>
          </a:xfrm>
        </p:grpSpPr>
        <p:sp>
          <p:nvSpPr>
            <p:cNvPr id="377" name=""/>
            <p:cNvSpPr/>
            <p:nvPr/>
          </p:nvSpPr>
          <p:spPr>
            <a:xfrm>
              <a:off x="5964120" y="1432080"/>
              <a:ext cx="1010880" cy="10792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66"/>
                  </a:solidFill>
                  <a:latin typeface="Times New Roman"/>
                  <a:ea typeface="黑体"/>
                </a:rPr>
                <a:t>突破湘江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411880" y="1971360"/>
              <a:ext cx="57600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6892920" y="1432080"/>
            <a:ext cx="1353960" cy="1079280"/>
            <a:chOff x="6892920" y="1432080"/>
            <a:chExt cx="1353960" cy="1079280"/>
          </a:xfrm>
        </p:grpSpPr>
        <p:sp>
          <p:nvSpPr>
            <p:cNvPr id="380" name=""/>
            <p:cNvSpPr/>
            <p:nvPr/>
          </p:nvSpPr>
          <p:spPr>
            <a:xfrm>
              <a:off x="6892920" y="1971360"/>
              <a:ext cx="36036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236000" y="1432080"/>
              <a:ext cx="1010880" cy="10792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66"/>
                  </a:solidFill>
                  <a:latin typeface="Times New Roman"/>
                  <a:ea typeface="黑体"/>
                </a:rPr>
                <a:t>渡过乌江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7236000" y="1800360"/>
            <a:ext cx="1457280" cy="1981080"/>
            <a:chOff x="7236000" y="1800360"/>
            <a:chExt cx="1457280" cy="1981080"/>
          </a:xfrm>
        </p:grpSpPr>
        <p:sp>
          <p:nvSpPr>
            <p:cNvPr id="383" name=""/>
            <p:cNvSpPr/>
            <p:nvPr/>
          </p:nvSpPr>
          <p:spPr>
            <a:xfrm>
              <a:off x="8298000" y="1800360"/>
              <a:ext cx="395280" cy="1622520"/>
            </a:xfrm>
            <a:custGeom>
              <a:avLst/>
              <a:gdLst>
                <a:gd name="textAreaLeft" fmla="*/ 52920 w 395280"/>
                <a:gd name="textAreaRight" fmla="*/ 342360 w 395280"/>
                <a:gd name="textAreaTop" fmla="*/ 297720 h 1622520"/>
                <a:gd name="textAreaBottom" fmla="*/ 1153440 h 162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931" stAng="-5400000" swAng="5400000"/>
                  <a:lnTo>
                    <a:pt x="21600" y="11388"/>
                  </a:lnTo>
                  <a:arcTo wR="21600" hR="7931" stAng="0" swAng="2764861"/>
                  <a:lnTo>
                    <a:pt x="7200" y="21146"/>
                  </a:lnTo>
                  <a:lnTo>
                    <a:pt x="0" y="17590"/>
                  </a:lnTo>
                  <a:lnTo>
                    <a:pt x="7200" y="13125"/>
                  </a:lnTo>
                  <a:lnTo>
                    <a:pt x="7200" y="15407"/>
                  </a:lnTo>
                  <a:arcTo wR="21600" hR="7931" stAng="2764861" swAng="-2483614"/>
                  <a:lnTo>
                    <a:pt x="21081" y="9659"/>
                  </a:lnTo>
                  <a:arcTo wR="21600" hR="7931" stAng="-281247" swAng="-5118753"/>
                  <a:close/>
                </a:path>
                <a:path fill="darkenLess" w="21600" h="21600">
                  <a:moveTo>
                    <a:pt x="0" y="0"/>
                  </a:moveTo>
                  <a:arcTo wR="21600" hR="7931" stAng="-5400000" swAng="5400000"/>
                  <a:lnTo>
                    <a:pt x="21600" y="11388"/>
                  </a:lnTo>
                  <a:arcTo wR="21600" hR="7931" stAng="0" swAng="-281247"/>
                  <a:lnTo>
                    <a:pt x="21081" y="9659"/>
                  </a:lnTo>
                  <a:arcTo wR="21600" hR="7931" stAng="-281247" swAng="-5118753"/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236000" y="2702160"/>
              <a:ext cx="1011240" cy="10792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66"/>
                  </a:solidFill>
                  <a:latin typeface="Times New Roman"/>
                  <a:ea typeface="黑体"/>
                </a:rPr>
                <a:t>解放遵义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3228840" y="1432080"/>
            <a:ext cx="2219400" cy="1079280"/>
            <a:chOff x="3228840" y="1432080"/>
            <a:chExt cx="2219400" cy="1079280"/>
          </a:xfrm>
        </p:grpSpPr>
        <p:sp>
          <p:nvSpPr>
            <p:cNvPr id="386" name=""/>
            <p:cNvSpPr/>
            <p:nvPr/>
          </p:nvSpPr>
          <p:spPr>
            <a:xfrm>
              <a:off x="3228840" y="1971360"/>
              <a:ext cx="36036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539880" y="1432080"/>
              <a:ext cx="1908360" cy="10792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66"/>
                  </a:solidFill>
                  <a:latin typeface="Times New Roman"/>
                  <a:ea typeface="黑体"/>
                </a:rPr>
                <a:t>突破四道封锁线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5443560" y="4024440"/>
            <a:ext cx="1531800" cy="1079280"/>
            <a:chOff x="5443560" y="4024440"/>
            <a:chExt cx="1531800" cy="1079280"/>
          </a:xfrm>
        </p:grpSpPr>
        <p:sp>
          <p:nvSpPr>
            <p:cNvPr id="389" name=""/>
            <p:cNvSpPr/>
            <p:nvPr/>
          </p:nvSpPr>
          <p:spPr>
            <a:xfrm>
              <a:off x="5443560" y="4551120"/>
              <a:ext cx="57636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964120" y="4024440"/>
              <a:ext cx="1011240" cy="10792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66"/>
                  </a:solidFill>
                  <a:latin typeface="Times New Roman"/>
                  <a:ea typeface="黑体"/>
                </a:rPr>
                <a:t>过草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5964120" y="2705040"/>
            <a:ext cx="1309320" cy="1079640"/>
            <a:chOff x="5964120" y="2705040"/>
            <a:chExt cx="1309320" cy="1079640"/>
          </a:xfrm>
        </p:grpSpPr>
        <p:sp>
          <p:nvSpPr>
            <p:cNvPr id="392" name=""/>
            <p:cNvSpPr/>
            <p:nvPr/>
          </p:nvSpPr>
          <p:spPr>
            <a:xfrm flipH="1">
              <a:off x="6913080" y="3244680"/>
              <a:ext cx="36036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964120" y="2705040"/>
              <a:ext cx="1011240" cy="10796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66"/>
                  </a:solidFill>
                  <a:latin typeface="Times New Roman"/>
                  <a:ea typeface="黑体"/>
                </a:rPr>
                <a:t>四渡赤水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7035840" y="5235480"/>
            <a:ext cx="1987560" cy="52056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  <a:ea typeface="黑体"/>
              </a:rPr>
              <a:t>1935</a:t>
            </a:r>
            <a:r>
              <a:rPr b="1" lang="zh-CN" sz="2800" spc="-1" strike="noStrike">
                <a:solidFill>
                  <a:srgbClr val="ffff66"/>
                </a:solidFill>
                <a:latin typeface="Times New Roman"/>
                <a:ea typeface="黑体"/>
              </a:rPr>
              <a:t>年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  <a:ea typeface="黑体"/>
              </a:rPr>
              <a:t>10</a:t>
            </a:r>
            <a:r>
              <a:rPr b="1" lang="zh-CN" sz="2800" spc="-1" strike="noStrike">
                <a:solidFill>
                  <a:srgbClr val="ffff66"/>
                </a:solidFill>
                <a:latin typeface="Times New Roman"/>
                <a:ea typeface="黑体"/>
              </a:rPr>
              <a:t>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209600" y="58680"/>
            <a:ext cx="438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红军不怕远征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97" name=""/>
          <p:cNvGrpSpPr/>
          <p:nvPr/>
        </p:nvGrpSpPr>
        <p:grpSpPr>
          <a:xfrm>
            <a:off x="38160" y="36360"/>
            <a:ext cx="5667480" cy="6724800"/>
            <a:chOff x="38160" y="36360"/>
            <a:chExt cx="5667480" cy="6724800"/>
          </a:xfrm>
        </p:grpSpPr>
        <p:pic>
          <p:nvPicPr>
            <p:cNvPr id="398" name="" descr=""/>
            <p:cNvPicPr/>
            <p:nvPr/>
          </p:nvPicPr>
          <p:blipFill>
            <a:blip r:embed="rId2"/>
            <a:stretch/>
          </p:blipFill>
          <p:spPr>
            <a:xfrm>
              <a:off x="61200" y="36360"/>
              <a:ext cx="5607000" cy="6161760"/>
            </a:xfrm>
            <a:prstGeom prst="rect">
              <a:avLst/>
            </a:prstGeom>
            <a:ln w="25560">
              <a:solidFill>
                <a:srgbClr val="003366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399" name=""/>
            <p:cNvSpPr/>
            <p:nvPr/>
          </p:nvSpPr>
          <p:spPr>
            <a:xfrm>
              <a:off x="38160" y="6240600"/>
              <a:ext cx="5667480" cy="5205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红 军 四 渡 赤 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未知"/>
          <p:cNvSpPr/>
          <p:nvPr/>
        </p:nvSpPr>
        <p:spPr>
          <a:xfrm>
            <a:off x="1166760" y="789120"/>
            <a:ext cx="1892520" cy="2270160"/>
          </a:xfrm>
          <a:custGeom>
            <a:avLst/>
            <a:gdLst/>
            <a:ahLst/>
            <a:rect l="l" t="t" r="r" b="b"/>
            <a:pathLst>
              <a:path w="778" h="823">
                <a:moveTo>
                  <a:pt x="454" y="0"/>
                </a:moveTo>
                <a:cubicBezTo>
                  <a:pt x="435" y="15"/>
                  <a:pt x="416" y="30"/>
                  <a:pt x="408" y="45"/>
                </a:cubicBezTo>
                <a:cubicBezTo>
                  <a:pt x="400" y="60"/>
                  <a:pt x="415" y="67"/>
                  <a:pt x="408" y="90"/>
                </a:cubicBezTo>
                <a:cubicBezTo>
                  <a:pt x="401" y="113"/>
                  <a:pt x="370" y="158"/>
                  <a:pt x="363" y="181"/>
                </a:cubicBezTo>
                <a:cubicBezTo>
                  <a:pt x="356" y="204"/>
                  <a:pt x="348" y="211"/>
                  <a:pt x="363" y="226"/>
                </a:cubicBezTo>
                <a:cubicBezTo>
                  <a:pt x="378" y="241"/>
                  <a:pt x="431" y="264"/>
                  <a:pt x="454" y="272"/>
                </a:cubicBezTo>
                <a:cubicBezTo>
                  <a:pt x="477" y="280"/>
                  <a:pt x="492" y="257"/>
                  <a:pt x="499" y="272"/>
                </a:cubicBezTo>
                <a:cubicBezTo>
                  <a:pt x="506" y="287"/>
                  <a:pt x="492" y="339"/>
                  <a:pt x="499" y="362"/>
                </a:cubicBezTo>
                <a:cubicBezTo>
                  <a:pt x="506" y="385"/>
                  <a:pt x="537" y="385"/>
                  <a:pt x="544" y="408"/>
                </a:cubicBezTo>
                <a:cubicBezTo>
                  <a:pt x="551" y="431"/>
                  <a:pt x="529" y="484"/>
                  <a:pt x="544" y="499"/>
                </a:cubicBezTo>
                <a:cubicBezTo>
                  <a:pt x="559" y="514"/>
                  <a:pt x="597" y="469"/>
                  <a:pt x="635" y="499"/>
                </a:cubicBezTo>
                <a:cubicBezTo>
                  <a:pt x="673" y="529"/>
                  <a:pt x="764" y="635"/>
                  <a:pt x="771" y="680"/>
                </a:cubicBezTo>
                <a:cubicBezTo>
                  <a:pt x="778" y="725"/>
                  <a:pt x="710" y="756"/>
                  <a:pt x="680" y="771"/>
                </a:cubicBezTo>
                <a:cubicBezTo>
                  <a:pt x="650" y="786"/>
                  <a:pt x="613" y="771"/>
                  <a:pt x="590" y="771"/>
                </a:cubicBezTo>
                <a:cubicBezTo>
                  <a:pt x="567" y="771"/>
                  <a:pt x="559" y="771"/>
                  <a:pt x="544" y="771"/>
                </a:cubicBezTo>
                <a:cubicBezTo>
                  <a:pt x="529" y="771"/>
                  <a:pt x="522" y="764"/>
                  <a:pt x="499" y="771"/>
                </a:cubicBezTo>
                <a:cubicBezTo>
                  <a:pt x="476" y="778"/>
                  <a:pt x="446" y="809"/>
                  <a:pt x="408" y="816"/>
                </a:cubicBezTo>
                <a:cubicBezTo>
                  <a:pt x="370" y="823"/>
                  <a:pt x="302" y="823"/>
                  <a:pt x="272" y="816"/>
                </a:cubicBezTo>
                <a:cubicBezTo>
                  <a:pt x="242" y="809"/>
                  <a:pt x="257" y="778"/>
                  <a:pt x="227" y="771"/>
                </a:cubicBezTo>
                <a:cubicBezTo>
                  <a:pt x="197" y="764"/>
                  <a:pt x="121" y="771"/>
                  <a:pt x="91" y="771"/>
                </a:cubicBezTo>
                <a:cubicBezTo>
                  <a:pt x="61" y="771"/>
                  <a:pt x="60" y="771"/>
                  <a:pt x="45" y="771"/>
                </a:cubicBezTo>
                <a:cubicBezTo>
                  <a:pt x="30" y="771"/>
                  <a:pt x="7" y="771"/>
                  <a:pt x="0" y="771"/>
                </a:cubicBezTo>
              </a:path>
            </a:pathLst>
          </a:custGeom>
          <a:noFill/>
          <a:ln w="7632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未知"/>
          <p:cNvSpPr/>
          <p:nvPr/>
        </p:nvSpPr>
        <p:spPr>
          <a:xfrm>
            <a:off x="784080" y="1100160"/>
            <a:ext cx="2806920" cy="1925640"/>
          </a:xfrm>
          <a:custGeom>
            <a:avLst/>
            <a:gdLst/>
            <a:ahLst/>
            <a:rect l="l" t="t" r="r" b="b"/>
            <a:pathLst>
              <a:path w="1300" h="597">
                <a:moveTo>
                  <a:pt x="1300" y="506"/>
                </a:moveTo>
                <a:cubicBezTo>
                  <a:pt x="1292" y="426"/>
                  <a:pt x="1285" y="347"/>
                  <a:pt x="1255" y="279"/>
                </a:cubicBezTo>
                <a:cubicBezTo>
                  <a:pt x="1225" y="211"/>
                  <a:pt x="1195" y="143"/>
                  <a:pt x="1119" y="98"/>
                </a:cubicBezTo>
                <a:cubicBezTo>
                  <a:pt x="1043" y="53"/>
                  <a:pt x="914" y="0"/>
                  <a:pt x="801" y="7"/>
                </a:cubicBezTo>
                <a:cubicBezTo>
                  <a:pt x="688" y="14"/>
                  <a:pt x="506" y="113"/>
                  <a:pt x="438" y="143"/>
                </a:cubicBezTo>
                <a:cubicBezTo>
                  <a:pt x="370" y="173"/>
                  <a:pt x="438" y="174"/>
                  <a:pt x="393" y="189"/>
                </a:cubicBezTo>
                <a:cubicBezTo>
                  <a:pt x="348" y="204"/>
                  <a:pt x="219" y="219"/>
                  <a:pt x="166" y="234"/>
                </a:cubicBezTo>
                <a:cubicBezTo>
                  <a:pt x="113" y="249"/>
                  <a:pt x="98" y="264"/>
                  <a:pt x="75" y="279"/>
                </a:cubicBezTo>
                <a:cubicBezTo>
                  <a:pt x="52" y="294"/>
                  <a:pt x="0" y="279"/>
                  <a:pt x="30" y="325"/>
                </a:cubicBezTo>
                <a:cubicBezTo>
                  <a:pt x="60" y="371"/>
                  <a:pt x="212" y="507"/>
                  <a:pt x="257" y="552"/>
                </a:cubicBezTo>
                <a:cubicBezTo>
                  <a:pt x="302" y="597"/>
                  <a:pt x="302" y="597"/>
                  <a:pt x="302" y="597"/>
                </a:cubicBezTo>
              </a:path>
            </a:pathLst>
          </a:custGeom>
          <a:noFill/>
          <a:ln w="177840">
            <a:solidFill>
              <a:srgbClr val="ff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未知"/>
          <p:cNvSpPr/>
          <p:nvPr/>
        </p:nvSpPr>
        <p:spPr>
          <a:xfrm>
            <a:off x="1638360" y="2038320"/>
            <a:ext cx="1698480" cy="1336680"/>
          </a:xfrm>
          <a:custGeom>
            <a:avLst/>
            <a:gdLst/>
            <a:ahLst/>
            <a:rect l="l" t="t" r="r" b="b"/>
            <a:pathLst>
              <a:path w="590" h="370">
                <a:moveTo>
                  <a:pt x="590" y="317"/>
                </a:moveTo>
                <a:cubicBezTo>
                  <a:pt x="551" y="343"/>
                  <a:pt x="513" y="370"/>
                  <a:pt x="453" y="362"/>
                </a:cubicBezTo>
                <a:cubicBezTo>
                  <a:pt x="393" y="354"/>
                  <a:pt x="303" y="332"/>
                  <a:pt x="227" y="272"/>
                </a:cubicBezTo>
                <a:cubicBezTo>
                  <a:pt x="151" y="212"/>
                  <a:pt x="38" y="45"/>
                  <a:pt x="0" y="0"/>
                </a:cubicBezTo>
              </a:path>
            </a:pathLst>
          </a:custGeom>
          <a:noFill/>
          <a:ln w="177840">
            <a:solidFill>
              <a:srgbClr val="d6009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未知"/>
          <p:cNvSpPr/>
          <p:nvPr/>
        </p:nvSpPr>
        <p:spPr>
          <a:xfrm>
            <a:off x="1824120" y="1852560"/>
            <a:ext cx="1500120" cy="2946600"/>
          </a:xfrm>
          <a:custGeom>
            <a:avLst/>
            <a:gdLst/>
            <a:ahLst/>
            <a:rect l="l" t="t" r="r" b="b"/>
            <a:pathLst>
              <a:path w="635" h="998">
                <a:moveTo>
                  <a:pt x="0" y="91"/>
                </a:moveTo>
                <a:cubicBezTo>
                  <a:pt x="60" y="45"/>
                  <a:pt x="121" y="0"/>
                  <a:pt x="181" y="0"/>
                </a:cubicBezTo>
                <a:cubicBezTo>
                  <a:pt x="241" y="0"/>
                  <a:pt x="318" y="31"/>
                  <a:pt x="363" y="91"/>
                </a:cubicBezTo>
                <a:cubicBezTo>
                  <a:pt x="408" y="151"/>
                  <a:pt x="446" y="288"/>
                  <a:pt x="453" y="363"/>
                </a:cubicBezTo>
                <a:cubicBezTo>
                  <a:pt x="460" y="438"/>
                  <a:pt x="400" y="461"/>
                  <a:pt x="408" y="544"/>
                </a:cubicBezTo>
                <a:cubicBezTo>
                  <a:pt x="416" y="627"/>
                  <a:pt x="461" y="787"/>
                  <a:pt x="499" y="862"/>
                </a:cubicBezTo>
                <a:cubicBezTo>
                  <a:pt x="537" y="937"/>
                  <a:pt x="586" y="967"/>
                  <a:pt x="635" y="998"/>
                </a:cubicBezTo>
              </a:path>
            </a:pathLst>
          </a:custGeom>
          <a:noFill/>
          <a:ln w="177840">
            <a:solidFill>
              <a:srgbClr val="99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未知"/>
          <p:cNvSpPr/>
          <p:nvPr/>
        </p:nvSpPr>
        <p:spPr>
          <a:xfrm>
            <a:off x="1595520" y="2082960"/>
            <a:ext cx="1803240" cy="917280"/>
          </a:xfrm>
          <a:custGeom>
            <a:avLst/>
            <a:gdLst/>
            <a:ahLst/>
            <a:rect l="l" t="t" r="r" b="b"/>
            <a:pathLst>
              <a:path w="726" h="325">
                <a:moveTo>
                  <a:pt x="0" y="235"/>
                </a:moveTo>
                <a:cubicBezTo>
                  <a:pt x="61" y="227"/>
                  <a:pt x="122" y="219"/>
                  <a:pt x="182" y="189"/>
                </a:cubicBezTo>
                <a:cubicBezTo>
                  <a:pt x="242" y="159"/>
                  <a:pt x="310" y="83"/>
                  <a:pt x="363" y="53"/>
                </a:cubicBezTo>
                <a:cubicBezTo>
                  <a:pt x="416" y="23"/>
                  <a:pt x="469" y="15"/>
                  <a:pt x="499" y="8"/>
                </a:cubicBezTo>
                <a:cubicBezTo>
                  <a:pt x="529" y="1"/>
                  <a:pt x="521" y="1"/>
                  <a:pt x="544" y="8"/>
                </a:cubicBezTo>
                <a:cubicBezTo>
                  <a:pt x="567" y="15"/>
                  <a:pt x="605" y="0"/>
                  <a:pt x="635" y="53"/>
                </a:cubicBezTo>
                <a:cubicBezTo>
                  <a:pt x="665" y="106"/>
                  <a:pt x="695" y="215"/>
                  <a:pt x="726" y="325"/>
                </a:cubicBezTo>
              </a:path>
            </a:pathLst>
          </a:custGeom>
          <a:noFill/>
          <a:ln w="177840">
            <a:solidFill>
              <a:srgbClr val="ff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2270160" y="912960"/>
            <a:ext cx="1213920" cy="1875960"/>
            <a:chOff x="2270160" y="912960"/>
            <a:chExt cx="1213920" cy="1875960"/>
          </a:xfrm>
        </p:grpSpPr>
        <p:sp>
          <p:nvSpPr>
            <p:cNvPr id="406" name=""/>
            <p:cNvSpPr txBox="1"/>
            <p:nvPr/>
          </p:nvSpPr>
          <p:spPr>
            <a:xfrm rot="5400000">
              <a:off x="2569680" y="1577520"/>
              <a:ext cx="465480" cy="396360"/>
            </a:xfrm>
            <a:prstGeom prst="rect">
              <a:avLst/>
            </a:prstGeom>
          </p:spPr>
          <p:txBody>
            <a:bodyPr wrap="none" lIns="90000" rIns="90000" tIns="46800" bIns="46800" anchor="ctr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ff00"/>
                  </a:solidFill>
                  <a:latin typeface="黑体"/>
                </a:rPr>
                <a:t>水</a:t>
              </a:r>
              <a:endParaRPr b="1" lang="en-US" sz="2000" spc="-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ff00"/>
                </a:solidFill>
                <a:latin typeface="黑体"/>
                <a:ea typeface="黑体"/>
              </a:endParaRPr>
            </a:p>
          </p:txBody>
        </p:sp>
        <p:sp>
          <p:nvSpPr>
            <p:cNvPr id="407" name=""/>
            <p:cNvSpPr txBox="1"/>
            <p:nvPr/>
          </p:nvSpPr>
          <p:spPr>
            <a:xfrm rot="5400000">
              <a:off x="3052080" y="2356920"/>
              <a:ext cx="465840" cy="398160"/>
            </a:xfrm>
            <a:prstGeom prst="rect">
              <a:avLst/>
            </a:prstGeom>
          </p:spPr>
          <p:txBody>
            <a:bodyPr wrap="none" lIns="90000" rIns="90000" tIns="46800" bIns="46800" anchor="ctr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ff00"/>
                  </a:solidFill>
                  <a:latin typeface="黑体"/>
                </a:rPr>
                <a:t>河</a:t>
              </a:r>
              <a:endParaRPr b="1" lang="en-US" sz="2000" spc="-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ff00"/>
                </a:solidFill>
                <a:latin typeface="黑体"/>
                <a:ea typeface="黑体"/>
              </a:endParaRPr>
            </a:p>
          </p:txBody>
        </p:sp>
        <p:sp>
          <p:nvSpPr>
            <p:cNvPr id="408" name=""/>
            <p:cNvSpPr txBox="1"/>
            <p:nvPr/>
          </p:nvSpPr>
          <p:spPr>
            <a:xfrm rot="5400000">
              <a:off x="2235600" y="947520"/>
              <a:ext cx="465840" cy="396720"/>
            </a:xfrm>
            <a:prstGeom prst="rect">
              <a:avLst/>
            </a:prstGeom>
          </p:spPr>
          <p:txBody>
            <a:bodyPr wrap="none" lIns="90000" rIns="90000" tIns="46800" bIns="46800" anchor="ctr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ff00"/>
                  </a:solidFill>
                  <a:latin typeface="黑体"/>
                </a:rPr>
                <a:t>赤</a:t>
              </a:r>
              <a:endParaRPr b="1" lang="en-US" sz="2000" spc="-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ff00"/>
                </a:solidFill>
                <a:latin typeface="黑体"/>
                <a:ea typeface="黑体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5688000" y="792000"/>
            <a:ext cx="356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一渡赤水摆脱追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699160" y="2021040"/>
            <a:ext cx="36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二渡赤水再占遵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735520" y="3160800"/>
            <a:ext cx="365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三渡赤水调敌西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3016080" y="2881440"/>
            <a:ext cx="1244520" cy="629640"/>
            <a:chOff x="3016080" y="2881440"/>
            <a:chExt cx="1244520" cy="629640"/>
          </a:xfrm>
        </p:grpSpPr>
        <p:sp>
          <p:nvSpPr>
            <p:cNvPr id="413" name=""/>
            <p:cNvSpPr txBox="1"/>
            <p:nvPr/>
          </p:nvSpPr>
          <p:spPr>
            <a:xfrm>
              <a:off x="3487680" y="2965320"/>
              <a:ext cx="772920" cy="5457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遵义</a:t>
              </a:r>
              <a:endParaRPr b="1" lang="en-US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pic>
          <p:nvPicPr>
            <p:cNvPr id="414" name="" descr="点击放大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016080" y="2881440"/>
              <a:ext cx="658800" cy="595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未知"/>
          <p:cNvSpPr/>
          <p:nvPr/>
        </p:nvSpPr>
        <p:spPr>
          <a:xfrm>
            <a:off x="228600" y="3886200"/>
            <a:ext cx="3124080" cy="1219320"/>
          </a:xfrm>
          <a:custGeom>
            <a:avLst/>
            <a:gdLst/>
            <a:ahLst/>
            <a:rect l="l" t="t" r="r" b="b"/>
            <a:pathLst>
              <a:path w="1968" h="768">
                <a:moveTo>
                  <a:pt x="1968" y="768"/>
                </a:moveTo>
                <a:cubicBezTo>
                  <a:pt x="1800" y="736"/>
                  <a:pt x="1632" y="704"/>
                  <a:pt x="1536" y="672"/>
                </a:cubicBezTo>
                <a:cubicBezTo>
                  <a:pt x="1440" y="640"/>
                  <a:pt x="1432" y="632"/>
                  <a:pt x="1392" y="576"/>
                </a:cubicBezTo>
                <a:cubicBezTo>
                  <a:pt x="1352" y="520"/>
                  <a:pt x="1320" y="376"/>
                  <a:pt x="1296" y="336"/>
                </a:cubicBezTo>
                <a:cubicBezTo>
                  <a:pt x="1272" y="296"/>
                  <a:pt x="1280" y="344"/>
                  <a:pt x="1248" y="336"/>
                </a:cubicBezTo>
                <a:cubicBezTo>
                  <a:pt x="1216" y="328"/>
                  <a:pt x="1128" y="320"/>
                  <a:pt x="1104" y="288"/>
                </a:cubicBezTo>
                <a:cubicBezTo>
                  <a:pt x="1080" y="256"/>
                  <a:pt x="1120" y="184"/>
                  <a:pt x="1104" y="144"/>
                </a:cubicBezTo>
                <a:cubicBezTo>
                  <a:pt x="1088" y="104"/>
                  <a:pt x="1080" y="64"/>
                  <a:pt x="1008" y="48"/>
                </a:cubicBezTo>
                <a:cubicBezTo>
                  <a:pt x="936" y="32"/>
                  <a:pt x="776" y="56"/>
                  <a:pt x="672" y="48"/>
                </a:cubicBezTo>
                <a:cubicBezTo>
                  <a:pt x="568" y="40"/>
                  <a:pt x="496" y="0"/>
                  <a:pt x="384" y="0"/>
                </a:cubicBezTo>
                <a:cubicBezTo>
                  <a:pt x="272" y="0"/>
                  <a:pt x="136" y="24"/>
                  <a:pt x="0" y="48"/>
                </a:cubicBezTo>
              </a:path>
            </a:pathLst>
          </a:custGeom>
          <a:noFill/>
          <a:ln w="1778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3124080" y="4334040"/>
            <a:ext cx="6099120" cy="1228680"/>
            <a:chOff x="3124080" y="4334040"/>
            <a:chExt cx="6099120" cy="1228680"/>
          </a:xfrm>
        </p:grpSpPr>
        <p:sp>
          <p:nvSpPr>
            <p:cNvPr id="417" name=""/>
            <p:cNvSpPr/>
            <p:nvPr/>
          </p:nvSpPr>
          <p:spPr>
            <a:xfrm>
              <a:off x="5681520" y="4334040"/>
              <a:ext cx="354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ff"/>
                  </a:solidFill>
                  <a:latin typeface="Times New Roman"/>
                </a:rPr>
                <a:t>四渡赤水佯攻贵阳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未知"/>
            <p:cNvSpPr/>
            <p:nvPr/>
          </p:nvSpPr>
          <p:spPr>
            <a:xfrm>
              <a:off x="3124080" y="4940640"/>
              <a:ext cx="431640" cy="622080"/>
            </a:xfrm>
            <a:custGeom>
              <a:avLst/>
              <a:gdLst/>
              <a:ahLst/>
              <a:rect l="l" t="t" r="r" b="b"/>
              <a:pathLst>
                <a:path w="272" h="392">
                  <a:moveTo>
                    <a:pt x="192" y="56"/>
                  </a:moveTo>
                  <a:cubicBezTo>
                    <a:pt x="232" y="28"/>
                    <a:pt x="272" y="0"/>
                    <a:pt x="240" y="56"/>
                  </a:cubicBezTo>
                  <a:cubicBezTo>
                    <a:pt x="208" y="112"/>
                    <a:pt x="40" y="336"/>
                    <a:pt x="0" y="392"/>
                  </a:cubicBezTo>
                </a:path>
              </a:pathLst>
            </a:custGeom>
            <a:noFill/>
            <a:ln w="63360">
              <a:solidFill>
                <a:srgbClr val="ff33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5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8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"/>
          <p:cNvGrpSpPr/>
          <p:nvPr/>
        </p:nvGrpSpPr>
        <p:grpSpPr>
          <a:xfrm>
            <a:off x="2073240" y="3727440"/>
            <a:ext cx="2095560" cy="3106800"/>
            <a:chOff x="2073240" y="3727440"/>
            <a:chExt cx="2095560" cy="3106800"/>
          </a:xfrm>
        </p:grpSpPr>
        <p:sp>
          <p:nvSpPr>
            <p:cNvPr id="420" name=""/>
            <p:cNvSpPr/>
            <p:nvPr/>
          </p:nvSpPr>
          <p:spPr>
            <a:xfrm>
              <a:off x="2073240" y="6453000"/>
              <a:ext cx="1219320" cy="381240"/>
            </a:xfrm>
            <a:prstGeom prst="wedgeRectCallout">
              <a:avLst>
                <a:gd name="adj1" fmla="val -15754"/>
                <a:gd name="adj2" fmla="val -230416"/>
              </a:avLst>
            </a:prstGeom>
            <a:solidFill>
              <a:srgbClr val="ffffff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巧渡金沙江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102120" y="3727440"/>
              <a:ext cx="1066680" cy="380880"/>
            </a:xfrm>
            <a:prstGeom prst="wedgeRectCallout">
              <a:avLst>
                <a:gd name="adj1" fmla="val -19495"/>
                <a:gd name="adj2" fmla="val 215833"/>
              </a:avLst>
            </a:prstGeom>
            <a:solidFill>
              <a:srgbClr val="ffffff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四渡赤水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3164760" y="4052880"/>
            <a:ext cx="1006560" cy="1766880"/>
            <a:chOff x="3164760" y="4052880"/>
            <a:chExt cx="1006560" cy="1766880"/>
          </a:xfrm>
        </p:grpSpPr>
        <p:grpSp>
          <p:nvGrpSpPr>
            <p:cNvPr id="423" name=""/>
            <p:cNvGrpSpPr/>
            <p:nvPr/>
          </p:nvGrpSpPr>
          <p:grpSpPr>
            <a:xfrm>
              <a:off x="3164760" y="4052880"/>
              <a:ext cx="1006560" cy="1423080"/>
              <a:chOff x="3164760" y="4052880"/>
              <a:chExt cx="1006560" cy="1423080"/>
            </a:xfrm>
          </p:grpSpPr>
          <p:sp>
            <p:nvSpPr>
              <p:cNvPr id="424" name=""/>
              <p:cNvSpPr/>
              <p:nvPr/>
            </p:nvSpPr>
            <p:spPr>
              <a:xfrm flipH="1" rot="18809400">
                <a:off x="3360600" y="4573440"/>
                <a:ext cx="614160" cy="804960"/>
              </a:xfrm>
              <a:prstGeom prst="uturnArrow">
                <a:avLst/>
              </a:prstGeom>
              <a:solidFill>
                <a:srgbClr val="ff0066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336840" y="4052880"/>
                <a:ext cx="549360" cy="116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ff"/>
                    </a:solidFill>
                    <a:latin typeface="Times New Roman"/>
                  </a:rPr>
                  <a:t>赤水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 rot="1855200">
              <a:off x="3593880" y="5052600"/>
              <a:ext cx="230040" cy="762120"/>
            </a:xfrm>
            <a:custGeom>
              <a:avLst/>
              <a:gdLst>
                <a:gd name="textAreaLeft" fmla="*/ 30600 w 230040"/>
                <a:gd name="textAreaRight" fmla="*/ 199440 w 230040"/>
                <a:gd name="textAreaTop" fmla="*/ 133200 h 762120"/>
                <a:gd name="textAreaBottom" fmla="*/ 5526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7" name=""/>
          <p:cNvSpPr txBox="1"/>
          <p:nvPr/>
        </p:nvSpPr>
        <p:spPr>
          <a:xfrm>
            <a:off x="7086600" y="5562720"/>
            <a:ext cx="5335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幼圆"/>
              </a:rPr>
              <a:t>中   央</a:t>
            </a:r>
            <a:endParaRPr b="0" lang="en-US" sz="24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幼圆"/>
              <a:ea typeface="幼圆"/>
            </a:endParaRPr>
          </a:p>
        </p:txBody>
      </p:sp>
      <p:sp>
        <p:nvSpPr>
          <p:cNvPr id="428" name=""/>
          <p:cNvSpPr/>
          <p:nvPr/>
        </p:nvSpPr>
        <p:spPr>
          <a:xfrm>
            <a:off x="6858000" y="5638680"/>
            <a:ext cx="152280" cy="228600"/>
          </a:xfrm>
          <a:prstGeom prst="triangle">
            <a:avLst>
              <a:gd name="adj" fmla="val 6333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7010280" y="5867280"/>
            <a:ext cx="30492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于都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7620120" y="5867280"/>
            <a:ext cx="30456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瑞金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31" name=""/>
          <p:cNvSpPr/>
          <p:nvPr/>
        </p:nvSpPr>
        <p:spPr>
          <a:xfrm>
            <a:off x="7391520" y="6019920"/>
            <a:ext cx="199800" cy="152280"/>
          </a:xfrm>
          <a:prstGeom prst="star5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962520" y="5181480"/>
            <a:ext cx="152280" cy="152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rot="5238000">
            <a:off x="6283080" y="5373720"/>
            <a:ext cx="309600" cy="1751040"/>
          </a:xfrm>
          <a:prstGeom prst="downArrow">
            <a:avLst>
              <a:gd name="adj1" fmla="val 62287"/>
              <a:gd name="adj2" fmla="val 152026"/>
            </a:avLst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800600" y="1143000"/>
            <a:ext cx="15228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495680" y="1371600"/>
            <a:ext cx="7621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solidFill>
                    <a:srgbClr val="000000"/>
                  </a:solidFill>
                </a:ln>
                <a:solidFill>
                  <a:srgbClr val="000000"/>
                </a:solidFill>
                <a:latin typeface="宋体"/>
              </a:rPr>
              <a:t>吴起镇</a:t>
            </a:r>
            <a:endParaRPr b="0" lang="en-US" sz="2400" spc="-1" strike="noStrike">
              <a:ln w="0">
                <a:solidFill>
                  <a:srgbClr val="000000"/>
                </a:solidFill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36" name=""/>
          <p:cNvSpPr/>
          <p:nvPr/>
        </p:nvSpPr>
        <p:spPr>
          <a:xfrm>
            <a:off x="3124080" y="1447920"/>
            <a:ext cx="15264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2819520" y="1600200"/>
            <a:ext cx="4572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solidFill>
                    <a:srgbClr val="000000"/>
                  </a:solidFill>
                </a:ln>
                <a:solidFill>
                  <a:srgbClr val="000000"/>
                </a:solidFill>
                <a:latin typeface="宋体"/>
              </a:rPr>
              <a:t>会宁</a:t>
            </a:r>
            <a:endParaRPr b="0" lang="en-US" sz="2400" spc="-1" strike="noStrike">
              <a:ln w="0">
                <a:solidFill>
                  <a:srgbClr val="000000"/>
                </a:solidFill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38" name=""/>
          <p:cNvSpPr/>
          <p:nvPr/>
        </p:nvSpPr>
        <p:spPr>
          <a:xfrm>
            <a:off x="5257800" y="5105520"/>
            <a:ext cx="1066680" cy="380880"/>
          </a:xfrm>
          <a:prstGeom prst="wedgeRectCallout">
            <a:avLst>
              <a:gd name="adj1" fmla="val -19495"/>
              <a:gd name="adj2" fmla="val 215833"/>
            </a:avLst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3300"/>
                </a:solidFill>
                <a:latin typeface="黑体"/>
                <a:ea typeface="黑体"/>
              </a:rPr>
              <a:t>突破湘江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696080" y="6324480"/>
            <a:ext cx="1447920" cy="533520"/>
          </a:xfrm>
          <a:prstGeom prst="wedgeRectCallout">
            <a:avLst>
              <a:gd name="adj1" fmla="val -60416"/>
              <a:gd name="adj2" fmla="val -92263"/>
            </a:avLst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黑体"/>
                <a:ea typeface="黑体"/>
              </a:rPr>
              <a:t>1934</a:t>
            </a:r>
            <a:r>
              <a:rPr b="0" lang="zh-CN" sz="1400" spc="-1" strike="noStrike">
                <a:solidFill>
                  <a:srgbClr val="ff3300"/>
                </a:solidFill>
                <a:latin typeface="黑体"/>
                <a:ea typeface="黑体"/>
              </a:rPr>
              <a:t>年</a:t>
            </a:r>
            <a:r>
              <a:rPr b="0" lang="en-US" sz="1400" spc="-1" strike="noStrike">
                <a:solidFill>
                  <a:srgbClr val="ff3300"/>
                </a:solidFill>
                <a:latin typeface="黑体"/>
                <a:ea typeface="黑体"/>
              </a:rPr>
              <a:t>10</a:t>
            </a:r>
            <a:r>
              <a:rPr b="0" lang="zh-CN" sz="1400" spc="-1" strike="noStrike">
                <a:solidFill>
                  <a:srgbClr val="ff3300"/>
                </a:solidFill>
                <a:latin typeface="黑体"/>
                <a:ea typeface="黑体"/>
              </a:rPr>
              <a:t>月中央红军开始长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581280" y="1295280"/>
            <a:ext cx="152640" cy="152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3429000" y="1447920"/>
            <a:ext cx="4572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solidFill>
                    <a:srgbClr val="000000"/>
                  </a:solidFill>
                </a:ln>
                <a:solidFill>
                  <a:srgbClr val="000000"/>
                </a:solidFill>
                <a:latin typeface="宋体"/>
              </a:rPr>
              <a:t>将台堡</a:t>
            </a:r>
            <a:endParaRPr b="0" lang="en-US" sz="2400" spc="-1" strike="noStrike">
              <a:ln w="0">
                <a:solidFill>
                  <a:srgbClr val="000000"/>
                </a:solidFill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3934440" y="5257800"/>
            <a:ext cx="3788280" cy="2714760"/>
            <a:chOff x="3934440" y="5257800"/>
            <a:chExt cx="3788280" cy="2714760"/>
          </a:xfrm>
        </p:grpSpPr>
        <p:grpSp>
          <p:nvGrpSpPr>
            <p:cNvPr id="443" name=""/>
            <p:cNvGrpSpPr/>
            <p:nvPr/>
          </p:nvGrpSpPr>
          <p:grpSpPr>
            <a:xfrm>
              <a:off x="3934440" y="5467320"/>
              <a:ext cx="3788280" cy="2505240"/>
              <a:chOff x="3934440" y="5467320"/>
              <a:chExt cx="3788280" cy="2505240"/>
            </a:xfrm>
          </p:grpSpPr>
          <p:grpSp>
            <p:nvGrpSpPr>
              <p:cNvPr id="444" name=""/>
              <p:cNvGrpSpPr/>
              <p:nvPr/>
            </p:nvGrpSpPr>
            <p:grpSpPr>
              <a:xfrm>
                <a:off x="3934440" y="5467320"/>
                <a:ext cx="3788280" cy="2505240"/>
                <a:chOff x="3934440" y="5467320"/>
                <a:chExt cx="3788280" cy="2505240"/>
              </a:xfrm>
            </p:grpSpPr>
            <p:grpSp>
              <p:nvGrpSpPr>
                <p:cNvPr id="445" name=""/>
                <p:cNvGrpSpPr/>
                <p:nvPr/>
              </p:nvGrpSpPr>
              <p:grpSpPr>
                <a:xfrm>
                  <a:off x="4484880" y="5525280"/>
                  <a:ext cx="3237840" cy="2447280"/>
                  <a:chOff x="4484880" y="5525280"/>
                  <a:chExt cx="3237840" cy="2447280"/>
                </a:xfrm>
              </p:grpSpPr>
              <p:sp>
                <p:nvSpPr>
                  <p:cNvPr id="446" name=""/>
                  <p:cNvSpPr/>
                  <p:nvPr/>
                </p:nvSpPr>
                <p:spPr>
                  <a:xfrm rot="4123800">
                    <a:off x="4989600" y="5444280"/>
                    <a:ext cx="1065960" cy="18126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318707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3187072"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 rot="1095600">
                    <a:off x="6148800" y="5983560"/>
                    <a:ext cx="1320840" cy="18277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355761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3557614"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 rot="3433800">
                    <a:off x="5582160" y="5788800"/>
                    <a:ext cx="1065960" cy="18126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5559" y="1357"/>
                        </a:moveTo>
                        <a:arcTo wR="10800" hR="10800" stAng="-7142001" swAng="492907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5559" y="1357"/>
                        </a:moveTo>
                        <a:arcTo wR="10800" hR="10800" stAng="-7142001" swAng="4929074"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9" name=""/>
                <p:cNvSpPr/>
                <p:nvPr/>
              </p:nvSpPr>
              <p:spPr>
                <a:xfrm rot="5247600">
                  <a:off x="4334760" y="5129280"/>
                  <a:ext cx="1065960" cy="182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318707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3187072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0" name=""/>
              <p:cNvSpPr/>
              <p:nvPr/>
            </p:nvSpPr>
            <p:spPr>
              <a:xfrm>
                <a:off x="4724280" y="6400440"/>
                <a:ext cx="1143000" cy="456840"/>
              </a:xfrm>
              <a:prstGeom prst="wedgeRectCallout">
                <a:avLst>
                  <a:gd name="adj1" fmla="val 93472"/>
                  <a:gd name="adj2" fmla="val -70138"/>
                </a:avLst>
              </a:prstGeom>
              <a:solidFill>
                <a:srgbClr val="ffffff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3300"/>
                    </a:solidFill>
                    <a:latin typeface="黑体"/>
                    <a:ea typeface="黑体"/>
                  </a:rPr>
                  <a:t>冲破四道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3300"/>
                    </a:solidFill>
                    <a:latin typeface="黑体"/>
                    <a:ea typeface="黑体"/>
                  </a:rPr>
                  <a:t>封锁线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5790960" y="5257800"/>
              <a:ext cx="990000" cy="838080"/>
              <a:chOff x="5790960" y="5257800"/>
              <a:chExt cx="990000" cy="838080"/>
            </a:xfrm>
          </p:grpSpPr>
          <p:sp>
            <p:nvSpPr>
              <p:cNvPr id="452" name=""/>
              <p:cNvSpPr txBox="1"/>
              <p:nvPr/>
            </p:nvSpPr>
            <p:spPr>
              <a:xfrm>
                <a:off x="6533640" y="5257800"/>
                <a:ext cx="247320" cy="152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Deflate">
                  <a:avLst>
                    <a:gd name="adj" fmla="val 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ln w="0">
                      <a:solidFill>
                        <a:srgbClr val="0000ff"/>
                      </a:solidFill>
                    </a:ln>
                    <a:solidFill>
                      <a:srgbClr val="0000ff"/>
                    </a:solidFill>
                    <a:latin typeface="宋体"/>
                  </a:rPr>
                  <a:t>湘</a:t>
                </a:r>
                <a:endParaRPr b="0" lang="en-US" sz="2400" spc="-1" strike="noStrike">
                  <a:ln w="0">
                    <a:solidFill>
                      <a:srgbClr val="0000ff"/>
                    </a:solidFill>
                  </a:ln>
                  <a:solidFill>
                    <a:srgbClr val="0000ff"/>
                  </a:solidFill>
                  <a:latin typeface="宋体"/>
                  <a:ea typeface="宋体"/>
                </a:endParaRPr>
              </a:p>
            </p:txBody>
          </p:sp>
          <p:sp>
            <p:nvSpPr>
              <p:cNvPr id="453" name=""/>
              <p:cNvSpPr txBox="1"/>
              <p:nvPr/>
            </p:nvSpPr>
            <p:spPr>
              <a:xfrm>
                <a:off x="5790960" y="5943600"/>
                <a:ext cx="247320" cy="152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Deflate">
                  <a:avLst>
                    <a:gd name="adj" fmla="val 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ln w="0">
                      <a:solidFill>
                        <a:srgbClr val="0000ff"/>
                      </a:solidFill>
                    </a:ln>
                    <a:solidFill>
                      <a:srgbClr val="0000ff"/>
                    </a:solidFill>
                    <a:latin typeface="宋体"/>
                  </a:rPr>
                  <a:t>江</a:t>
                </a:r>
                <a:endParaRPr b="0" lang="en-US" sz="2400" spc="-1" strike="noStrike">
                  <a:ln w="0">
                    <a:solidFill>
                      <a:srgbClr val="0000ff"/>
                    </a:solidFill>
                  </a:ln>
                  <a:solidFill>
                    <a:srgbClr val="0000ff"/>
                  </a:solidFill>
                  <a:latin typeface="宋体"/>
                  <a:ea typeface="宋体"/>
                </a:endParaRPr>
              </a:p>
            </p:txBody>
          </p:sp>
        </p:grpSp>
      </p:grpSp>
      <p:grpSp>
        <p:nvGrpSpPr>
          <p:cNvPr id="454" name=""/>
          <p:cNvGrpSpPr/>
          <p:nvPr/>
        </p:nvGrpSpPr>
        <p:grpSpPr>
          <a:xfrm>
            <a:off x="3454560" y="4714920"/>
            <a:ext cx="1326240" cy="1020600"/>
            <a:chOff x="3454560" y="4714920"/>
            <a:chExt cx="1326240" cy="1020600"/>
          </a:xfrm>
        </p:grpSpPr>
        <p:sp>
          <p:nvSpPr>
            <p:cNvPr id="455" name=""/>
            <p:cNvSpPr/>
            <p:nvPr/>
          </p:nvSpPr>
          <p:spPr>
            <a:xfrm>
              <a:off x="3454560" y="4714920"/>
              <a:ext cx="128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00"/>
                  </a:solidFill>
                  <a:latin typeface="Times New Roman"/>
                </a:rPr>
                <a:t>遵 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1800000">
              <a:off x="4098240" y="5281560"/>
              <a:ext cx="647640" cy="312840"/>
            </a:xfrm>
            <a:prstGeom prst="leftArrow">
              <a:avLst>
                <a:gd name="adj1" fmla="val 50000"/>
                <a:gd name="adj2" fmla="val 51755"/>
              </a:avLst>
            </a:prstGeom>
            <a:solidFill>
              <a:srgbClr val="ff0066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4546440" y="4122720"/>
            <a:ext cx="1539720" cy="2253600"/>
            <a:chOff x="4546440" y="4122720"/>
            <a:chExt cx="1539720" cy="2253600"/>
          </a:xfrm>
        </p:grpSpPr>
        <p:grpSp>
          <p:nvGrpSpPr>
            <p:cNvPr id="458" name=""/>
            <p:cNvGrpSpPr/>
            <p:nvPr/>
          </p:nvGrpSpPr>
          <p:grpSpPr>
            <a:xfrm>
              <a:off x="4546440" y="4397400"/>
              <a:ext cx="1088640" cy="1978920"/>
              <a:chOff x="4546440" y="4397400"/>
              <a:chExt cx="1088640" cy="1978920"/>
            </a:xfrm>
          </p:grpSpPr>
          <p:sp>
            <p:nvSpPr>
              <p:cNvPr id="459" name=""/>
              <p:cNvSpPr/>
              <p:nvPr/>
            </p:nvSpPr>
            <p:spPr>
              <a:xfrm rot="2080200">
                <a:off x="4571640" y="5738760"/>
                <a:ext cx="1050840" cy="371520"/>
              </a:xfrm>
              <a:prstGeom prst="leftArrow">
                <a:avLst>
                  <a:gd name="adj1" fmla="val 50000"/>
                  <a:gd name="adj2" fmla="val 70712"/>
                </a:avLst>
              </a:prstGeom>
              <a:solidFill>
                <a:srgbClr val="ff0066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546440" y="4397400"/>
                <a:ext cx="546120" cy="12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vert="eaVer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ff"/>
                    </a:solidFill>
                    <a:latin typeface="Times New Roman"/>
                  </a:rPr>
                  <a:t>乌   江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1" name=""/>
            <p:cNvSpPr/>
            <p:nvPr/>
          </p:nvSpPr>
          <p:spPr>
            <a:xfrm>
              <a:off x="5019480" y="4122720"/>
              <a:ext cx="1066680" cy="380880"/>
            </a:xfrm>
            <a:prstGeom prst="wedgeRectCallout">
              <a:avLst>
                <a:gd name="adj1" fmla="val -60564"/>
                <a:gd name="adj2" fmla="val 325833"/>
              </a:avLst>
            </a:prstGeom>
            <a:solidFill>
              <a:srgbClr val="ffffff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渡过乌江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2350080" y="4876920"/>
            <a:ext cx="1089000" cy="997920"/>
            <a:chOff x="2350080" y="4876920"/>
            <a:chExt cx="1089000" cy="997920"/>
          </a:xfrm>
        </p:grpSpPr>
        <p:sp>
          <p:nvSpPr>
            <p:cNvPr id="463" name=""/>
            <p:cNvSpPr/>
            <p:nvPr/>
          </p:nvSpPr>
          <p:spPr>
            <a:xfrm rot="21247800">
              <a:off x="2360160" y="5563800"/>
              <a:ext cx="1068480" cy="257040"/>
            </a:xfrm>
            <a:prstGeom prst="leftArrow">
              <a:avLst>
                <a:gd name="adj1" fmla="val 65593"/>
                <a:gd name="adj2" fmla="val 120568"/>
              </a:avLst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2590560" y="4876920"/>
              <a:ext cx="609480" cy="837360"/>
              <a:chOff x="2590560" y="4876920"/>
              <a:chExt cx="609480" cy="837360"/>
            </a:xfrm>
          </p:grpSpPr>
          <p:sp>
            <p:nvSpPr>
              <p:cNvPr id="465" name=""/>
              <p:cNvSpPr txBox="1"/>
              <p:nvPr/>
            </p:nvSpPr>
            <p:spPr>
              <a:xfrm>
                <a:off x="2997000" y="4876920"/>
                <a:ext cx="203040" cy="151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Deflate">
                  <a:avLst>
                    <a:gd name="adj" fmla="val 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ln w="0">
                      <a:solidFill>
                        <a:srgbClr val="0000ff"/>
                      </a:solidFill>
                    </a:ln>
                    <a:solidFill>
                      <a:srgbClr val="0000ff"/>
                    </a:solidFill>
                    <a:latin typeface="宋体"/>
                  </a:rPr>
                  <a:t>金</a:t>
                </a:r>
                <a:endParaRPr b="0" lang="en-US" sz="2400" spc="-1" strike="noStrike">
                  <a:ln w="0">
                    <a:solidFill>
                      <a:srgbClr val="0000ff"/>
                    </a:solidFill>
                  </a:ln>
                  <a:solidFill>
                    <a:srgbClr val="0000ff"/>
                  </a:solidFill>
                  <a:latin typeface="宋体"/>
                  <a:ea typeface="宋体"/>
                </a:endParaRPr>
              </a:p>
            </p:txBody>
          </p:sp>
          <p:sp>
            <p:nvSpPr>
              <p:cNvPr id="466" name=""/>
              <p:cNvSpPr txBox="1"/>
              <p:nvPr/>
            </p:nvSpPr>
            <p:spPr>
              <a:xfrm>
                <a:off x="2692080" y="5181480"/>
                <a:ext cx="203040" cy="151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Deflate">
                  <a:avLst>
                    <a:gd name="adj" fmla="val 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ln w="0">
                      <a:solidFill>
                        <a:srgbClr val="0000ff"/>
                      </a:solidFill>
                    </a:ln>
                    <a:solidFill>
                      <a:srgbClr val="0000ff"/>
                    </a:solidFill>
                    <a:latin typeface="宋体"/>
                  </a:rPr>
                  <a:t>沙</a:t>
                </a:r>
                <a:endParaRPr b="0" lang="en-US" sz="2400" spc="-1" strike="noStrike">
                  <a:ln w="0">
                    <a:solidFill>
                      <a:srgbClr val="0000ff"/>
                    </a:solidFill>
                  </a:ln>
                  <a:solidFill>
                    <a:srgbClr val="0000ff"/>
                  </a:solidFill>
                  <a:latin typeface="宋体"/>
                  <a:ea typeface="宋体"/>
                </a:endParaRPr>
              </a:p>
            </p:txBody>
          </p:sp>
          <p:sp>
            <p:nvSpPr>
              <p:cNvPr id="467" name=""/>
              <p:cNvSpPr txBox="1"/>
              <p:nvPr/>
            </p:nvSpPr>
            <p:spPr>
              <a:xfrm>
                <a:off x="2590560" y="5562360"/>
                <a:ext cx="203040" cy="151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Deflate">
                  <a:avLst>
                    <a:gd name="adj" fmla="val 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ln w="0">
                      <a:solidFill>
                        <a:srgbClr val="0000ff"/>
                      </a:solidFill>
                    </a:ln>
                    <a:solidFill>
                      <a:srgbClr val="0000ff"/>
                    </a:solidFill>
                    <a:latin typeface="宋体"/>
                  </a:rPr>
                  <a:t>江</a:t>
                </a:r>
                <a:endParaRPr b="0" lang="en-US" sz="2400" spc="-1" strike="noStrike">
                  <a:ln w="0">
                    <a:solidFill>
                      <a:srgbClr val="0000ff"/>
                    </a:solidFill>
                  </a:ln>
                  <a:solidFill>
                    <a:srgbClr val="0000ff"/>
                  </a:solidFill>
                  <a:latin typeface="宋体"/>
                  <a:ea typeface="宋体"/>
                </a:endParaRPr>
              </a:p>
            </p:txBody>
          </p:sp>
        </p:grpSp>
      </p:grpSp>
    </p:spTree>
  </p:cSld>
  <p:transition>
    <p:blinds dir="vert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762120" y="2209680"/>
            <a:ext cx="5832360" cy="2160720"/>
          </a:xfrm>
          <a:prstGeom prst="bracePair">
            <a:avLst>
              <a:gd name="adj" fmla="val 8333"/>
            </a:avLst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2"/>
          <a:stretch/>
        </p:blipFill>
        <p:spPr>
          <a:xfrm>
            <a:off x="4356000" y="2205000"/>
            <a:ext cx="1008000" cy="21132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3"/>
          <a:stretch/>
        </p:blipFill>
        <p:spPr>
          <a:xfrm>
            <a:off x="4284720" y="2997360"/>
            <a:ext cx="1008000" cy="21096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4"/>
          <a:stretch/>
        </p:blipFill>
        <p:spPr>
          <a:xfrm flipH="1" rot="10856400">
            <a:off x="4284720" y="3789720"/>
            <a:ext cx="1008000" cy="21564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74" name=""/>
          <p:cNvGrpSpPr/>
          <p:nvPr/>
        </p:nvGrpSpPr>
        <p:grpSpPr>
          <a:xfrm>
            <a:off x="247680" y="1816200"/>
            <a:ext cx="5737320" cy="2382120"/>
            <a:chOff x="247680" y="1816200"/>
            <a:chExt cx="5737320" cy="2382120"/>
          </a:xfrm>
        </p:grpSpPr>
        <p:sp>
          <p:nvSpPr>
            <p:cNvPr id="475" name=""/>
            <p:cNvSpPr/>
            <p:nvPr/>
          </p:nvSpPr>
          <p:spPr>
            <a:xfrm>
              <a:off x="247680" y="1816200"/>
              <a:ext cx="5737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四渡赤水的意义是什么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47680" y="3555720"/>
              <a:ext cx="559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巧渡金沙江的意义是什么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7" name="" descr=""/>
          <p:cNvPicPr/>
          <p:nvPr/>
        </p:nvPicPr>
        <p:blipFill>
          <a:blip r:embed="rId6"/>
          <a:stretch/>
        </p:blipFill>
        <p:spPr>
          <a:xfrm>
            <a:off x="5603760" y="0"/>
            <a:ext cx="3554640" cy="685800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247680" y="26989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打乱了敌人的追剿计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47680" y="4295880"/>
            <a:ext cx="55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使红军跳出了敌人的包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228600" y="457200"/>
            <a:ext cx="6095880" cy="11048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6500"/>
                <a:gd name="adj2" fmla="val -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毛主席用兵真如神</a:t>
            </a:r>
            <a:endParaRPr b="0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260280"/>
            <a:ext cx="64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Times New Roman"/>
                <a:ea typeface="华文仿宋"/>
              </a:rPr>
              <a:t>秋收起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4000" y="1273320"/>
            <a:ext cx="259236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时间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领导人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目的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结果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08000" y="1268280"/>
            <a:ext cx="43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华文隶书"/>
                <a:ea typeface="华文隶书"/>
              </a:rPr>
              <a:t>1927</a:t>
            </a:r>
            <a:r>
              <a:rPr b="1" lang="zh-CN" sz="3600" spc="-1" strike="noStrike">
                <a:solidFill>
                  <a:srgbClr val="800080"/>
                </a:solidFill>
                <a:latin typeface="华文隶书"/>
                <a:ea typeface="华文隶书"/>
              </a:rPr>
              <a:t>年</a:t>
            </a:r>
            <a:r>
              <a:rPr b="1" lang="en-US" sz="3600" spc="-1" strike="noStrike">
                <a:solidFill>
                  <a:srgbClr val="800080"/>
                </a:solidFill>
                <a:latin typeface="华文隶书"/>
                <a:ea typeface="华文隶书"/>
              </a:rPr>
              <a:t>9</a:t>
            </a:r>
            <a:r>
              <a:rPr b="1" lang="zh-CN" sz="3600" spc="-1" strike="noStrike">
                <a:solidFill>
                  <a:srgbClr val="800080"/>
                </a:solidFill>
                <a:latin typeface="华文隶书"/>
                <a:ea typeface="华文隶书"/>
              </a:rPr>
              <a:t>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50920" y="2637000"/>
            <a:ext cx="43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华文隶书"/>
                <a:ea typeface="华文隶书"/>
              </a:rPr>
              <a:t>毛泽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8000" y="4149720"/>
            <a:ext cx="43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华文隶书"/>
                <a:ea typeface="华文隶书"/>
              </a:rPr>
              <a:t>攻打城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03280" y="566100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华文隶书"/>
                <a:ea typeface="华文隶书"/>
              </a:rPr>
              <a:t>城市敌人力量强大，我军损失严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356000" y="189000"/>
            <a:ext cx="4788000" cy="55450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659640" y="2924280"/>
            <a:ext cx="1728720" cy="433440"/>
          </a:xfrm>
          <a:prstGeom prst="wedgeRectCallout">
            <a:avLst>
              <a:gd name="adj1" fmla="val -73509"/>
              <a:gd name="adj2" fmla="val -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文家市决策</a:t>
            </a:r>
            <a:r>
              <a:rPr b="1" lang="zh-CN" sz="1200" spc="-1" strike="noStrike">
                <a:solidFill>
                  <a:srgbClr val="0000cc"/>
                </a:solidFill>
                <a:latin typeface="Times New Roman"/>
              </a:rPr>
              <a:t>（决定将革命重心转向农村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77080" y="3645000"/>
            <a:ext cx="1727280" cy="431640"/>
          </a:xfrm>
          <a:prstGeom prst="wedgeRectCallout">
            <a:avLst>
              <a:gd name="adj1" fmla="val -63328"/>
              <a:gd name="adj2" fmla="val 7168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三湾改编</a:t>
            </a:r>
            <a:r>
              <a:rPr b="1" lang="zh-CN" sz="1200" spc="-1" strike="noStrike">
                <a:solidFill>
                  <a:srgbClr val="0000cc"/>
                </a:solidFill>
                <a:latin typeface="Times New Roman"/>
              </a:rPr>
              <a:t>（确立了党对军队的绝对领导权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24720" y="4581360"/>
            <a:ext cx="649440" cy="287640"/>
          </a:xfrm>
          <a:prstGeom prst="wedgeRectCallout">
            <a:avLst>
              <a:gd name="adj1" fmla="val -133861"/>
              <a:gd name="adj2" fmla="val 6381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井冈山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29080" y="53020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秋收起义进军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77080" y="1341360"/>
            <a:ext cx="647640" cy="246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cc3300"/>
                </a:solidFill>
                <a:latin typeface="Times New Roman"/>
              </a:rPr>
              <a:t>第一团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04000" y="1916280"/>
            <a:ext cx="647640" cy="246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cc3300"/>
                </a:solidFill>
                <a:latin typeface="Times New Roman"/>
              </a:rPr>
              <a:t>第三团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3573360"/>
            <a:ext cx="648000" cy="246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cc3300"/>
                </a:solidFill>
                <a:latin typeface="Times New Roman"/>
              </a:rPr>
              <a:t>第二团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716360" y="3068640"/>
            <a:ext cx="649440" cy="287280"/>
          </a:xfrm>
          <a:prstGeom prst="wedgeRectCallout">
            <a:avLst>
              <a:gd name="adj1" fmla="val 3546"/>
              <a:gd name="adj2" fmla="val -12624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长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"/>
          <p:cNvGrpSpPr/>
          <p:nvPr/>
        </p:nvGrpSpPr>
        <p:grpSpPr>
          <a:xfrm>
            <a:off x="2073240" y="3727440"/>
            <a:ext cx="2095560" cy="3106800"/>
            <a:chOff x="2073240" y="3727440"/>
            <a:chExt cx="2095560" cy="3106800"/>
          </a:xfrm>
        </p:grpSpPr>
        <p:sp>
          <p:nvSpPr>
            <p:cNvPr id="482" name=""/>
            <p:cNvSpPr/>
            <p:nvPr/>
          </p:nvSpPr>
          <p:spPr>
            <a:xfrm>
              <a:off x="2073240" y="6453000"/>
              <a:ext cx="1219320" cy="381240"/>
            </a:xfrm>
            <a:prstGeom prst="wedgeRectCallout">
              <a:avLst>
                <a:gd name="adj1" fmla="val -15754"/>
                <a:gd name="adj2" fmla="val -230416"/>
              </a:avLst>
            </a:prstGeom>
            <a:solidFill>
              <a:srgbClr val="ffffff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巧渡金沙江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102120" y="3727440"/>
              <a:ext cx="1066680" cy="380880"/>
            </a:xfrm>
            <a:prstGeom prst="wedgeRectCallout">
              <a:avLst>
                <a:gd name="adj1" fmla="val -19495"/>
                <a:gd name="adj2" fmla="val 215833"/>
              </a:avLst>
            </a:prstGeom>
            <a:solidFill>
              <a:srgbClr val="ffffff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四渡赤水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3164760" y="4052880"/>
            <a:ext cx="1006560" cy="1766880"/>
            <a:chOff x="3164760" y="4052880"/>
            <a:chExt cx="1006560" cy="1766880"/>
          </a:xfrm>
        </p:grpSpPr>
        <p:grpSp>
          <p:nvGrpSpPr>
            <p:cNvPr id="485" name=""/>
            <p:cNvGrpSpPr/>
            <p:nvPr/>
          </p:nvGrpSpPr>
          <p:grpSpPr>
            <a:xfrm>
              <a:off x="3164760" y="4052880"/>
              <a:ext cx="1006560" cy="1423080"/>
              <a:chOff x="3164760" y="4052880"/>
              <a:chExt cx="1006560" cy="1423080"/>
            </a:xfrm>
          </p:grpSpPr>
          <p:sp>
            <p:nvSpPr>
              <p:cNvPr id="486" name=""/>
              <p:cNvSpPr/>
              <p:nvPr/>
            </p:nvSpPr>
            <p:spPr>
              <a:xfrm flipH="1" rot="18809400">
                <a:off x="3360600" y="4573440"/>
                <a:ext cx="614160" cy="804960"/>
              </a:xfrm>
              <a:prstGeom prst="uturnArrow">
                <a:avLst/>
              </a:prstGeom>
              <a:solidFill>
                <a:srgbClr val="ff0066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336840" y="4052880"/>
                <a:ext cx="549360" cy="116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ff"/>
                    </a:solidFill>
                    <a:latin typeface="Times New Roman"/>
                  </a:rPr>
                  <a:t>赤水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8" name=""/>
            <p:cNvSpPr/>
            <p:nvPr/>
          </p:nvSpPr>
          <p:spPr>
            <a:xfrm rot="1855200">
              <a:off x="3593880" y="5052600"/>
              <a:ext cx="230040" cy="762120"/>
            </a:xfrm>
            <a:custGeom>
              <a:avLst/>
              <a:gdLst>
                <a:gd name="textAreaLeft" fmla="*/ 30600 w 230040"/>
                <a:gd name="textAreaRight" fmla="*/ 199440 w 230040"/>
                <a:gd name="textAreaTop" fmla="*/ 133200 h 762120"/>
                <a:gd name="textAreaBottom" fmla="*/ 5526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 txBox="1"/>
          <p:nvPr/>
        </p:nvSpPr>
        <p:spPr>
          <a:xfrm>
            <a:off x="7086600" y="5562720"/>
            <a:ext cx="5335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幼圆"/>
              </a:rPr>
              <a:t>中   央</a:t>
            </a:r>
            <a:endParaRPr b="0" lang="en-US" sz="24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幼圆"/>
              <a:ea typeface="幼圆"/>
            </a:endParaRPr>
          </a:p>
        </p:txBody>
      </p:sp>
      <p:sp>
        <p:nvSpPr>
          <p:cNvPr id="490" name=""/>
          <p:cNvSpPr/>
          <p:nvPr/>
        </p:nvSpPr>
        <p:spPr>
          <a:xfrm>
            <a:off x="6858000" y="5638680"/>
            <a:ext cx="152280" cy="228600"/>
          </a:xfrm>
          <a:prstGeom prst="triangle">
            <a:avLst>
              <a:gd name="adj" fmla="val 6333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7010280" y="5867280"/>
            <a:ext cx="30492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于都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7620120" y="5867280"/>
            <a:ext cx="30456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瑞金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93" name=""/>
          <p:cNvSpPr/>
          <p:nvPr/>
        </p:nvSpPr>
        <p:spPr>
          <a:xfrm>
            <a:off x="7391520" y="6019920"/>
            <a:ext cx="199800" cy="152280"/>
          </a:xfrm>
          <a:prstGeom prst="star5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962520" y="5181480"/>
            <a:ext cx="152280" cy="152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rot="5238000">
            <a:off x="6283080" y="5373720"/>
            <a:ext cx="309600" cy="1751040"/>
          </a:xfrm>
          <a:prstGeom prst="downArrow">
            <a:avLst>
              <a:gd name="adj1" fmla="val 62287"/>
              <a:gd name="adj2" fmla="val 152026"/>
            </a:avLst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800600" y="1143000"/>
            <a:ext cx="15228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4495680" y="1371600"/>
            <a:ext cx="7621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solidFill>
                    <a:srgbClr val="000000"/>
                  </a:solidFill>
                </a:ln>
                <a:solidFill>
                  <a:srgbClr val="000000"/>
                </a:solidFill>
                <a:latin typeface="宋体"/>
              </a:rPr>
              <a:t>吴起镇</a:t>
            </a:r>
            <a:endParaRPr b="0" lang="en-US" sz="2400" spc="-1" strike="noStrike">
              <a:ln w="0">
                <a:solidFill>
                  <a:srgbClr val="000000"/>
                </a:solidFill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98" name=""/>
          <p:cNvSpPr/>
          <p:nvPr/>
        </p:nvSpPr>
        <p:spPr>
          <a:xfrm>
            <a:off x="3124080" y="1447920"/>
            <a:ext cx="15264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2819520" y="1600200"/>
            <a:ext cx="4572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solidFill>
                    <a:srgbClr val="000000"/>
                  </a:solidFill>
                </a:ln>
                <a:solidFill>
                  <a:srgbClr val="000000"/>
                </a:solidFill>
                <a:latin typeface="宋体"/>
              </a:rPr>
              <a:t>会宁</a:t>
            </a:r>
            <a:endParaRPr b="0" lang="en-US" sz="2400" spc="-1" strike="noStrike">
              <a:ln w="0">
                <a:solidFill>
                  <a:srgbClr val="000000"/>
                </a:solidFill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500" name=""/>
          <p:cNvSpPr/>
          <p:nvPr/>
        </p:nvSpPr>
        <p:spPr>
          <a:xfrm>
            <a:off x="5257800" y="5105520"/>
            <a:ext cx="1066680" cy="380880"/>
          </a:xfrm>
          <a:prstGeom prst="wedgeRectCallout">
            <a:avLst>
              <a:gd name="adj1" fmla="val -19495"/>
              <a:gd name="adj2" fmla="val 215833"/>
            </a:avLst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3300"/>
                </a:solidFill>
                <a:latin typeface="黑体"/>
                <a:ea typeface="黑体"/>
              </a:rPr>
              <a:t>突破湘江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96080" y="6324480"/>
            <a:ext cx="1447920" cy="533520"/>
          </a:xfrm>
          <a:prstGeom prst="wedgeRectCallout">
            <a:avLst>
              <a:gd name="adj1" fmla="val -60416"/>
              <a:gd name="adj2" fmla="val -92263"/>
            </a:avLst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黑体"/>
                <a:ea typeface="黑体"/>
              </a:rPr>
              <a:t>1934</a:t>
            </a:r>
            <a:r>
              <a:rPr b="0" lang="zh-CN" sz="1400" spc="-1" strike="noStrike">
                <a:solidFill>
                  <a:srgbClr val="ff3300"/>
                </a:solidFill>
                <a:latin typeface="黑体"/>
                <a:ea typeface="黑体"/>
              </a:rPr>
              <a:t>年</a:t>
            </a:r>
            <a:r>
              <a:rPr b="0" lang="en-US" sz="1400" spc="-1" strike="noStrike">
                <a:solidFill>
                  <a:srgbClr val="ff3300"/>
                </a:solidFill>
                <a:latin typeface="黑体"/>
                <a:ea typeface="黑体"/>
              </a:rPr>
              <a:t>10</a:t>
            </a:r>
            <a:r>
              <a:rPr b="0" lang="zh-CN" sz="1400" spc="-1" strike="noStrike">
                <a:solidFill>
                  <a:srgbClr val="ff3300"/>
                </a:solidFill>
                <a:latin typeface="黑体"/>
                <a:ea typeface="黑体"/>
              </a:rPr>
              <a:t>月中央红军开始长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581280" y="1295280"/>
            <a:ext cx="152640" cy="152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3429000" y="1447920"/>
            <a:ext cx="4572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solidFill>
                    <a:srgbClr val="000000"/>
                  </a:solidFill>
                </a:ln>
                <a:solidFill>
                  <a:srgbClr val="000000"/>
                </a:solidFill>
                <a:latin typeface="宋体"/>
              </a:rPr>
              <a:t>将台堡</a:t>
            </a:r>
            <a:endParaRPr b="0" lang="en-US" sz="2400" spc="-1" strike="noStrike">
              <a:ln w="0">
                <a:solidFill>
                  <a:srgbClr val="000000"/>
                </a:solidFill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3934440" y="5257800"/>
            <a:ext cx="3788280" cy="2714760"/>
            <a:chOff x="3934440" y="5257800"/>
            <a:chExt cx="3788280" cy="2714760"/>
          </a:xfrm>
        </p:grpSpPr>
        <p:grpSp>
          <p:nvGrpSpPr>
            <p:cNvPr id="505" name=""/>
            <p:cNvGrpSpPr/>
            <p:nvPr/>
          </p:nvGrpSpPr>
          <p:grpSpPr>
            <a:xfrm>
              <a:off x="3934440" y="5467320"/>
              <a:ext cx="3788280" cy="2505240"/>
              <a:chOff x="3934440" y="5467320"/>
              <a:chExt cx="3788280" cy="2505240"/>
            </a:xfrm>
          </p:grpSpPr>
          <p:grpSp>
            <p:nvGrpSpPr>
              <p:cNvPr id="506" name=""/>
              <p:cNvGrpSpPr/>
              <p:nvPr/>
            </p:nvGrpSpPr>
            <p:grpSpPr>
              <a:xfrm>
                <a:off x="3934440" y="5467320"/>
                <a:ext cx="3788280" cy="2505240"/>
                <a:chOff x="3934440" y="5467320"/>
                <a:chExt cx="3788280" cy="2505240"/>
              </a:xfrm>
            </p:grpSpPr>
            <p:grpSp>
              <p:nvGrpSpPr>
                <p:cNvPr id="507" name=""/>
                <p:cNvGrpSpPr/>
                <p:nvPr/>
              </p:nvGrpSpPr>
              <p:grpSpPr>
                <a:xfrm>
                  <a:off x="4484880" y="5525280"/>
                  <a:ext cx="3237840" cy="2447280"/>
                  <a:chOff x="4484880" y="5525280"/>
                  <a:chExt cx="3237840" cy="2447280"/>
                </a:xfrm>
              </p:grpSpPr>
              <p:sp>
                <p:nvSpPr>
                  <p:cNvPr id="508" name=""/>
                  <p:cNvSpPr/>
                  <p:nvPr/>
                </p:nvSpPr>
                <p:spPr>
                  <a:xfrm rot="4123800">
                    <a:off x="4989600" y="5444280"/>
                    <a:ext cx="1065960" cy="18126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318707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3187072"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 rot="1095600">
                    <a:off x="6148800" y="5983560"/>
                    <a:ext cx="1320840" cy="18277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355761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3557614"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rot="3433800">
                    <a:off x="5582160" y="5788800"/>
                    <a:ext cx="1065960" cy="18126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5559" y="1357"/>
                        </a:moveTo>
                        <a:arcTo wR="10800" hR="10800" stAng="-7142001" swAng="492907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5559" y="1357"/>
                        </a:moveTo>
                        <a:arcTo wR="10800" hR="10800" stAng="-7142001" swAng="4929074"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11" name=""/>
                <p:cNvSpPr/>
                <p:nvPr/>
              </p:nvSpPr>
              <p:spPr>
                <a:xfrm rot="5247600">
                  <a:off x="4334760" y="5129280"/>
                  <a:ext cx="1065960" cy="182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318707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3187072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2" name=""/>
              <p:cNvSpPr/>
              <p:nvPr/>
            </p:nvSpPr>
            <p:spPr>
              <a:xfrm>
                <a:off x="4724280" y="6400440"/>
                <a:ext cx="1143000" cy="456840"/>
              </a:xfrm>
              <a:prstGeom prst="wedgeRectCallout">
                <a:avLst>
                  <a:gd name="adj1" fmla="val 93472"/>
                  <a:gd name="adj2" fmla="val -70138"/>
                </a:avLst>
              </a:prstGeom>
              <a:solidFill>
                <a:srgbClr val="ffffff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3300"/>
                    </a:solidFill>
                    <a:latin typeface="黑体"/>
                    <a:ea typeface="黑体"/>
                  </a:rPr>
                  <a:t>冲破四道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3300"/>
                    </a:solidFill>
                    <a:latin typeface="黑体"/>
                    <a:ea typeface="黑体"/>
                  </a:rPr>
                  <a:t>封锁线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5790960" y="5257800"/>
              <a:ext cx="990000" cy="838080"/>
              <a:chOff x="5790960" y="5257800"/>
              <a:chExt cx="990000" cy="838080"/>
            </a:xfrm>
          </p:grpSpPr>
          <p:sp>
            <p:nvSpPr>
              <p:cNvPr id="514" name=""/>
              <p:cNvSpPr txBox="1"/>
              <p:nvPr/>
            </p:nvSpPr>
            <p:spPr>
              <a:xfrm>
                <a:off x="6533640" y="5257800"/>
                <a:ext cx="247320" cy="152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Deflate">
                  <a:avLst>
                    <a:gd name="adj" fmla="val 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ln w="0">
                      <a:solidFill>
                        <a:srgbClr val="0000ff"/>
                      </a:solidFill>
                    </a:ln>
                    <a:solidFill>
                      <a:srgbClr val="0000ff"/>
                    </a:solidFill>
                    <a:latin typeface="宋体"/>
                  </a:rPr>
                  <a:t>湘</a:t>
                </a:r>
                <a:endParaRPr b="0" lang="en-US" sz="2400" spc="-1" strike="noStrike">
                  <a:ln w="0">
                    <a:solidFill>
                      <a:srgbClr val="0000ff"/>
                    </a:solidFill>
                  </a:ln>
                  <a:solidFill>
                    <a:srgbClr val="0000ff"/>
                  </a:solidFill>
                  <a:latin typeface="宋体"/>
                  <a:ea typeface="宋体"/>
                </a:endParaRPr>
              </a:p>
            </p:txBody>
          </p:sp>
          <p:sp>
            <p:nvSpPr>
              <p:cNvPr id="515" name=""/>
              <p:cNvSpPr txBox="1"/>
              <p:nvPr/>
            </p:nvSpPr>
            <p:spPr>
              <a:xfrm>
                <a:off x="5790960" y="5943600"/>
                <a:ext cx="247320" cy="152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Deflate">
                  <a:avLst>
                    <a:gd name="adj" fmla="val 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ln w="0">
                      <a:solidFill>
                        <a:srgbClr val="0000ff"/>
                      </a:solidFill>
                    </a:ln>
                    <a:solidFill>
                      <a:srgbClr val="0000ff"/>
                    </a:solidFill>
                    <a:latin typeface="宋体"/>
                  </a:rPr>
                  <a:t>江</a:t>
                </a:r>
                <a:endParaRPr b="0" lang="en-US" sz="2400" spc="-1" strike="noStrike">
                  <a:ln w="0">
                    <a:solidFill>
                      <a:srgbClr val="0000ff"/>
                    </a:solidFill>
                  </a:ln>
                  <a:solidFill>
                    <a:srgbClr val="0000ff"/>
                  </a:solidFill>
                  <a:latin typeface="宋体"/>
                  <a:ea typeface="宋体"/>
                </a:endParaRPr>
              </a:p>
            </p:txBody>
          </p:sp>
        </p:grpSp>
      </p:grpSp>
      <p:grpSp>
        <p:nvGrpSpPr>
          <p:cNvPr id="516" name=""/>
          <p:cNvGrpSpPr/>
          <p:nvPr/>
        </p:nvGrpSpPr>
        <p:grpSpPr>
          <a:xfrm>
            <a:off x="3454560" y="4714920"/>
            <a:ext cx="1326240" cy="1020600"/>
            <a:chOff x="3454560" y="4714920"/>
            <a:chExt cx="1326240" cy="1020600"/>
          </a:xfrm>
        </p:grpSpPr>
        <p:sp>
          <p:nvSpPr>
            <p:cNvPr id="517" name=""/>
            <p:cNvSpPr/>
            <p:nvPr/>
          </p:nvSpPr>
          <p:spPr>
            <a:xfrm>
              <a:off x="3454560" y="4714920"/>
              <a:ext cx="128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00"/>
                  </a:solidFill>
                  <a:latin typeface="Times New Roman"/>
                </a:rPr>
                <a:t>遵 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rot="1800000">
              <a:off x="4098240" y="5281560"/>
              <a:ext cx="647640" cy="312840"/>
            </a:xfrm>
            <a:prstGeom prst="leftArrow">
              <a:avLst>
                <a:gd name="adj1" fmla="val 50000"/>
                <a:gd name="adj2" fmla="val 51755"/>
              </a:avLst>
            </a:prstGeom>
            <a:solidFill>
              <a:srgbClr val="ff0066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4546440" y="4122720"/>
            <a:ext cx="1539720" cy="2253600"/>
            <a:chOff x="4546440" y="4122720"/>
            <a:chExt cx="1539720" cy="2253600"/>
          </a:xfrm>
        </p:grpSpPr>
        <p:grpSp>
          <p:nvGrpSpPr>
            <p:cNvPr id="520" name=""/>
            <p:cNvGrpSpPr/>
            <p:nvPr/>
          </p:nvGrpSpPr>
          <p:grpSpPr>
            <a:xfrm>
              <a:off x="4546440" y="4397400"/>
              <a:ext cx="1088640" cy="1978920"/>
              <a:chOff x="4546440" y="4397400"/>
              <a:chExt cx="1088640" cy="1978920"/>
            </a:xfrm>
          </p:grpSpPr>
          <p:sp>
            <p:nvSpPr>
              <p:cNvPr id="521" name=""/>
              <p:cNvSpPr/>
              <p:nvPr/>
            </p:nvSpPr>
            <p:spPr>
              <a:xfrm rot="2080200">
                <a:off x="4571640" y="5738760"/>
                <a:ext cx="1050840" cy="371520"/>
              </a:xfrm>
              <a:prstGeom prst="leftArrow">
                <a:avLst>
                  <a:gd name="adj1" fmla="val 50000"/>
                  <a:gd name="adj2" fmla="val 70712"/>
                </a:avLst>
              </a:prstGeom>
              <a:solidFill>
                <a:srgbClr val="ff0066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546440" y="4397400"/>
                <a:ext cx="546120" cy="12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vert="eaVer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ff"/>
                    </a:solidFill>
                    <a:latin typeface="Times New Roman"/>
                  </a:rPr>
                  <a:t>乌   江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3" name=""/>
            <p:cNvSpPr/>
            <p:nvPr/>
          </p:nvSpPr>
          <p:spPr>
            <a:xfrm>
              <a:off x="5019480" y="4122720"/>
              <a:ext cx="1066680" cy="380880"/>
            </a:xfrm>
            <a:prstGeom prst="wedgeRectCallout">
              <a:avLst>
                <a:gd name="adj1" fmla="val -60564"/>
                <a:gd name="adj2" fmla="val 325833"/>
              </a:avLst>
            </a:prstGeom>
            <a:solidFill>
              <a:srgbClr val="ffffff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渡过乌江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2350080" y="4876920"/>
            <a:ext cx="1089000" cy="997920"/>
            <a:chOff x="2350080" y="4876920"/>
            <a:chExt cx="1089000" cy="997920"/>
          </a:xfrm>
        </p:grpSpPr>
        <p:sp>
          <p:nvSpPr>
            <p:cNvPr id="525" name=""/>
            <p:cNvSpPr/>
            <p:nvPr/>
          </p:nvSpPr>
          <p:spPr>
            <a:xfrm rot="21247800">
              <a:off x="2360160" y="5563800"/>
              <a:ext cx="1068480" cy="257040"/>
            </a:xfrm>
            <a:prstGeom prst="leftArrow">
              <a:avLst>
                <a:gd name="adj1" fmla="val 65593"/>
                <a:gd name="adj2" fmla="val 120568"/>
              </a:avLst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6" name=""/>
            <p:cNvGrpSpPr/>
            <p:nvPr/>
          </p:nvGrpSpPr>
          <p:grpSpPr>
            <a:xfrm>
              <a:off x="2590560" y="4876920"/>
              <a:ext cx="609480" cy="837360"/>
              <a:chOff x="2590560" y="4876920"/>
              <a:chExt cx="609480" cy="837360"/>
            </a:xfrm>
          </p:grpSpPr>
          <p:sp>
            <p:nvSpPr>
              <p:cNvPr id="527" name=""/>
              <p:cNvSpPr txBox="1"/>
              <p:nvPr/>
            </p:nvSpPr>
            <p:spPr>
              <a:xfrm>
                <a:off x="2997000" y="4876920"/>
                <a:ext cx="203040" cy="151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Deflate">
                  <a:avLst>
                    <a:gd name="adj" fmla="val 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ln w="0">
                      <a:solidFill>
                        <a:srgbClr val="0000ff"/>
                      </a:solidFill>
                    </a:ln>
                    <a:solidFill>
                      <a:srgbClr val="0000ff"/>
                    </a:solidFill>
                    <a:latin typeface="宋体"/>
                  </a:rPr>
                  <a:t>金</a:t>
                </a:r>
                <a:endParaRPr b="0" lang="en-US" sz="2400" spc="-1" strike="noStrike">
                  <a:ln w="0">
                    <a:solidFill>
                      <a:srgbClr val="0000ff"/>
                    </a:solidFill>
                  </a:ln>
                  <a:solidFill>
                    <a:srgbClr val="0000ff"/>
                  </a:solidFill>
                  <a:latin typeface="宋体"/>
                  <a:ea typeface="宋体"/>
                </a:endParaRPr>
              </a:p>
            </p:txBody>
          </p:sp>
          <p:sp>
            <p:nvSpPr>
              <p:cNvPr id="528" name=""/>
              <p:cNvSpPr txBox="1"/>
              <p:nvPr/>
            </p:nvSpPr>
            <p:spPr>
              <a:xfrm>
                <a:off x="2692080" y="5181480"/>
                <a:ext cx="203040" cy="151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Deflate">
                  <a:avLst>
                    <a:gd name="adj" fmla="val 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ln w="0">
                      <a:solidFill>
                        <a:srgbClr val="0000ff"/>
                      </a:solidFill>
                    </a:ln>
                    <a:solidFill>
                      <a:srgbClr val="0000ff"/>
                    </a:solidFill>
                    <a:latin typeface="宋体"/>
                  </a:rPr>
                  <a:t>沙</a:t>
                </a:r>
                <a:endParaRPr b="0" lang="en-US" sz="2400" spc="-1" strike="noStrike">
                  <a:ln w="0">
                    <a:solidFill>
                      <a:srgbClr val="0000ff"/>
                    </a:solidFill>
                  </a:ln>
                  <a:solidFill>
                    <a:srgbClr val="0000ff"/>
                  </a:solidFill>
                  <a:latin typeface="宋体"/>
                  <a:ea typeface="宋体"/>
                </a:endParaRPr>
              </a:p>
            </p:txBody>
          </p:sp>
          <p:sp>
            <p:nvSpPr>
              <p:cNvPr id="529" name=""/>
              <p:cNvSpPr txBox="1"/>
              <p:nvPr/>
            </p:nvSpPr>
            <p:spPr>
              <a:xfrm>
                <a:off x="2590560" y="5562360"/>
                <a:ext cx="203040" cy="151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Deflate">
                  <a:avLst>
                    <a:gd name="adj" fmla="val 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ln w="0">
                      <a:solidFill>
                        <a:srgbClr val="0000ff"/>
                      </a:solidFill>
                    </a:ln>
                    <a:solidFill>
                      <a:srgbClr val="0000ff"/>
                    </a:solidFill>
                    <a:latin typeface="宋体"/>
                  </a:rPr>
                  <a:t>江</a:t>
                </a:r>
                <a:endParaRPr b="0" lang="en-US" sz="2400" spc="-1" strike="noStrike">
                  <a:ln w="0">
                    <a:solidFill>
                      <a:srgbClr val="0000ff"/>
                    </a:solidFill>
                  </a:ln>
                  <a:solidFill>
                    <a:srgbClr val="0000ff"/>
                  </a:solidFill>
                  <a:latin typeface="宋体"/>
                  <a:ea typeface="宋体"/>
                </a:endParaRPr>
              </a:p>
            </p:txBody>
          </p:sp>
        </p:grpSp>
      </p:grpSp>
      <p:grpSp>
        <p:nvGrpSpPr>
          <p:cNvPr id="530" name=""/>
          <p:cNvGrpSpPr/>
          <p:nvPr/>
        </p:nvGrpSpPr>
        <p:grpSpPr>
          <a:xfrm>
            <a:off x="660240" y="3240000"/>
            <a:ext cx="1555920" cy="1224000"/>
            <a:chOff x="660240" y="3240000"/>
            <a:chExt cx="1555920" cy="1224000"/>
          </a:xfrm>
        </p:grpSpPr>
        <p:sp>
          <p:nvSpPr>
            <p:cNvPr id="531" name=""/>
            <p:cNvSpPr/>
            <p:nvPr/>
          </p:nvSpPr>
          <p:spPr>
            <a:xfrm>
              <a:off x="957240" y="3240000"/>
              <a:ext cx="1258920" cy="380880"/>
            </a:xfrm>
            <a:prstGeom prst="wedgeRectCallout">
              <a:avLst>
                <a:gd name="adj1" fmla="val 55800"/>
                <a:gd name="adj2" fmla="val 215000"/>
              </a:avLst>
            </a:prstGeom>
            <a:solidFill>
              <a:srgbClr val="ffffff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飞夺泸定桥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60240" y="4083120"/>
              <a:ext cx="1266840" cy="380880"/>
            </a:xfrm>
            <a:prstGeom prst="wedgeRectCallout">
              <a:avLst>
                <a:gd name="adj1" fmla="val 79074"/>
                <a:gd name="adj2" fmla="val 92916"/>
              </a:avLst>
            </a:prstGeom>
            <a:solidFill>
              <a:srgbClr val="ffffff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强渡大渡河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2035440" y="3962520"/>
            <a:ext cx="1012320" cy="1765440"/>
            <a:chOff x="2035440" y="3962520"/>
            <a:chExt cx="1012320" cy="1765440"/>
          </a:xfrm>
        </p:grpSpPr>
        <p:sp>
          <p:nvSpPr>
            <p:cNvPr id="534" name=""/>
            <p:cNvSpPr/>
            <p:nvPr/>
          </p:nvSpPr>
          <p:spPr>
            <a:xfrm rot="429000">
              <a:off x="2133720" y="4114800"/>
              <a:ext cx="304920" cy="1600200"/>
            </a:xfrm>
            <a:prstGeom prst="upArrow">
              <a:avLst>
                <a:gd name="adj1" fmla="val 50000"/>
                <a:gd name="adj2" fmla="val 131198"/>
              </a:avLst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5" name=""/>
            <p:cNvGrpSpPr/>
            <p:nvPr/>
          </p:nvGrpSpPr>
          <p:grpSpPr>
            <a:xfrm>
              <a:off x="2210040" y="3962520"/>
              <a:ext cx="837720" cy="457200"/>
              <a:chOff x="2210040" y="3962520"/>
              <a:chExt cx="837720" cy="457200"/>
            </a:xfrm>
          </p:grpSpPr>
          <p:sp>
            <p:nvSpPr>
              <p:cNvPr id="536" name=""/>
              <p:cNvSpPr txBox="1"/>
              <p:nvPr/>
            </p:nvSpPr>
            <p:spPr>
              <a:xfrm>
                <a:off x="2524320" y="4114800"/>
                <a:ext cx="209160" cy="152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Deflate">
                  <a:avLst>
                    <a:gd name="adj" fmla="val 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ln w="0">
                      <a:solidFill>
                        <a:srgbClr val="0000ff"/>
                      </a:solidFill>
                    </a:ln>
                    <a:solidFill>
                      <a:srgbClr val="0000ff"/>
                    </a:solidFill>
                    <a:latin typeface="宋体"/>
                  </a:rPr>
                  <a:t>渡</a:t>
                </a:r>
                <a:endParaRPr b="0" lang="en-US" sz="2400" spc="-1" strike="noStrike">
                  <a:ln w="0">
                    <a:solidFill>
                      <a:srgbClr val="0000ff"/>
                    </a:solidFill>
                  </a:ln>
                  <a:solidFill>
                    <a:srgbClr val="0000ff"/>
                  </a:solidFill>
                  <a:latin typeface="宋体"/>
                  <a:ea typeface="宋体"/>
                </a:endParaRPr>
              </a:p>
            </p:txBody>
          </p:sp>
          <p:sp>
            <p:nvSpPr>
              <p:cNvPr id="537" name=""/>
              <p:cNvSpPr txBox="1"/>
              <p:nvPr/>
            </p:nvSpPr>
            <p:spPr>
              <a:xfrm>
                <a:off x="2838600" y="4267440"/>
                <a:ext cx="209160" cy="152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Deflate">
                  <a:avLst>
                    <a:gd name="adj" fmla="val 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ln w="0">
                      <a:solidFill>
                        <a:srgbClr val="0000ff"/>
                      </a:solidFill>
                    </a:ln>
                    <a:solidFill>
                      <a:srgbClr val="0000ff"/>
                    </a:solidFill>
                    <a:latin typeface="宋体"/>
                  </a:rPr>
                  <a:t>河</a:t>
                </a:r>
                <a:endParaRPr b="0" lang="en-US" sz="2400" spc="-1" strike="noStrike">
                  <a:ln w="0">
                    <a:solidFill>
                      <a:srgbClr val="0000ff"/>
                    </a:solidFill>
                  </a:ln>
                  <a:solidFill>
                    <a:srgbClr val="0000ff"/>
                  </a:solidFill>
                  <a:latin typeface="宋体"/>
                  <a:ea typeface="宋体"/>
                </a:endParaRPr>
              </a:p>
            </p:txBody>
          </p:sp>
          <p:sp>
            <p:nvSpPr>
              <p:cNvPr id="538" name=""/>
              <p:cNvSpPr txBox="1"/>
              <p:nvPr/>
            </p:nvSpPr>
            <p:spPr>
              <a:xfrm>
                <a:off x="2210040" y="3962520"/>
                <a:ext cx="209160" cy="152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Deflate">
                  <a:avLst>
                    <a:gd name="adj" fmla="val 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ln w="0">
                      <a:solidFill>
                        <a:srgbClr val="0000ff"/>
                      </a:solidFill>
                    </a:ln>
                    <a:solidFill>
                      <a:srgbClr val="0000ff"/>
                    </a:solidFill>
                    <a:latin typeface="宋体"/>
                  </a:rPr>
                  <a:t>大</a:t>
                </a:r>
                <a:endParaRPr b="0" lang="en-US" sz="2400" spc="-1" strike="noStrike">
                  <a:ln w="0">
                    <a:solidFill>
                      <a:srgbClr val="0000ff"/>
                    </a:solidFill>
                  </a:ln>
                  <a:solidFill>
                    <a:srgbClr val="0000ff"/>
                  </a:solidFill>
                  <a:latin typeface="宋体"/>
                  <a:ea typeface="宋体"/>
                </a:endParaRPr>
              </a:p>
            </p:txBody>
          </p:sp>
        </p:grpSp>
      </p:grpSp>
    </p:spTree>
  </p:cSld>
  <p:transition>
    <p:blinds dir="vert"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"/>
          <p:cNvGrpSpPr/>
          <p:nvPr/>
        </p:nvGrpSpPr>
        <p:grpSpPr>
          <a:xfrm>
            <a:off x="14400" y="0"/>
            <a:ext cx="9149760" cy="6891480"/>
            <a:chOff x="14400" y="0"/>
            <a:chExt cx="9149760" cy="6891480"/>
          </a:xfrm>
        </p:grpSpPr>
        <p:pic>
          <p:nvPicPr>
            <p:cNvPr id="540" name="" descr=""/>
            <p:cNvPicPr/>
            <p:nvPr/>
          </p:nvPicPr>
          <p:blipFill>
            <a:blip r:embed="rId1"/>
            <a:stretch/>
          </p:blipFill>
          <p:spPr>
            <a:xfrm>
              <a:off x="14400" y="0"/>
              <a:ext cx="9143640" cy="624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"/>
            <p:cNvSpPr/>
            <p:nvPr/>
          </p:nvSpPr>
          <p:spPr>
            <a:xfrm>
              <a:off x="6642000" y="14040"/>
              <a:ext cx="2522160" cy="62312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Times New Roman"/>
                </a:rPr>
                <a:t>吓倒滇军               拖死湘军        脚踏川军     打倒中央军    英雄是红军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7280" y="6248880"/>
              <a:ext cx="6597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66"/>
                  </a:solidFill>
                  <a:latin typeface="Times New Roman"/>
                </a:rPr>
                <a:t>大渡河渡河英雄雕像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44" name=""/>
          <p:cNvGrpSpPr/>
          <p:nvPr/>
        </p:nvGrpSpPr>
        <p:grpSpPr>
          <a:xfrm>
            <a:off x="0" y="0"/>
            <a:ext cx="9144000" cy="6611760"/>
            <a:chOff x="0" y="0"/>
            <a:chExt cx="9144000" cy="6611760"/>
          </a:xfrm>
        </p:grpSpPr>
        <p:pic>
          <p:nvPicPr>
            <p:cNvPr id="545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"/>
            <p:cNvSpPr/>
            <p:nvPr/>
          </p:nvSpPr>
          <p:spPr>
            <a:xfrm>
              <a:off x="3240" y="5969160"/>
              <a:ext cx="9140760" cy="6426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66"/>
                  </a:solidFill>
                  <a:latin typeface="Times New Roman"/>
                </a:rPr>
                <a:t>红 军 战 士 翻 越 雪 山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-4680" y="0"/>
            <a:ext cx="9145440" cy="6976080"/>
            <a:chOff x="-4680" y="0"/>
            <a:chExt cx="9145440" cy="6976080"/>
          </a:xfrm>
        </p:grpSpPr>
        <p:pic>
          <p:nvPicPr>
            <p:cNvPr id="548" name="" descr=""/>
            <p:cNvPicPr/>
            <p:nvPr/>
          </p:nvPicPr>
          <p:blipFill>
            <a:blip r:embed="rId3"/>
            <a:stretch/>
          </p:blipFill>
          <p:spPr>
            <a:xfrm>
              <a:off x="-1440" y="0"/>
              <a:ext cx="9119880" cy="622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-4680" y="6211800"/>
              <a:ext cx="9145440" cy="76428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隶书"/>
                  <a:ea typeface="隶书"/>
                </a:rPr>
                <a:t>雪  山  忠  魂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>
            <a:off x="20520" y="2057400"/>
            <a:ext cx="9123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隶书"/>
                <a:ea typeface="隶书"/>
              </a:rPr>
              <a:t>    </a:t>
            </a:r>
            <a:r>
              <a:rPr b="0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红军某部翻越雪山时，发现有许多冻僵战友的遗体被埋在雪里，有一只胳膊伸出雪堆，拳头紧握。他们掰开一看，里面是党证和一块银元。党证上写着：“刘志海，中共正式党员，</a:t>
            </a:r>
            <a:r>
              <a:rPr b="0" lang="en-US" sz="4000" spc="-1" strike="noStrike">
                <a:solidFill>
                  <a:srgbClr val="0000ff"/>
                </a:solidFill>
                <a:latin typeface="隶书"/>
                <a:ea typeface="隶书"/>
              </a:rPr>
              <a:t>1933</a:t>
            </a:r>
            <a:r>
              <a:rPr b="0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年入党。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3567240" y="384120"/>
            <a:ext cx="2895480" cy="1542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雪山忠魂</a:t>
            </a:r>
            <a:endParaRPr b="0" lang="en-US" sz="5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5" name="" descr=""/>
          <p:cNvPicPr/>
          <p:nvPr/>
        </p:nvPicPr>
        <p:blipFill>
          <a:blip r:embed="rId2"/>
          <a:stretch/>
        </p:blipFill>
        <p:spPr>
          <a:xfrm>
            <a:off x="22320" y="11160"/>
            <a:ext cx="905508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restart="whenNotActive" nodeType="interactiveSeq" fill="hold">
                <p:stCondLst>
                  <p:cond evt="onClick">
                    <p:tgtEl>
                      <p:spTgt spid="555"/>
                    </p:tgtEl>
                  </p:cond>
                </p:stCondLst>
                <p:childTnLst>
                  <p:par>
                    <p:cTn id="524" fill="hold">
                      <p:stCondLst>
                        <p:cond evt="onClick">
                          <p:tgtEl>
                            <p:spTgt spid="555"/>
                          </p:tgtEl>
                        </p:cond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27" dur="1" fill="hold"/>
                                        <p:tgtEl>
                                          <p:spTgt spid="5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57" name=""/>
          <p:cNvGrpSpPr/>
          <p:nvPr/>
        </p:nvGrpSpPr>
        <p:grpSpPr>
          <a:xfrm>
            <a:off x="1312920" y="888840"/>
            <a:ext cx="6584400" cy="4983120"/>
            <a:chOff x="1312920" y="888840"/>
            <a:chExt cx="6584400" cy="4983120"/>
          </a:xfrm>
        </p:grpSpPr>
        <p:pic>
          <p:nvPicPr>
            <p:cNvPr id="558" name="" descr=""/>
            <p:cNvPicPr/>
            <p:nvPr/>
          </p:nvPicPr>
          <p:blipFill>
            <a:blip r:embed="rId2"/>
            <a:stretch/>
          </p:blipFill>
          <p:spPr>
            <a:xfrm>
              <a:off x="1328400" y="888840"/>
              <a:ext cx="6568920" cy="436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"/>
            <p:cNvSpPr/>
            <p:nvPr/>
          </p:nvSpPr>
          <p:spPr>
            <a:xfrm>
              <a:off x="1312920" y="5230800"/>
              <a:ext cx="6567120" cy="641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红军过草地穿的草鞋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1320480" y="895320"/>
            <a:ext cx="6580440" cy="5208480"/>
            <a:chOff x="1320480" y="895320"/>
            <a:chExt cx="6580440" cy="5208480"/>
          </a:xfrm>
        </p:grpSpPr>
        <p:pic>
          <p:nvPicPr>
            <p:cNvPr id="561" name="" descr=""/>
            <p:cNvPicPr/>
            <p:nvPr/>
          </p:nvPicPr>
          <p:blipFill>
            <a:blip r:embed="rId4"/>
            <a:stretch/>
          </p:blipFill>
          <p:spPr>
            <a:xfrm>
              <a:off x="1333440" y="895320"/>
              <a:ext cx="6567480" cy="444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" name="PlaceHolder 1"/>
            <p:cNvSpPr>
              <a:spLocks noGrp="1"/>
            </p:cNvSpPr>
            <p:nvPr>
              <p:ph/>
            </p:nvPr>
          </p:nvSpPr>
          <p:spPr>
            <a:xfrm>
              <a:off x="1320480" y="5342040"/>
              <a:ext cx="6567480" cy="761760"/>
            </a:xfrm>
            <a:prstGeom prst="rect">
              <a:avLst/>
            </a:prstGeom>
            <a:solidFill>
              <a:srgbClr val="9966ff"/>
            </a:solidFill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0" algn="ctr">
                <a:spcBef>
                  <a:spcPts val="2251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红  军  过  草  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8029440" y="878040"/>
            <a:ext cx="733680" cy="52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苦不苦  想想红军二万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92200" y="878040"/>
            <a:ext cx="733320" cy="52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累不累  看看革命老前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23" presetSubtype="16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/>
          <p:nvPr/>
        </p:nvSpPr>
        <p:spPr>
          <a:xfrm>
            <a:off x="117360" y="757080"/>
            <a:ext cx="14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原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17360" y="1538280"/>
            <a:ext cx="126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经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338120" y="798480"/>
            <a:ext cx="55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红军              反“围剿”失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338560" y="798480"/>
            <a:ext cx="157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第五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3214800" y="4024440"/>
            <a:ext cx="2233440" cy="1079280"/>
            <a:chOff x="3214800" y="4024440"/>
            <a:chExt cx="2233440" cy="1079280"/>
          </a:xfrm>
        </p:grpSpPr>
        <p:sp>
          <p:nvSpPr>
            <p:cNvPr id="571" name=""/>
            <p:cNvSpPr/>
            <p:nvPr/>
          </p:nvSpPr>
          <p:spPr>
            <a:xfrm>
              <a:off x="3214800" y="4563720"/>
              <a:ext cx="36036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540240" y="4024440"/>
              <a:ext cx="1908000" cy="10792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66"/>
                  </a:solidFill>
                  <a:latin typeface="Times New Roman"/>
                  <a:ea typeface="黑体"/>
                </a:rPr>
                <a:t>爬雪山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831960" y="3166920"/>
            <a:ext cx="2384280" cy="1936800"/>
            <a:chOff x="831960" y="3166920"/>
            <a:chExt cx="2384280" cy="1936800"/>
          </a:xfrm>
        </p:grpSpPr>
        <p:sp>
          <p:nvSpPr>
            <p:cNvPr id="574" name=""/>
            <p:cNvSpPr/>
            <p:nvPr/>
          </p:nvSpPr>
          <p:spPr>
            <a:xfrm>
              <a:off x="1308240" y="4024080"/>
              <a:ext cx="1908000" cy="10796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66"/>
                  </a:solidFill>
                  <a:latin typeface="Times New Roman"/>
                  <a:ea typeface="黑体"/>
                </a:rPr>
                <a:t>飞夺泸定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831960" y="3166920"/>
              <a:ext cx="395280" cy="1622520"/>
            </a:xfrm>
            <a:custGeom>
              <a:avLst/>
              <a:gdLst>
                <a:gd name="textAreaLeft" fmla="*/ 52920 w 395280"/>
                <a:gd name="textAreaRight" fmla="*/ 342360 w 395280"/>
                <a:gd name="textAreaTop" fmla="*/ 297720 h 1622520"/>
                <a:gd name="textAreaBottom" fmla="*/ 1153440 h 162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931" stAng="-5400000" swAng="5400000"/>
                  <a:lnTo>
                    <a:pt x="21600" y="11388"/>
                  </a:lnTo>
                  <a:arcTo wR="21600" hR="7931" stAng="0" swAng="2764861"/>
                  <a:lnTo>
                    <a:pt x="7200" y="21146"/>
                  </a:lnTo>
                  <a:lnTo>
                    <a:pt x="0" y="17590"/>
                  </a:lnTo>
                  <a:lnTo>
                    <a:pt x="7200" y="13125"/>
                  </a:lnTo>
                  <a:lnTo>
                    <a:pt x="7200" y="15407"/>
                  </a:lnTo>
                  <a:arcTo wR="21600" hR="7931" stAng="2764861" swAng="-2483614"/>
                  <a:lnTo>
                    <a:pt x="21081" y="9659"/>
                  </a:lnTo>
                  <a:arcTo wR="21600" hR="7931" stAng="-281247" swAng="-5118753"/>
                  <a:close/>
                </a:path>
                <a:path fill="darkenLess" w="21600" h="21600">
                  <a:moveTo>
                    <a:pt x="0" y="0"/>
                  </a:moveTo>
                  <a:arcTo wR="21600" hR="7931" stAng="-5400000" swAng="5400000"/>
                  <a:lnTo>
                    <a:pt x="21600" y="11388"/>
                  </a:lnTo>
                  <a:arcTo wR="21600" hR="7931" stAng="0" swAng="-281247"/>
                  <a:lnTo>
                    <a:pt x="21081" y="9659"/>
                  </a:lnTo>
                  <a:arcTo wR="21600" hR="7931" stAng="-281247" swAng="-5118753"/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3540240" y="2701800"/>
            <a:ext cx="2417400" cy="1079640"/>
            <a:chOff x="3540240" y="2701800"/>
            <a:chExt cx="2417400" cy="1079640"/>
          </a:xfrm>
        </p:grpSpPr>
        <p:sp>
          <p:nvSpPr>
            <p:cNvPr id="577" name=""/>
            <p:cNvSpPr/>
            <p:nvPr/>
          </p:nvSpPr>
          <p:spPr>
            <a:xfrm flipH="1">
              <a:off x="5381280" y="3244680"/>
              <a:ext cx="57636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540240" y="2701800"/>
              <a:ext cx="1908000" cy="10796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66"/>
                  </a:solidFill>
                  <a:latin typeface="Times New Roman"/>
                  <a:ea typeface="黑体"/>
                </a:rPr>
                <a:t>巧渡金沙江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1308240" y="2701800"/>
            <a:ext cx="2237760" cy="1079640"/>
            <a:chOff x="1308240" y="2701800"/>
            <a:chExt cx="2237760" cy="1079640"/>
          </a:xfrm>
        </p:grpSpPr>
        <p:sp>
          <p:nvSpPr>
            <p:cNvPr id="580" name=""/>
            <p:cNvSpPr/>
            <p:nvPr/>
          </p:nvSpPr>
          <p:spPr>
            <a:xfrm>
              <a:off x="1308240" y="2701800"/>
              <a:ext cx="1907640" cy="10796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66"/>
                  </a:solidFill>
                  <a:latin typeface="Times New Roman"/>
                  <a:ea typeface="黑体"/>
                </a:rPr>
                <a:t>强渡大渡河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>
              <a:off x="3186000" y="3241440"/>
              <a:ext cx="36000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6919920" y="4024440"/>
            <a:ext cx="1947960" cy="1079280"/>
            <a:chOff x="6919920" y="4024440"/>
            <a:chExt cx="1947960" cy="1079280"/>
          </a:xfrm>
        </p:grpSpPr>
        <p:sp>
          <p:nvSpPr>
            <p:cNvPr id="583" name=""/>
            <p:cNvSpPr/>
            <p:nvPr/>
          </p:nvSpPr>
          <p:spPr>
            <a:xfrm>
              <a:off x="6919920" y="4563720"/>
              <a:ext cx="36036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236000" y="4024440"/>
              <a:ext cx="1631880" cy="10792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66"/>
                  </a:solidFill>
                  <a:latin typeface="Times New Roman"/>
                  <a:ea typeface="黑体"/>
                </a:rPr>
                <a:t>陕北吴起镇会师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1308240" y="1432080"/>
            <a:ext cx="1908000" cy="10792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黑体"/>
              </a:rPr>
              <a:t>中央革命根据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411880" y="1432080"/>
            <a:ext cx="1563120" cy="1079280"/>
            <a:chOff x="5411880" y="1432080"/>
            <a:chExt cx="1563120" cy="1079280"/>
          </a:xfrm>
        </p:grpSpPr>
        <p:sp>
          <p:nvSpPr>
            <p:cNvPr id="587" name=""/>
            <p:cNvSpPr/>
            <p:nvPr/>
          </p:nvSpPr>
          <p:spPr>
            <a:xfrm>
              <a:off x="5964120" y="1432080"/>
              <a:ext cx="1010880" cy="10792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66"/>
                  </a:solidFill>
                  <a:latin typeface="Times New Roman"/>
                  <a:ea typeface="黑体"/>
                </a:rPr>
                <a:t>突破湘江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411880" y="1971360"/>
              <a:ext cx="57600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6892920" y="1432080"/>
            <a:ext cx="1353960" cy="1079280"/>
            <a:chOff x="6892920" y="1432080"/>
            <a:chExt cx="1353960" cy="1079280"/>
          </a:xfrm>
        </p:grpSpPr>
        <p:sp>
          <p:nvSpPr>
            <p:cNvPr id="590" name=""/>
            <p:cNvSpPr/>
            <p:nvPr/>
          </p:nvSpPr>
          <p:spPr>
            <a:xfrm>
              <a:off x="6892920" y="1971360"/>
              <a:ext cx="36036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236000" y="1432080"/>
              <a:ext cx="1010880" cy="10792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66"/>
                  </a:solidFill>
                  <a:latin typeface="Times New Roman"/>
                  <a:ea typeface="黑体"/>
                </a:rPr>
                <a:t>渡过乌江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7236000" y="1800360"/>
            <a:ext cx="1457280" cy="1981080"/>
            <a:chOff x="7236000" y="1800360"/>
            <a:chExt cx="1457280" cy="1981080"/>
          </a:xfrm>
        </p:grpSpPr>
        <p:sp>
          <p:nvSpPr>
            <p:cNvPr id="593" name=""/>
            <p:cNvSpPr/>
            <p:nvPr/>
          </p:nvSpPr>
          <p:spPr>
            <a:xfrm>
              <a:off x="8298000" y="1800360"/>
              <a:ext cx="395280" cy="1622520"/>
            </a:xfrm>
            <a:custGeom>
              <a:avLst/>
              <a:gdLst>
                <a:gd name="textAreaLeft" fmla="*/ 52920 w 395280"/>
                <a:gd name="textAreaRight" fmla="*/ 342360 w 395280"/>
                <a:gd name="textAreaTop" fmla="*/ 297720 h 1622520"/>
                <a:gd name="textAreaBottom" fmla="*/ 1153440 h 162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931" stAng="-5400000" swAng="5400000"/>
                  <a:lnTo>
                    <a:pt x="21600" y="11388"/>
                  </a:lnTo>
                  <a:arcTo wR="21600" hR="7931" stAng="0" swAng="2764861"/>
                  <a:lnTo>
                    <a:pt x="7200" y="21146"/>
                  </a:lnTo>
                  <a:lnTo>
                    <a:pt x="0" y="17590"/>
                  </a:lnTo>
                  <a:lnTo>
                    <a:pt x="7200" y="13125"/>
                  </a:lnTo>
                  <a:lnTo>
                    <a:pt x="7200" y="15407"/>
                  </a:lnTo>
                  <a:arcTo wR="21600" hR="7931" stAng="2764861" swAng="-2483614"/>
                  <a:lnTo>
                    <a:pt x="21081" y="9659"/>
                  </a:lnTo>
                  <a:arcTo wR="21600" hR="7931" stAng="-281247" swAng="-5118753"/>
                  <a:close/>
                </a:path>
                <a:path fill="darkenLess" w="21600" h="21600">
                  <a:moveTo>
                    <a:pt x="0" y="0"/>
                  </a:moveTo>
                  <a:arcTo wR="21600" hR="7931" stAng="-5400000" swAng="5400000"/>
                  <a:lnTo>
                    <a:pt x="21600" y="11388"/>
                  </a:lnTo>
                  <a:arcTo wR="21600" hR="7931" stAng="0" swAng="-281247"/>
                  <a:lnTo>
                    <a:pt x="21081" y="9659"/>
                  </a:lnTo>
                  <a:arcTo wR="21600" hR="7931" stAng="-281247" swAng="-5118753"/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236000" y="2702160"/>
              <a:ext cx="1011240" cy="10792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66"/>
                  </a:solidFill>
                  <a:latin typeface="Times New Roman"/>
                  <a:ea typeface="黑体"/>
                </a:rPr>
                <a:t>解放遵义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3228840" y="1432080"/>
            <a:ext cx="2219400" cy="1079280"/>
            <a:chOff x="3228840" y="1432080"/>
            <a:chExt cx="2219400" cy="1079280"/>
          </a:xfrm>
        </p:grpSpPr>
        <p:sp>
          <p:nvSpPr>
            <p:cNvPr id="596" name=""/>
            <p:cNvSpPr/>
            <p:nvPr/>
          </p:nvSpPr>
          <p:spPr>
            <a:xfrm>
              <a:off x="3228840" y="1971360"/>
              <a:ext cx="36036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539880" y="1432080"/>
              <a:ext cx="1908360" cy="10792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66"/>
                  </a:solidFill>
                  <a:latin typeface="Times New Roman"/>
                  <a:ea typeface="黑体"/>
                </a:rPr>
                <a:t>突破四道封锁线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5443560" y="4024440"/>
            <a:ext cx="1531800" cy="1079280"/>
            <a:chOff x="5443560" y="4024440"/>
            <a:chExt cx="1531800" cy="1079280"/>
          </a:xfrm>
        </p:grpSpPr>
        <p:sp>
          <p:nvSpPr>
            <p:cNvPr id="599" name=""/>
            <p:cNvSpPr/>
            <p:nvPr/>
          </p:nvSpPr>
          <p:spPr>
            <a:xfrm>
              <a:off x="5443560" y="4551120"/>
              <a:ext cx="57636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964120" y="4024440"/>
              <a:ext cx="1011240" cy="10792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66"/>
                  </a:solidFill>
                  <a:latin typeface="Times New Roman"/>
                  <a:ea typeface="黑体"/>
                </a:rPr>
                <a:t>过草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5964120" y="2705040"/>
            <a:ext cx="1309320" cy="1079640"/>
            <a:chOff x="5964120" y="2705040"/>
            <a:chExt cx="1309320" cy="1079640"/>
          </a:xfrm>
        </p:grpSpPr>
        <p:sp>
          <p:nvSpPr>
            <p:cNvPr id="602" name=""/>
            <p:cNvSpPr/>
            <p:nvPr/>
          </p:nvSpPr>
          <p:spPr>
            <a:xfrm flipH="1">
              <a:off x="6913080" y="3244680"/>
              <a:ext cx="36036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964120" y="2705040"/>
              <a:ext cx="1011240" cy="10796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66"/>
                  </a:solidFill>
                  <a:latin typeface="Times New Roman"/>
                  <a:ea typeface="黑体"/>
                </a:rPr>
                <a:t>四渡赤水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7035840" y="5235480"/>
            <a:ext cx="1987560" cy="52056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  <a:ea typeface="黑体"/>
              </a:rPr>
              <a:t>1935</a:t>
            </a:r>
            <a:r>
              <a:rPr b="1" lang="zh-CN" sz="2800" spc="-1" strike="noStrike">
                <a:solidFill>
                  <a:srgbClr val="ffff66"/>
                </a:solidFill>
                <a:latin typeface="Times New Roman"/>
                <a:ea typeface="黑体"/>
              </a:rPr>
              <a:t>年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  <a:ea typeface="黑体"/>
              </a:rPr>
              <a:t>10</a:t>
            </a:r>
            <a:r>
              <a:rPr b="1" lang="zh-CN" sz="2800" spc="-1" strike="noStrike">
                <a:solidFill>
                  <a:srgbClr val="ffff66"/>
                </a:solidFill>
                <a:latin typeface="Times New Roman"/>
                <a:ea typeface="黑体"/>
              </a:rPr>
              <a:t>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209600" y="58680"/>
            <a:ext cx="438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红军不怕远征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959360" y="856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1934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、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8" name=""/>
          <p:cNvSpPr/>
          <p:nvPr/>
        </p:nvSpPr>
        <p:spPr>
          <a:xfrm>
            <a:off x="4680" y="12384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七律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·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长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65240" y="1036800"/>
            <a:ext cx="443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1935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年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月  毛 泽东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84120" y="1720800"/>
            <a:ext cx="426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红军不怕远征难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84120" y="2290680"/>
            <a:ext cx="403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万水千山只等闲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4120" y="2874960"/>
            <a:ext cx="403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五岭逶迤腾细浪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84120" y="3483000"/>
            <a:ext cx="396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乌蒙磅礴走泥丸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84120" y="4022640"/>
            <a:ext cx="40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金沙水拍云崖暖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84120" y="4624560"/>
            <a:ext cx="42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大渡桥横铁索寒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84120" y="523404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更喜岷山千里雪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4120" y="5819760"/>
            <a:ext cx="403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三军过后尽开颜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2"/>
          <a:stretch/>
        </p:blipFill>
        <p:spPr>
          <a:xfrm>
            <a:off x="4033800" y="628560"/>
            <a:ext cx="501012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20" name=""/>
          <p:cNvGrpSpPr/>
          <p:nvPr/>
        </p:nvGrpSpPr>
        <p:grpSpPr>
          <a:xfrm>
            <a:off x="-539640" y="2131920"/>
            <a:ext cx="7638120" cy="2187360"/>
            <a:chOff x="-539640" y="2131920"/>
            <a:chExt cx="7638120" cy="2187360"/>
          </a:xfrm>
        </p:grpSpPr>
        <p:sp>
          <p:nvSpPr>
            <p:cNvPr id="621" name=""/>
            <p:cNvSpPr/>
            <p:nvPr/>
          </p:nvSpPr>
          <p:spPr>
            <a:xfrm>
              <a:off x="-539640" y="2903400"/>
              <a:ext cx="395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红军长征胜利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3262320" y="2131920"/>
              <a:ext cx="3836160" cy="2187360"/>
              <a:chOff x="3262320" y="2131920"/>
              <a:chExt cx="3836160" cy="2187360"/>
            </a:xfrm>
          </p:grpSpPr>
          <p:grpSp>
            <p:nvGrpSpPr>
              <p:cNvPr id="623" name=""/>
              <p:cNvGrpSpPr/>
              <p:nvPr/>
            </p:nvGrpSpPr>
            <p:grpSpPr>
              <a:xfrm>
                <a:off x="3521880" y="2131920"/>
                <a:ext cx="3576600" cy="2187360"/>
                <a:chOff x="3521880" y="2131920"/>
                <a:chExt cx="3576600" cy="218736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3521880" y="3676680"/>
                  <a:ext cx="35766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600" spc="-1" strike="noStrike">
                      <a:solidFill>
                        <a:srgbClr val="000000"/>
                      </a:solidFill>
                      <a:latin typeface="Times New Roman"/>
                    </a:rPr>
                    <a:t>标志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3521880" y="2131920"/>
                  <a:ext cx="14457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600" spc="-1" strike="noStrike">
                      <a:solidFill>
                        <a:srgbClr val="000000"/>
                      </a:solidFill>
                      <a:latin typeface="Times New Roman"/>
                    </a:rPr>
                    <a:t>时间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3521880" y="2911320"/>
                  <a:ext cx="12934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600" spc="-1" strike="noStrike">
                      <a:solidFill>
                        <a:srgbClr val="000000"/>
                      </a:solidFill>
                      <a:latin typeface="Times New Roman"/>
                    </a:rPr>
                    <a:t>地点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7" name=""/>
              <p:cNvSpPr/>
              <p:nvPr/>
            </p:nvSpPr>
            <p:spPr>
              <a:xfrm>
                <a:off x="3262320" y="2436840"/>
                <a:ext cx="361080" cy="1662120"/>
              </a:xfrm>
              <a:custGeom>
                <a:avLst/>
                <a:gdLst>
                  <a:gd name="textAreaLeft" fmla="*/ 230760 w 361080"/>
                  <a:gd name="textAreaRight" fmla="*/ 361440 w 361080"/>
                  <a:gd name="textAreaTop" fmla="*/ 43200 h 1662120"/>
                  <a:gd name="textAreaBottom" fmla="*/ 1618920 h 1662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492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8" name=""/>
          <p:cNvSpPr/>
          <p:nvPr/>
        </p:nvSpPr>
        <p:spPr>
          <a:xfrm>
            <a:off x="5322960" y="2246400"/>
            <a:ext cx="20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936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年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348160" y="29592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甘肃会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348160" y="3540240"/>
            <a:ext cx="168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三大主力红军会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117360" y="757080"/>
            <a:ext cx="14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原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17360" y="1538280"/>
            <a:ext cx="126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经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338120" y="798480"/>
            <a:ext cx="55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红军              反“围剿”失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338560" y="798480"/>
            <a:ext cx="157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第五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3214800" y="4024440"/>
            <a:ext cx="2233440" cy="1079280"/>
            <a:chOff x="3214800" y="4024440"/>
            <a:chExt cx="2233440" cy="1079280"/>
          </a:xfrm>
        </p:grpSpPr>
        <p:sp>
          <p:nvSpPr>
            <p:cNvPr id="637" name=""/>
            <p:cNvSpPr/>
            <p:nvPr/>
          </p:nvSpPr>
          <p:spPr>
            <a:xfrm>
              <a:off x="3214800" y="4563720"/>
              <a:ext cx="36036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540240" y="4024440"/>
              <a:ext cx="1908000" cy="10792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66"/>
                  </a:solidFill>
                  <a:latin typeface="Times New Roman"/>
                  <a:ea typeface="黑体"/>
                </a:rPr>
                <a:t>爬雪山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831960" y="3166920"/>
            <a:ext cx="2384280" cy="1936800"/>
            <a:chOff x="831960" y="3166920"/>
            <a:chExt cx="2384280" cy="1936800"/>
          </a:xfrm>
        </p:grpSpPr>
        <p:sp>
          <p:nvSpPr>
            <p:cNvPr id="640" name=""/>
            <p:cNvSpPr/>
            <p:nvPr/>
          </p:nvSpPr>
          <p:spPr>
            <a:xfrm>
              <a:off x="1308240" y="4024080"/>
              <a:ext cx="1908000" cy="10796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66"/>
                  </a:solidFill>
                  <a:latin typeface="Times New Roman"/>
                  <a:ea typeface="黑体"/>
                </a:rPr>
                <a:t>飞夺泸定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831960" y="3166920"/>
              <a:ext cx="395280" cy="1622520"/>
            </a:xfrm>
            <a:custGeom>
              <a:avLst/>
              <a:gdLst>
                <a:gd name="textAreaLeft" fmla="*/ 52920 w 395280"/>
                <a:gd name="textAreaRight" fmla="*/ 342360 w 395280"/>
                <a:gd name="textAreaTop" fmla="*/ 297720 h 1622520"/>
                <a:gd name="textAreaBottom" fmla="*/ 1153440 h 162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931" stAng="-5400000" swAng="5400000"/>
                  <a:lnTo>
                    <a:pt x="21600" y="11388"/>
                  </a:lnTo>
                  <a:arcTo wR="21600" hR="7931" stAng="0" swAng="2764861"/>
                  <a:lnTo>
                    <a:pt x="7200" y="21146"/>
                  </a:lnTo>
                  <a:lnTo>
                    <a:pt x="0" y="17590"/>
                  </a:lnTo>
                  <a:lnTo>
                    <a:pt x="7200" y="13125"/>
                  </a:lnTo>
                  <a:lnTo>
                    <a:pt x="7200" y="15407"/>
                  </a:lnTo>
                  <a:arcTo wR="21600" hR="7931" stAng="2764861" swAng="-2483614"/>
                  <a:lnTo>
                    <a:pt x="21081" y="9659"/>
                  </a:lnTo>
                  <a:arcTo wR="21600" hR="7931" stAng="-281247" swAng="-5118753"/>
                  <a:close/>
                </a:path>
                <a:path fill="darkenLess" w="21600" h="21600">
                  <a:moveTo>
                    <a:pt x="0" y="0"/>
                  </a:moveTo>
                  <a:arcTo wR="21600" hR="7931" stAng="-5400000" swAng="5400000"/>
                  <a:lnTo>
                    <a:pt x="21600" y="11388"/>
                  </a:lnTo>
                  <a:arcTo wR="21600" hR="7931" stAng="0" swAng="-281247"/>
                  <a:lnTo>
                    <a:pt x="21081" y="9659"/>
                  </a:lnTo>
                  <a:arcTo wR="21600" hR="7931" stAng="-281247" swAng="-5118753"/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3540240" y="2701800"/>
            <a:ext cx="2417400" cy="1079640"/>
            <a:chOff x="3540240" y="2701800"/>
            <a:chExt cx="2417400" cy="1079640"/>
          </a:xfrm>
        </p:grpSpPr>
        <p:sp>
          <p:nvSpPr>
            <p:cNvPr id="643" name=""/>
            <p:cNvSpPr/>
            <p:nvPr/>
          </p:nvSpPr>
          <p:spPr>
            <a:xfrm flipH="1">
              <a:off x="5381280" y="3244680"/>
              <a:ext cx="57636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540240" y="2701800"/>
              <a:ext cx="1908000" cy="10796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66"/>
                  </a:solidFill>
                  <a:latin typeface="Times New Roman"/>
                  <a:ea typeface="黑体"/>
                </a:rPr>
                <a:t>巧渡金沙江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1308240" y="2701800"/>
            <a:ext cx="2237760" cy="1079640"/>
            <a:chOff x="1308240" y="2701800"/>
            <a:chExt cx="2237760" cy="1079640"/>
          </a:xfrm>
        </p:grpSpPr>
        <p:sp>
          <p:nvSpPr>
            <p:cNvPr id="646" name=""/>
            <p:cNvSpPr/>
            <p:nvPr/>
          </p:nvSpPr>
          <p:spPr>
            <a:xfrm>
              <a:off x="1308240" y="2701800"/>
              <a:ext cx="1907640" cy="10796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66"/>
                  </a:solidFill>
                  <a:latin typeface="Times New Roman"/>
                  <a:ea typeface="黑体"/>
                </a:rPr>
                <a:t>强渡大渡河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3186000" y="3241440"/>
              <a:ext cx="36000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8" name=""/>
          <p:cNvSpPr/>
          <p:nvPr/>
        </p:nvSpPr>
        <p:spPr>
          <a:xfrm>
            <a:off x="1308240" y="1432080"/>
            <a:ext cx="1908000" cy="10792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黑体"/>
              </a:rPr>
              <a:t>中央革命根据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5411880" y="1432080"/>
            <a:ext cx="1563120" cy="1079280"/>
            <a:chOff x="5411880" y="1432080"/>
            <a:chExt cx="1563120" cy="1079280"/>
          </a:xfrm>
        </p:grpSpPr>
        <p:sp>
          <p:nvSpPr>
            <p:cNvPr id="650" name=""/>
            <p:cNvSpPr/>
            <p:nvPr/>
          </p:nvSpPr>
          <p:spPr>
            <a:xfrm>
              <a:off x="5964120" y="1432080"/>
              <a:ext cx="1010880" cy="10792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66"/>
                  </a:solidFill>
                  <a:latin typeface="Times New Roman"/>
                  <a:ea typeface="黑体"/>
                </a:rPr>
                <a:t>突破湘江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411880" y="1971360"/>
              <a:ext cx="57600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892920" y="1432080"/>
            <a:ext cx="1353960" cy="1079280"/>
            <a:chOff x="6892920" y="1432080"/>
            <a:chExt cx="1353960" cy="1079280"/>
          </a:xfrm>
        </p:grpSpPr>
        <p:sp>
          <p:nvSpPr>
            <p:cNvPr id="653" name=""/>
            <p:cNvSpPr/>
            <p:nvPr/>
          </p:nvSpPr>
          <p:spPr>
            <a:xfrm>
              <a:off x="6892920" y="1971360"/>
              <a:ext cx="36036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236000" y="1432080"/>
              <a:ext cx="1010880" cy="10792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66"/>
                  </a:solidFill>
                  <a:latin typeface="Times New Roman"/>
                  <a:ea typeface="黑体"/>
                </a:rPr>
                <a:t>渡过乌江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7236000" y="1800360"/>
            <a:ext cx="1457280" cy="1981080"/>
            <a:chOff x="7236000" y="1800360"/>
            <a:chExt cx="1457280" cy="1981080"/>
          </a:xfrm>
        </p:grpSpPr>
        <p:sp>
          <p:nvSpPr>
            <p:cNvPr id="656" name=""/>
            <p:cNvSpPr/>
            <p:nvPr/>
          </p:nvSpPr>
          <p:spPr>
            <a:xfrm>
              <a:off x="8298000" y="1800360"/>
              <a:ext cx="395280" cy="1622520"/>
            </a:xfrm>
            <a:custGeom>
              <a:avLst/>
              <a:gdLst>
                <a:gd name="textAreaLeft" fmla="*/ 52920 w 395280"/>
                <a:gd name="textAreaRight" fmla="*/ 342360 w 395280"/>
                <a:gd name="textAreaTop" fmla="*/ 297720 h 1622520"/>
                <a:gd name="textAreaBottom" fmla="*/ 1153440 h 162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931" stAng="-5400000" swAng="5400000"/>
                  <a:lnTo>
                    <a:pt x="21600" y="11388"/>
                  </a:lnTo>
                  <a:arcTo wR="21600" hR="7931" stAng="0" swAng="2764861"/>
                  <a:lnTo>
                    <a:pt x="7200" y="21146"/>
                  </a:lnTo>
                  <a:lnTo>
                    <a:pt x="0" y="17590"/>
                  </a:lnTo>
                  <a:lnTo>
                    <a:pt x="7200" y="13125"/>
                  </a:lnTo>
                  <a:lnTo>
                    <a:pt x="7200" y="15407"/>
                  </a:lnTo>
                  <a:arcTo wR="21600" hR="7931" stAng="2764861" swAng="-2483614"/>
                  <a:lnTo>
                    <a:pt x="21081" y="9659"/>
                  </a:lnTo>
                  <a:arcTo wR="21600" hR="7931" stAng="-281247" swAng="-5118753"/>
                  <a:close/>
                </a:path>
                <a:path fill="darkenLess" w="21600" h="21600">
                  <a:moveTo>
                    <a:pt x="0" y="0"/>
                  </a:moveTo>
                  <a:arcTo wR="21600" hR="7931" stAng="-5400000" swAng="5400000"/>
                  <a:lnTo>
                    <a:pt x="21600" y="11388"/>
                  </a:lnTo>
                  <a:arcTo wR="21600" hR="7931" stAng="0" swAng="-281247"/>
                  <a:lnTo>
                    <a:pt x="21081" y="9659"/>
                  </a:lnTo>
                  <a:arcTo wR="21600" hR="7931" stAng="-281247" swAng="-5118753"/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236000" y="2702160"/>
              <a:ext cx="1011240" cy="10792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66"/>
                  </a:solidFill>
                  <a:latin typeface="Times New Roman"/>
                  <a:ea typeface="黑体"/>
                </a:rPr>
                <a:t>解放遵义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3228840" y="1432080"/>
            <a:ext cx="2219400" cy="1079280"/>
            <a:chOff x="3228840" y="1432080"/>
            <a:chExt cx="2219400" cy="1079280"/>
          </a:xfrm>
        </p:grpSpPr>
        <p:sp>
          <p:nvSpPr>
            <p:cNvPr id="659" name=""/>
            <p:cNvSpPr/>
            <p:nvPr/>
          </p:nvSpPr>
          <p:spPr>
            <a:xfrm>
              <a:off x="3228840" y="1971360"/>
              <a:ext cx="36036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539880" y="1432080"/>
              <a:ext cx="1908360" cy="10792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66"/>
                  </a:solidFill>
                  <a:latin typeface="Times New Roman"/>
                  <a:ea typeface="黑体"/>
                </a:rPr>
                <a:t>突破四道封锁线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5964120" y="2705040"/>
            <a:ext cx="1309320" cy="1079640"/>
            <a:chOff x="5964120" y="2705040"/>
            <a:chExt cx="1309320" cy="1079640"/>
          </a:xfrm>
        </p:grpSpPr>
        <p:sp>
          <p:nvSpPr>
            <p:cNvPr id="662" name=""/>
            <p:cNvSpPr/>
            <p:nvPr/>
          </p:nvSpPr>
          <p:spPr>
            <a:xfrm flipH="1">
              <a:off x="6913080" y="3244680"/>
              <a:ext cx="36036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964120" y="2705040"/>
              <a:ext cx="1011240" cy="10796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66"/>
                  </a:solidFill>
                  <a:latin typeface="Times New Roman"/>
                  <a:ea typeface="黑体"/>
                </a:rPr>
                <a:t>四渡赤水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4" name=""/>
          <p:cNvGrpSpPr/>
          <p:nvPr/>
        </p:nvGrpSpPr>
        <p:grpSpPr>
          <a:xfrm>
            <a:off x="6426360" y="4422600"/>
            <a:ext cx="2721960" cy="1890720"/>
            <a:chOff x="6426360" y="4422600"/>
            <a:chExt cx="2721960" cy="1890720"/>
          </a:xfrm>
        </p:grpSpPr>
        <p:sp>
          <p:nvSpPr>
            <p:cNvPr id="665" name=""/>
            <p:cNvSpPr/>
            <p:nvPr/>
          </p:nvSpPr>
          <p:spPr>
            <a:xfrm>
              <a:off x="6426360" y="5233680"/>
              <a:ext cx="2360160" cy="10796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66"/>
                  </a:solidFill>
                  <a:latin typeface="Times New Roman"/>
                  <a:ea typeface="黑体"/>
                </a:rPr>
                <a:t>三大主力红军甘肃会师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8753400" y="4422600"/>
              <a:ext cx="394920" cy="1622520"/>
            </a:xfrm>
            <a:custGeom>
              <a:avLst/>
              <a:gdLst>
                <a:gd name="textAreaLeft" fmla="*/ 52920 w 394920"/>
                <a:gd name="textAreaRight" fmla="*/ 342000 w 394920"/>
                <a:gd name="textAreaTop" fmla="*/ 297720 h 1622520"/>
                <a:gd name="textAreaBottom" fmla="*/ 1153440 h 162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931" stAng="-5400000" swAng="5400000"/>
                  <a:lnTo>
                    <a:pt x="21600" y="11388"/>
                  </a:lnTo>
                  <a:arcTo wR="21600" hR="7931" stAng="0" swAng="2764861"/>
                  <a:lnTo>
                    <a:pt x="7200" y="21146"/>
                  </a:lnTo>
                  <a:lnTo>
                    <a:pt x="0" y="17590"/>
                  </a:lnTo>
                  <a:lnTo>
                    <a:pt x="7200" y="13125"/>
                  </a:lnTo>
                  <a:lnTo>
                    <a:pt x="7200" y="15407"/>
                  </a:lnTo>
                  <a:arcTo wR="21600" hR="7931" stAng="2764861" swAng="-2483614"/>
                  <a:lnTo>
                    <a:pt x="21081" y="9659"/>
                  </a:lnTo>
                  <a:arcTo wR="21600" hR="7931" stAng="-281247" swAng="-5118753"/>
                  <a:close/>
                </a:path>
                <a:path fill="darkenLess" w="21600" h="21600">
                  <a:moveTo>
                    <a:pt x="0" y="0"/>
                  </a:moveTo>
                  <a:arcTo wR="21600" hR="7931" stAng="-5400000" swAng="5400000"/>
                  <a:lnTo>
                    <a:pt x="21600" y="11388"/>
                  </a:lnTo>
                  <a:arcTo wR="21600" hR="7931" stAng="0" swAng="-281247"/>
                  <a:lnTo>
                    <a:pt x="21081" y="9659"/>
                  </a:lnTo>
                  <a:arcTo wR="21600" hR="7931" stAng="-281247" swAng="-5118753"/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6919920" y="4024440"/>
            <a:ext cx="1947960" cy="1079280"/>
            <a:chOff x="6919920" y="4024440"/>
            <a:chExt cx="1947960" cy="1079280"/>
          </a:xfrm>
        </p:grpSpPr>
        <p:sp>
          <p:nvSpPr>
            <p:cNvPr id="668" name=""/>
            <p:cNvSpPr/>
            <p:nvPr/>
          </p:nvSpPr>
          <p:spPr>
            <a:xfrm>
              <a:off x="6919920" y="4563720"/>
              <a:ext cx="36036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236000" y="4024440"/>
              <a:ext cx="1631880" cy="10792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66"/>
                  </a:solidFill>
                  <a:latin typeface="Times New Roman"/>
                  <a:ea typeface="黑体"/>
                </a:rPr>
                <a:t>陕北吴起镇会师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0" name=""/>
          <p:cNvGrpSpPr/>
          <p:nvPr/>
        </p:nvGrpSpPr>
        <p:grpSpPr>
          <a:xfrm>
            <a:off x="5443560" y="4024440"/>
            <a:ext cx="1531800" cy="1079280"/>
            <a:chOff x="5443560" y="4024440"/>
            <a:chExt cx="1531800" cy="1079280"/>
          </a:xfrm>
        </p:grpSpPr>
        <p:sp>
          <p:nvSpPr>
            <p:cNvPr id="671" name=""/>
            <p:cNvSpPr/>
            <p:nvPr/>
          </p:nvSpPr>
          <p:spPr>
            <a:xfrm>
              <a:off x="5443560" y="4551120"/>
              <a:ext cx="57636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964120" y="4024440"/>
              <a:ext cx="1011240" cy="10792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66"/>
                  </a:solidFill>
                  <a:latin typeface="Times New Roman"/>
                  <a:ea typeface="黑体"/>
                </a:rPr>
                <a:t>过草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6219720" y="84240"/>
            <a:ext cx="3502080" cy="6737040"/>
            <a:chOff x="6219720" y="84240"/>
            <a:chExt cx="3502080" cy="6737040"/>
          </a:xfrm>
        </p:grpSpPr>
        <p:grpSp>
          <p:nvGrpSpPr>
            <p:cNvPr id="674" name=""/>
            <p:cNvGrpSpPr/>
            <p:nvPr/>
          </p:nvGrpSpPr>
          <p:grpSpPr>
            <a:xfrm>
              <a:off x="6311880" y="84240"/>
              <a:ext cx="3409920" cy="581400"/>
              <a:chOff x="6311880" y="84240"/>
              <a:chExt cx="3409920" cy="581400"/>
            </a:xfrm>
          </p:grpSpPr>
          <p:sp>
            <p:nvSpPr>
              <p:cNvPr id="675" name=""/>
              <p:cNvSpPr/>
              <p:nvPr/>
            </p:nvSpPr>
            <p:spPr>
              <a:xfrm>
                <a:off x="6632640" y="84240"/>
                <a:ext cx="3089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Times New Roman"/>
                    <a:ea typeface="华文行楷"/>
                  </a:rPr>
                  <a:t>1936</a:t>
                </a:r>
                <a:r>
                  <a:rPr b="1" lang="zh-CN" sz="3200" spc="-1" strike="noStrike">
                    <a:solidFill>
                      <a:srgbClr val="0000ff"/>
                    </a:solidFill>
                    <a:latin typeface="Times New Roman"/>
                    <a:ea typeface="华文行楷"/>
                  </a:rPr>
                  <a:t>、</a:t>
                </a:r>
                <a:r>
                  <a:rPr b="1" lang="en-US" sz="3200" spc="-1" strike="noStrike">
                    <a:solidFill>
                      <a:srgbClr val="0000ff"/>
                    </a:solidFill>
                    <a:latin typeface="Times New Roman"/>
                    <a:ea typeface="华文行楷"/>
                  </a:rPr>
                  <a:t>10)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6311880" y="435240"/>
                <a:ext cx="8319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7" name=""/>
            <p:cNvSpPr/>
            <p:nvPr/>
          </p:nvSpPr>
          <p:spPr>
            <a:xfrm>
              <a:off x="6219720" y="630072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1936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年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月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95400" y="31680"/>
            <a:ext cx="438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红军不怕远征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914640" y="1224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(1934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、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6360" y="260280"/>
            <a:ext cx="864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Times New Roman"/>
                <a:ea typeface="华文仿宋"/>
              </a:rPr>
              <a:t> </a:t>
            </a:r>
            <a:r>
              <a:rPr b="1" lang="zh-CN" sz="5400" spc="-1" strike="noStrike">
                <a:solidFill>
                  <a:srgbClr val="000099"/>
                </a:solidFill>
                <a:latin typeface="Times New Roman"/>
                <a:ea typeface="华文仿宋"/>
              </a:rPr>
              <a:t>农村革命根据地建设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59280" y="105264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华文隶书"/>
                <a:ea typeface="华文隶书"/>
              </a:rPr>
              <a:t>攻打城市失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284720" y="1557360"/>
            <a:ext cx="216000" cy="503280"/>
          </a:xfrm>
          <a:prstGeom prst="downArrow">
            <a:avLst>
              <a:gd name="adj1" fmla="val 50000"/>
              <a:gd name="adj2" fmla="val 5825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95640" y="1989000"/>
            <a:ext cx="475272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华文隶书"/>
                <a:ea typeface="华文隶书"/>
              </a:rPr>
              <a:t>     </a:t>
            </a:r>
            <a:r>
              <a:rPr b="1" lang="zh-CN" sz="3200" spc="-1" strike="noStrike">
                <a:solidFill>
                  <a:srgbClr val="800080"/>
                </a:solidFill>
                <a:latin typeface="华文隶书"/>
                <a:ea typeface="华文隶书"/>
              </a:rPr>
              <a:t>文家市决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华文隶书"/>
                <a:ea typeface="华文隶书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（革命重心转向农村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84720" y="3068640"/>
            <a:ext cx="216000" cy="503280"/>
          </a:xfrm>
          <a:prstGeom prst="downArrow">
            <a:avLst>
              <a:gd name="adj1" fmla="val 50000"/>
              <a:gd name="adj2" fmla="val 5825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340000" y="3429000"/>
            <a:ext cx="525780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华文隶书"/>
                <a:ea typeface="华文隶书"/>
              </a:rPr>
              <a:t>     </a:t>
            </a:r>
            <a:r>
              <a:rPr b="1" lang="zh-CN" sz="3200" spc="-1" strike="noStrike">
                <a:solidFill>
                  <a:srgbClr val="800080"/>
                </a:solidFill>
                <a:latin typeface="华文隶书"/>
                <a:ea typeface="华文隶书"/>
              </a:rPr>
              <a:t>三湾改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华文隶书"/>
                <a:ea typeface="华文隶书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（确立党对军队的绝对领导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284720" y="4508640"/>
            <a:ext cx="216000" cy="502920"/>
          </a:xfrm>
          <a:prstGeom prst="downArrow">
            <a:avLst>
              <a:gd name="adj1" fmla="val 50000"/>
              <a:gd name="adj2" fmla="val 5820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403280" y="5013360"/>
            <a:ext cx="590544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华文隶书"/>
                <a:ea typeface="华文隶书"/>
              </a:rPr>
              <a:t>     </a:t>
            </a:r>
            <a:r>
              <a:rPr b="1" lang="zh-CN" sz="3200" spc="-1" strike="noStrike">
                <a:solidFill>
                  <a:srgbClr val="800080"/>
                </a:solidFill>
                <a:latin typeface="华文隶书"/>
                <a:ea typeface="华文隶书"/>
              </a:rPr>
              <a:t>建立井冈山革命根据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华文隶书"/>
                <a:ea typeface="华文隶书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（中国第一个农村革命根据地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中央革命根据地最大的农村革命根据地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>
            <a:off x="1506600" y="7318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红军长征中创造的奇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84360" y="1052640"/>
            <a:ext cx="8064360" cy="31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红军长征途中，几乎平均每天就有一次遭遇战，路上一共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368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天，有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天用在打大决战上，有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235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天用在白天行军上，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天用在夜间行军上。在总长约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25000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华里的路上，只休息了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44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天，平均走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365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华里才休息一次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日平均行军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74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华里。</a:t>
            </a:r>
            <a:r>
              <a:rPr b="1" lang="zh-TW" sz="3200" spc="-1" strike="noStrike">
                <a:solidFill>
                  <a:srgbClr val="000000"/>
                </a:solidFill>
                <a:latin typeface="幼圆"/>
                <a:ea typeface="幼圆"/>
              </a:rPr>
              <a:t> 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红军一共爬过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座山脉，其中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座是终年积雪。</a:t>
            </a:r>
            <a:r>
              <a:rPr b="1" lang="zh-CN" sz="3200" spc="-1" strike="noStrike">
                <a:solidFill>
                  <a:srgbClr val="ff3300"/>
                </a:solidFill>
                <a:latin typeface="幼圆"/>
                <a:ea typeface="幼圆"/>
              </a:rPr>
              <a:t>经过</a:t>
            </a:r>
            <a:r>
              <a:rPr b="1" lang="zh-CN" sz="3200" spc="-1" strike="noStrike">
                <a:solidFill>
                  <a:srgbClr val="ff3300"/>
                </a:solidFill>
                <a:latin typeface="幼圆"/>
                <a:ea typeface="幼圆"/>
              </a:rPr>
              <a:t>11</a:t>
            </a:r>
            <a:r>
              <a:rPr b="1" lang="zh-CN" sz="3200" spc="-1" strike="noStrike">
                <a:solidFill>
                  <a:srgbClr val="ff3300"/>
                </a:solidFill>
                <a:latin typeface="幼圆"/>
                <a:ea typeface="幼圆"/>
              </a:rPr>
              <a:t>个省，渡过</a:t>
            </a:r>
            <a:r>
              <a:rPr b="1" lang="zh-CN" sz="3200" spc="-1" strike="noStrike">
                <a:solidFill>
                  <a:srgbClr val="ff3300"/>
                </a:solidFill>
                <a:latin typeface="幼圆"/>
                <a:ea typeface="幼圆"/>
              </a:rPr>
              <a:t>24</a:t>
            </a:r>
            <a:r>
              <a:rPr b="1" lang="zh-CN" sz="3200" spc="-1" strike="noStrike">
                <a:solidFill>
                  <a:srgbClr val="ff3300"/>
                </a:solidFill>
                <a:latin typeface="幼圆"/>
                <a:ea typeface="幼圆"/>
              </a:rPr>
              <a:t>条河流，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占领过大小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62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座城市。</a:t>
            </a:r>
            <a:r>
              <a:rPr b="1" lang="zh-TW" sz="3200" spc="-1" strike="noStrike">
                <a:solidFill>
                  <a:srgbClr val="000000"/>
                </a:solidFill>
                <a:latin typeface="幼圆"/>
                <a:ea typeface="幼圆"/>
              </a:rPr>
              <a:t> </a:t>
            </a:r>
            <a:r>
              <a:rPr b="1" lang="zh-TW" sz="24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ff"/>
                </a:solidFill>
                <a:latin typeface="新宋体"/>
                <a:ea typeface="新宋体"/>
              </a:rPr>
              <a:t> </a:t>
            </a:r>
            <a:r>
              <a:rPr b="0" lang="zh-TW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4" name=""/>
          <p:cNvSpPr/>
          <p:nvPr/>
        </p:nvSpPr>
        <p:spPr>
          <a:xfrm rot="21247800">
            <a:off x="2360160" y="5564160"/>
            <a:ext cx="1068480" cy="257040"/>
          </a:xfrm>
          <a:prstGeom prst="leftArrow">
            <a:avLst>
              <a:gd name="adj1" fmla="val 65593"/>
              <a:gd name="adj2" fmla="val 120568"/>
            </a:avLst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rot="1855200">
            <a:off x="3593880" y="5052600"/>
            <a:ext cx="230040" cy="762120"/>
          </a:xfrm>
          <a:custGeom>
            <a:avLst/>
            <a:gdLst>
              <a:gd name="textAreaLeft" fmla="*/ 30600 w 230040"/>
              <a:gd name="textAreaRight" fmla="*/ 199440 w 230040"/>
              <a:gd name="textAreaTop" fmla="*/ 133200 h 762120"/>
              <a:gd name="textAreaBottom" fmla="*/ 5526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334120" y="5943600"/>
            <a:ext cx="2133360" cy="304920"/>
          </a:xfrm>
          <a:prstGeom prst="leftArrow">
            <a:avLst>
              <a:gd name="adj1" fmla="val 50000"/>
              <a:gd name="adj2" fmla="val 17491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rot="762000">
            <a:off x="2724120" y="1987560"/>
            <a:ext cx="304920" cy="990720"/>
          </a:xfrm>
          <a:prstGeom prst="upArrow">
            <a:avLst>
              <a:gd name="adj1" fmla="val 50000"/>
              <a:gd name="adj2" fmla="val 81228"/>
            </a:avLst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rot="3862200">
            <a:off x="3774600" y="587520"/>
            <a:ext cx="304920" cy="1904760"/>
          </a:xfrm>
          <a:prstGeom prst="upArrow">
            <a:avLst>
              <a:gd name="adj1" fmla="val 50000"/>
              <a:gd name="adj2" fmla="val 156169"/>
            </a:avLst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7086600" y="5410080"/>
            <a:ext cx="5335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幼圆"/>
              </a:rPr>
              <a:t>中   央</a:t>
            </a:r>
            <a:endParaRPr b="0" lang="en-US" sz="24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幼圆"/>
              <a:ea typeface="幼圆"/>
            </a:endParaRPr>
          </a:p>
        </p:txBody>
      </p:sp>
      <p:sp>
        <p:nvSpPr>
          <p:cNvPr id="690" name=""/>
          <p:cNvSpPr/>
          <p:nvPr/>
        </p:nvSpPr>
        <p:spPr>
          <a:xfrm>
            <a:off x="6858000" y="5486400"/>
            <a:ext cx="152280" cy="228600"/>
          </a:xfrm>
          <a:prstGeom prst="triangle">
            <a:avLst>
              <a:gd name="adj" fmla="val 6333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7010280" y="5715000"/>
            <a:ext cx="30492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于都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7620120" y="5715000"/>
            <a:ext cx="30456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瑞金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693" name=""/>
          <p:cNvSpPr/>
          <p:nvPr/>
        </p:nvSpPr>
        <p:spPr>
          <a:xfrm>
            <a:off x="7391520" y="5867280"/>
            <a:ext cx="199800" cy="152640"/>
          </a:xfrm>
          <a:prstGeom prst="star5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4114800" y="4876920"/>
            <a:ext cx="4572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遵义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695" name=""/>
          <p:cNvSpPr/>
          <p:nvPr/>
        </p:nvSpPr>
        <p:spPr>
          <a:xfrm rot="4123800">
            <a:off x="4982760" y="5285880"/>
            <a:ext cx="106704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18707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187072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rot="1095600">
            <a:off x="6139080" y="5830920"/>
            <a:ext cx="133272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55761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55761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rot="3433800">
            <a:off x="5571000" y="5631480"/>
            <a:ext cx="10666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559" y="1357"/>
                </a:moveTo>
                <a:arcTo wR="10800" hR="10800" stAng="-7142001" swAng="4929074"/>
                <a:lnTo>
                  <a:pt x="10800" y="10800"/>
                </a:lnTo>
                <a:close/>
              </a:path>
              <a:path fill="none" w="21600" h="21600">
                <a:moveTo>
                  <a:pt x="5559" y="1357"/>
                </a:moveTo>
                <a:arcTo wR="10800" hR="10800" stAng="-7142001" swAng="492907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rot="5247600">
            <a:off x="4333680" y="4973400"/>
            <a:ext cx="106776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18707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187072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209520" y="1981080"/>
            <a:ext cx="8934480" cy="4419720"/>
            <a:chOff x="209520" y="1981080"/>
            <a:chExt cx="8934480" cy="4419720"/>
          </a:xfrm>
        </p:grpSpPr>
        <p:sp>
          <p:nvSpPr>
            <p:cNvPr id="700" name="未知"/>
            <p:cNvSpPr/>
            <p:nvPr/>
          </p:nvSpPr>
          <p:spPr>
            <a:xfrm>
              <a:off x="5219640" y="4686120"/>
              <a:ext cx="1233360" cy="1714680"/>
            </a:xfrm>
            <a:custGeom>
              <a:avLst/>
              <a:gdLst/>
              <a:ahLst/>
              <a:rect l="l" t="t" r="r" b="b"/>
              <a:pathLst>
                <a:path w="777" h="1080">
                  <a:moveTo>
                    <a:pt x="672" y="0"/>
                  </a:moveTo>
                  <a:cubicBezTo>
                    <a:pt x="694" y="65"/>
                    <a:pt x="722" y="115"/>
                    <a:pt x="744" y="180"/>
                  </a:cubicBezTo>
                  <a:cubicBezTo>
                    <a:pt x="748" y="192"/>
                    <a:pt x="752" y="204"/>
                    <a:pt x="756" y="216"/>
                  </a:cubicBezTo>
                  <a:cubicBezTo>
                    <a:pt x="760" y="228"/>
                    <a:pt x="768" y="252"/>
                    <a:pt x="768" y="252"/>
                  </a:cubicBezTo>
                  <a:cubicBezTo>
                    <a:pt x="759" y="341"/>
                    <a:pt x="777" y="386"/>
                    <a:pt x="708" y="432"/>
                  </a:cubicBezTo>
                  <a:cubicBezTo>
                    <a:pt x="704" y="444"/>
                    <a:pt x="706" y="460"/>
                    <a:pt x="696" y="468"/>
                  </a:cubicBezTo>
                  <a:cubicBezTo>
                    <a:pt x="683" y="478"/>
                    <a:pt x="663" y="474"/>
                    <a:pt x="648" y="480"/>
                  </a:cubicBezTo>
                  <a:cubicBezTo>
                    <a:pt x="635" y="486"/>
                    <a:pt x="624" y="496"/>
                    <a:pt x="612" y="504"/>
                  </a:cubicBezTo>
                  <a:cubicBezTo>
                    <a:pt x="651" y="530"/>
                    <a:pt x="691" y="541"/>
                    <a:pt x="636" y="612"/>
                  </a:cubicBezTo>
                  <a:cubicBezTo>
                    <a:pt x="620" y="632"/>
                    <a:pt x="588" y="628"/>
                    <a:pt x="564" y="636"/>
                  </a:cubicBezTo>
                  <a:cubicBezTo>
                    <a:pt x="550" y="641"/>
                    <a:pt x="540" y="652"/>
                    <a:pt x="528" y="660"/>
                  </a:cubicBezTo>
                  <a:cubicBezTo>
                    <a:pt x="444" y="632"/>
                    <a:pt x="480" y="628"/>
                    <a:pt x="420" y="648"/>
                  </a:cubicBezTo>
                  <a:cubicBezTo>
                    <a:pt x="399" y="711"/>
                    <a:pt x="419" y="677"/>
                    <a:pt x="336" y="732"/>
                  </a:cubicBezTo>
                  <a:cubicBezTo>
                    <a:pt x="324" y="740"/>
                    <a:pt x="300" y="756"/>
                    <a:pt x="300" y="756"/>
                  </a:cubicBezTo>
                  <a:cubicBezTo>
                    <a:pt x="283" y="782"/>
                    <a:pt x="257" y="802"/>
                    <a:pt x="240" y="828"/>
                  </a:cubicBezTo>
                  <a:cubicBezTo>
                    <a:pt x="194" y="898"/>
                    <a:pt x="273" y="834"/>
                    <a:pt x="192" y="888"/>
                  </a:cubicBezTo>
                  <a:cubicBezTo>
                    <a:pt x="171" y="951"/>
                    <a:pt x="191" y="917"/>
                    <a:pt x="108" y="972"/>
                  </a:cubicBezTo>
                  <a:cubicBezTo>
                    <a:pt x="96" y="980"/>
                    <a:pt x="72" y="996"/>
                    <a:pt x="72" y="996"/>
                  </a:cubicBezTo>
                  <a:cubicBezTo>
                    <a:pt x="56" y="1058"/>
                    <a:pt x="55" y="1052"/>
                    <a:pt x="0" y="1080"/>
                  </a:cubicBezTo>
                </a:path>
              </a:pathLst>
            </a:custGeom>
            <a:noFill/>
            <a:ln w="3168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未知"/>
            <p:cNvSpPr/>
            <p:nvPr/>
          </p:nvSpPr>
          <p:spPr>
            <a:xfrm>
              <a:off x="2857320" y="3500280"/>
              <a:ext cx="362160" cy="1243080"/>
            </a:xfrm>
            <a:custGeom>
              <a:avLst/>
              <a:gdLst/>
              <a:ahLst/>
              <a:rect l="l" t="t" r="r" b="b"/>
              <a:pathLst>
                <a:path w="192" h="651">
                  <a:moveTo>
                    <a:pt x="192" y="651"/>
                  </a:moveTo>
                  <a:cubicBezTo>
                    <a:pt x="176" y="647"/>
                    <a:pt x="157" y="649"/>
                    <a:pt x="144" y="639"/>
                  </a:cubicBezTo>
                  <a:cubicBezTo>
                    <a:pt x="134" y="631"/>
                    <a:pt x="140" y="613"/>
                    <a:pt x="132" y="603"/>
                  </a:cubicBezTo>
                  <a:cubicBezTo>
                    <a:pt x="123" y="592"/>
                    <a:pt x="108" y="587"/>
                    <a:pt x="96" y="579"/>
                  </a:cubicBezTo>
                  <a:cubicBezTo>
                    <a:pt x="88" y="555"/>
                    <a:pt x="80" y="531"/>
                    <a:pt x="72" y="507"/>
                  </a:cubicBezTo>
                  <a:cubicBezTo>
                    <a:pt x="68" y="495"/>
                    <a:pt x="60" y="471"/>
                    <a:pt x="60" y="471"/>
                  </a:cubicBezTo>
                  <a:cubicBezTo>
                    <a:pt x="70" y="336"/>
                    <a:pt x="86" y="213"/>
                    <a:pt x="60" y="75"/>
                  </a:cubicBezTo>
                  <a:cubicBezTo>
                    <a:pt x="46" y="0"/>
                    <a:pt x="36" y="3"/>
                    <a:pt x="0" y="3"/>
                  </a:cubicBezTo>
                </a:path>
              </a:pathLst>
            </a:custGeom>
            <a:noFill/>
            <a:ln w="3168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未知"/>
            <p:cNvSpPr/>
            <p:nvPr/>
          </p:nvSpPr>
          <p:spPr>
            <a:xfrm>
              <a:off x="2286000" y="3886200"/>
              <a:ext cx="647640" cy="528480"/>
            </a:xfrm>
            <a:custGeom>
              <a:avLst/>
              <a:gdLst/>
              <a:ahLst/>
              <a:rect l="l" t="t" r="r" b="b"/>
              <a:pathLst>
                <a:path w="408" h="333">
                  <a:moveTo>
                    <a:pt x="408" y="252"/>
                  </a:moveTo>
                  <a:cubicBezTo>
                    <a:pt x="354" y="333"/>
                    <a:pt x="337" y="311"/>
                    <a:pt x="228" y="300"/>
                  </a:cubicBezTo>
                  <a:cubicBezTo>
                    <a:pt x="204" y="284"/>
                    <a:pt x="180" y="268"/>
                    <a:pt x="156" y="252"/>
                  </a:cubicBezTo>
                  <a:cubicBezTo>
                    <a:pt x="132" y="236"/>
                    <a:pt x="124" y="204"/>
                    <a:pt x="108" y="180"/>
                  </a:cubicBezTo>
                  <a:cubicBezTo>
                    <a:pt x="100" y="168"/>
                    <a:pt x="96" y="153"/>
                    <a:pt x="84" y="144"/>
                  </a:cubicBezTo>
                  <a:cubicBezTo>
                    <a:pt x="28" y="102"/>
                    <a:pt x="0" y="72"/>
                    <a:pt x="0" y="0"/>
                  </a:cubicBezTo>
                </a:path>
              </a:pathLst>
            </a:custGeom>
            <a:noFill/>
            <a:ln w="3168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未知"/>
            <p:cNvSpPr/>
            <p:nvPr/>
          </p:nvSpPr>
          <p:spPr>
            <a:xfrm>
              <a:off x="3600360" y="3657600"/>
              <a:ext cx="2876760" cy="933480"/>
            </a:xfrm>
            <a:custGeom>
              <a:avLst/>
              <a:gdLst/>
              <a:ahLst/>
              <a:rect l="l" t="t" r="r" b="b"/>
              <a:pathLst>
                <a:path w="1812" h="588">
                  <a:moveTo>
                    <a:pt x="0" y="588"/>
                  </a:moveTo>
                  <a:cubicBezTo>
                    <a:pt x="16" y="584"/>
                    <a:pt x="34" y="585"/>
                    <a:pt x="48" y="576"/>
                  </a:cubicBezTo>
                  <a:cubicBezTo>
                    <a:pt x="60" y="568"/>
                    <a:pt x="62" y="550"/>
                    <a:pt x="72" y="540"/>
                  </a:cubicBezTo>
                  <a:cubicBezTo>
                    <a:pt x="82" y="530"/>
                    <a:pt x="96" y="524"/>
                    <a:pt x="108" y="516"/>
                  </a:cubicBezTo>
                  <a:cubicBezTo>
                    <a:pt x="152" y="449"/>
                    <a:pt x="107" y="502"/>
                    <a:pt x="168" y="468"/>
                  </a:cubicBezTo>
                  <a:cubicBezTo>
                    <a:pt x="193" y="454"/>
                    <a:pt x="216" y="436"/>
                    <a:pt x="240" y="420"/>
                  </a:cubicBezTo>
                  <a:cubicBezTo>
                    <a:pt x="261" y="406"/>
                    <a:pt x="291" y="410"/>
                    <a:pt x="312" y="396"/>
                  </a:cubicBezTo>
                  <a:cubicBezTo>
                    <a:pt x="324" y="388"/>
                    <a:pt x="334" y="377"/>
                    <a:pt x="348" y="372"/>
                  </a:cubicBezTo>
                  <a:cubicBezTo>
                    <a:pt x="406" y="351"/>
                    <a:pt x="469" y="344"/>
                    <a:pt x="528" y="324"/>
                  </a:cubicBezTo>
                  <a:cubicBezTo>
                    <a:pt x="536" y="312"/>
                    <a:pt x="541" y="297"/>
                    <a:pt x="552" y="288"/>
                  </a:cubicBezTo>
                  <a:cubicBezTo>
                    <a:pt x="562" y="280"/>
                    <a:pt x="579" y="285"/>
                    <a:pt x="588" y="276"/>
                  </a:cubicBezTo>
                  <a:cubicBezTo>
                    <a:pt x="652" y="212"/>
                    <a:pt x="540" y="260"/>
                    <a:pt x="636" y="228"/>
                  </a:cubicBezTo>
                  <a:cubicBezTo>
                    <a:pt x="668" y="132"/>
                    <a:pt x="620" y="244"/>
                    <a:pt x="684" y="180"/>
                  </a:cubicBezTo>
                  <a:cubicBezTo>
                    <a:pt x="707" y="157"/>
                    <a:pt x="688" y="110"/>
                    <a:pt x="708" y="84"/>
                  </a:cubicBezTo>
                  <a:cubicBezTo>
                    <a:pt x="740" y="42"/>
                    <a:pt x="819" y="23"/>
                    <a:pt x="864" y="0"/>
                  </a:cubicBezTo>
                  <a:cubicBezTo>
                    <a:pt x="992" y="4"/>
                    <a:pt x="1120" y="1"/>
                    <a:pt x="1248" y="12"/>
                  </a:cubicBezTo>
                  <a:cubicBezTo>
                    <a:pt x="1299" y="16"/>
                    <a:pt x="1288" y="82"/>
                    <a:pt x="1320" y="108"/>
                  </a:cubicBezTo>
                  <a:cubicBezTo>
                    <a:pt x="1330" y="116"/>
                    <a:pt x="1345" y="114"/>
                    <a:pt x="1356" y="120"/>
                  </a:cubicBezTo>
                  <a:cubicBezTo>
                    <a:pt x="1416" y="150"/>
                    <a:pt x="1442" y="168"/>
                    <a:pt x="1512" y="180"/>
                  </a:cubicBezTo>
                  <a:cubicBezTo>
                    <a:pt x="1560" y="212"/>
                    <a:pt x="1553" y="229"/>
                    <a:pt x="1584" y="276"/>
                  </a:cubicBezTo>
                  <a:cubicBezTo>
                    <a:pt x="1588" y="296"/>
                    <a:pt x="1580" y="324"/>
                    <a:pt x="1596" y="336"/>
                  </a:cubicBezTo>
                  <a:cubicBezTo>
                    <a:pt x="1619" y="353"/>
                    <a:pt x="1652" y="343"/>
                    <a:pt x="1680" y="348"/>
                  </a:cubicBezTo>
                  <a:cubicBezTo>
                    <a:pt x="1713" y="354"/>
                    <a:pt x="1733" y="362"/>
                    <a:pt x="1764" y="372"/>
                  </a:cubicBezTo>
                  <a:cubicBezTo>
                    <a:pt x="1788" y="408"/>
                    <a:pt x="1812" y="446"/>
                    <a:pt x="1812" y="492"/>
                  </a:cubicBezTo>
                </a:path>
              </a:pathLst>
            </a:custGeom>
            <a:noFill/>
            <a:ln w="3168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未知"/>
            <p:cNvSpPr/>
            <p:nvPr/>
          </p:nvSpPr>
          <p:spPr>
            <a:xfrm>
              <a:off x="2841480" y="4267080"/>
              <a:ext cx="1920960" cy="1447920"/>
            </a:xfrm>
            <a:custGeom>
              <a:avLst/>
              <a:gdLst/>
              <a:ahLst/>
              <a:rect l="l" t="t" r="r" b="b"/>
              <a:pathLst>
                <a:path w="1210" h="912">
                  <a:moveTo>
                    <a:pt x="910" y="0"/>
                  </a:moveTo>
                  <a:cubicBezTo>
                    <a:pt x="948" y="113"/>
                    <a:pt x="958" y="93"/>
                    <a:pt x="1078" y="108"/>
                  </a:cubicBezTo>
                  <a:cubicBezTo>
                    <a:pt x="1141" y="150"/>
                    <a:pt x="1111" y="118"/>
                    <a:pt x="1138" y="228"/>
                  </a:cubicBezTo>
                  <a:cubicBezTo>
                    <a:pt x="1149" y="272"/>
                    <a:pt x="1185" y="334"/>
                    <a:pt x="1210" y="372"/>
                  </a:cubicBezTo>
                  <a:cubicBezTo>
                    <a:pt x="1169" y="399"/>
                    <a:pt x="1138" y="408"/>
                    <a:pt x="1090" y="420"/>
                  </a:cubicBezTo>
                  <a:cubicBezTo>
                    <a:pt x="1098" y="444"/>
                    <a:pt x="1106" y="468"/>
                    <a:pt x="1114" y="492"/>
                  </a:cubicBezTo>
                  <a:cubicBezTo>
                    <a:pt x="1118" y="504"/>
                    <a:pt x="1126" y="528"/>
                    <a:pt x="1126" y="528"/>
                  </a:cubicBezTo>
                  <a:cubicBezTo>
                    <a:pt x="1106" y="588"/>
                    <a:pt x="1080" y="576"/>
                    <a:pt x="1018" y="588"/>
                  </a:cubicBezTo>
                  <a:cubicBezTo>
                    <a:pt x="951" y="622"/>
                    <a:pt x="903" y="626"/>
                    <a:pt x="826" y="636"/>
                  </a:cubicBezTo>
                  <a:cubicBezTo>
                    <a:pt x="802" y="644"/>
                    <a:pt x="768" y="639"/>
                    <a:pt x="754" y="660"/>
                  </a:cubicBezTo>
                  <a:cubicBezTo>
                    <a:pt x="738" y="684"/>
                    <a:pt x="733" y="723"/>
                    <a:pt x="706" y="732"/>
                  </a:cubicBezTo>
                  <a:cubicBezTo>
                    <a:pt x="647" y="752"/>
                    <a:pt x="598" y="768"/>
                    <a:pt x="538" y="780"/>
                  </a:cubicBezTo>
                  <a:cubicBezTo>
                    <a:pt x="415" y="862"/>
                    <a:pt x="386" y="891"/>
                    <a:pt x="238" y="912"/>
                  </a:cubicBezTo>
                  <a:cubicBezTo>
                    <a:pt x="222" y="908"/>
                    <a:pt x="205" y="906"/>
                    <a:pt x="190" y="900"/>
                  </a:cubicBezTo>
                  <a:cubicBezTo>
                    <a:pt x="177" y="894"/>
                    <a:pt x="168" y="879"/>
                    <a:pt x="154" y="876"/>
                  </a:cubicBezTo>
                  <a:cubicBezTo>
                    <a:pt x="111" y="867"/>
                    <a:pt x="66" y="868"/>
                    <a:pt x="22" y="864"/>
                  </a:cubicBezTo>
                  <a:cubicBezTo>
                    <a:pt x="0" y="798"/>
                    <a:pt x="10" y="841"/>
                    <a:pt x="10" y="732"/>
                  </a:cubicBezTo>
                </a:path>
              </a:pathLst>
            </a:custGeom>
            <a:noFill/>
            <a:ln w="3168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未知"/>
            <p:cNvSpPr/>
            <p:nvPr/>
          </p:nvSpPr>
          <p:spPr>
            <a:xfrm>
              <a:off x="6415200" y="2908080"/>
              <a:ext cx="2728800" cy="1505160"/>
            </a:xfrm>
            <a:custGeom>
              <a:avLst/>
              <a:gdLst/>
              <a:ahLst/>
              <a:rect l="l" t="t" r="r" b="b"/>
              <a:pathLst>
                <a:path w="1719" h="948">
                  <a:moveTo>
                    <a:pt x="1719" y="52"/>
                  </a:moveTo>
                  <a:cubicBezTo>
                    <a:pt x="1627" y="83"/>
                    <a:pt x="1524" y="82"/>
                    <a:pt x="1443" y="28"/>
                  </a:cubicBezTo>
                  <a:cubicBezTo>
                    <a:pt x="1363" y="32"/>
                    <a:pt x="1273" y="0"/>
                    <a:pt x="1203" y="40"/>
                  </a:cubicBezTo>
                  <a:cubicBezTo>
                    <a:pt x="1165" y="62"/>
                    <a:pt x="1199" y="128"/>
                    <a:pt x="1191" y="172"/>
                  </a:cubicBezTo>
                  <a:cubicBezTo>
                    <a:pt x="1191" y="172"/>
                    <a:pt x="1161" y="262"/>
                    <a:pt x="1155" y="280"/>
                  </a:cubicBezTo>
                  <a:cubicBezTo>
                    <a:pt x="1134" y="343"/>
                    <a:pt x="1154" y="309"/>
                    <a:pt x="1071" y="364"/>
                  </a:cubicBezTo>
                  <a:cubicBezTo>
                    <a:pt x="1059" y="372"/>
                    <a:pt x="1035" y="388"/>
                    <a:pt x="1035" y="388"/>
                  </a:cubicBezTo>
                  <a:cubicBezTo>
                    <a:pt x="1031" y="420"/>
                    <a:pt x="1048" y="464"/>
                    <a:pt x="1023" y="484"/>
                  </a:cubicBezTo>
                  <a:cubicBezTo>
                    <a:pt x="992" y="509"/>
                    <a:pt x="943" y="491"/>
                    <a:pt x="903" y="496"/>
                  </a:cubicBezTo>
                  <a:cubicBezTo>
                    <a:pt x="879" y="499"/>
                    <a:pt x="855" y="504"/>
                    <a:pt x="831" y="508"/>
                  </a:cubicBezTo>
                  <a:cubicBezTo>
                    <a:pt x="858" y="549"/>
                    <a:pt x="891" y="600"/>
                    <a:pt x="855" y="652"/>
                  </a:cubicBezTo>
                  <a:cubicBezTo>
                    <a:pt x="838" y="676"/>
                    <a:pt x="783" y="700"/>
                    <a:pt x="783" y="700"/>
                  </a:cubicBezTo>
                  <a:cubicBezTo>
                    <a:pt x="754" y="786"/>
                    <a:pt x="736" y="779"/>
                    <a:pt x="651" y="796"/>
                  </a:cubicBezTo>
                  <a:cubicBezTo>
                    <a:pt x="627" y="792"/>
                    <a:pt x="602" y="792"/>
                    <a:pt x="579" y="784"/>
                  </a:cubicBezTo>
                  <a:cubicBezTo>
                    <a:pt x="513" y="762"/>
                    <a:pt x="564" y="766"/>
                    <a:pt x="531" y="724"/>
                  </a:cubicBezTo>
                  <a:cubicBezTo>
                    <a:pt x="522" y="713"/>
                    <a:pt x="507" y="708"/>
                    <a:pt x="495" y="700"/>
                  </a:cubicBezTo>
                  <a:cubicBezTo>
                    <a:pt x="479" y="652"/>
                    <a:pt x="465" y="632"/>
                    <a:pt x="423" y="604"/>
                  </a:cubicBezTo>
                  <a:cubicBezTo>
                    <a:pt x="375" y="532"/>
                    <a:pt x="340" y="557"/>
                    <a:pt x="255" y="568"/>
                  </a:cubicBezTo>
                  <a:cubicBezTo>
                    <a:pt x="251" y="580"/>
                    <a:pt x="251" y="594"/>
                    <a:pt x="243" y="604"/>
                  </a:cubicBezTo>
                  <a:cubicBezTo>
                    <a:pt x="234" y="615"/>
                    <a:pt x="213" y="615"/>
                    <a:pt x="207" y="628"/>
                  </a:cubicBezTo>
                  <a:cubicBezTo>
                    <a:pt x="196" y="650"/>
                    <a:pt x="203" y="677"/>
                    <a:pt x="195" y="700"/>
                  </a:cubicBezTo>
                  <a:cubicBezTo>
                    <a:pt x="183" y="737"/>
                    <a:pt x="155" y="775"/>
                    <a:pt x="123" y="796"/>
                  </a:cubicBezTo>
                  <a:cubicBezTo>
                    <a:pt x="119" y="808"/>
                    <a:pt x="120" y="823"/>
                    <a:pt x="111" y="832"/>
                  </a:cubicBezTo>
                  <a:cubicBezTo>
                    <a:pt x="102" y="841"/>
                    <a:pt x="82" y="834"/>
                    <a:pt x="75" y="844"/>
                  </a:cubicBezTo>
                  <a:cubicBezTo>
                    <a:pt x="0" y="948"/>
                    <a:pt x="90" y="896"/>
                    <a:pt x="27" y="928"/>
                  </a:cubicBezTo>
                </a:path>
              </a:pathLst>
            </a:custGeom>
            <a:noFill/>
            <a:ln w="3168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未知"/>
            <p:cNvSpPr/>
            <p:nvPr/>
          </p:nvSpPr>
          <p:spPr>
            <a:xfrm>
              <a:off x="5918040" y="4305240"/>
              <a:ext cx="546120" cy="399960"/>
            </a:xfrm>
            <a:custGeom>
              <a:avLst/>
              <a:gdLst/>
              <a:ahLst/>
              <a:rect l="l" t="t" r="r" b="b"/>
              <a:pathLst>
                <a:path w="344" h="252">
                  <a:moveTo>
                    <a:pt x="280" y="0"/>
                  </a:moveTo>
                  <a:cubicBezTo>
                    <a:pt x="276" y="12"/>
                    <a:pt x="274" y="25"/>
                    <a:pt x="268" y="36"/>
                  </a:cubicBezTo>
                  <a:cubicBezTo>
                    <a:pt x="254" y="61"/>
                    <a:pt x="220" y="108"/>
                    <a:pt x="220" y="108"/>
                  </a:cubicBezTo>
                  <a:cubicBezTo>
                    <a:pt x="234" y="117"/>
                    <a:pt x="280" y="137"/>
                    <a:pt x="268" y="168"/>
                  </a:cubicBezTo>
                  <a:cubicBezTo>
                    <a:pt x="263" y="181"/>
                    <a:pt x="244" y="184"/>
                    <a:pt x="232" y="192"/>
                  </a:cubicBezTo>
                  <a:cubicBezTo>
                    <a:pt x="172" y="172"/>
                    <a:pt x="196" y="152"/>
                    <a:pt x="136" y="132"/>
                  </a:cubicBezTo>
                  <a:cubicBezTo>
                    <a:pt x="119" y="183"/>
                    <a:pt x="123" y="210"/>
                    <a:pt x="28" y="156"/>
                  </a:cubicBezTo>
                  <a:cubicBezTo>
                    <a:pt x="17" y="150"/>
                    <a:pt x="53" y="120"/>
                    <a:pt x="40" y="120"/>
                  </a:cubicBezTo>
                  <a:cubicBezTo>
                    <a:pt x="24" y="120"/>
                    <a:pt x="7" y="183"/>
                    <a:pt x="4" y="192"/>
                  </a:cubicBezTo>
                  <a:cubicBezTo>
                    <a:pt x="8" y="208"/>
                    <a:pt x="0" y="235"/>
                    <a:pt x="16" y="240"/>
                  </a:cubicBezTo>
                  <a:cubicBezTo>
                    <a:pt x="50" y="251"/>
                    <a:pt x="111" y="228"/>
                    <a:pt x="148" y="216"/>
                  </a:cubicBezTo>
                  <a:cubicBezTo>
                    <a:pt x="176" y="220"/>
                    <a:pt x="204" y="222"/>
                    <a:pt x="232" y="228"/>
                  </a:cubicBezTo>
                  <a:cubicBezTo>
                    <a:pt x="257" y="234"/>
                    <a:pt x="304" y="252"/>
                    <a:pt x="304" y="252"/>
                  </a:cubicBezTo>
                  <a:cubicBezTo>
                    <a:pt x="344" y="193"/>
                    <a:pt x="325" y="160"/>
                    <a:pt x="304" y="96"/>
                  </a:cubicBezTo>
                  <a:cubicBezTo>
                    <a:pt x="342" y="39"/>
                    <a:pt x="337" y="71"/>
                    <a:pt x="280" y="0"/>
                  </a:cubicBezTo>
                  <a:close/>
                </a:path>
              </a:pathLst>
            </a:custGeom>
            <a:solidFill>
              <a:srgbClr val="33ccff"/>
            </a:solidFill>
            <a:ln w="3168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未知"/>
            <p:cNvSpPr/>
            <p:nvPr/>
          </p:nvSpPr>
          <p:spPr>
            <a:xfrm>
              <a:off x="7429320" y="4181400"/>
              <a:ext cx="324000" cy="582480"/>
            </a:xfrm>
            <a:custGeom>
              <a:avLst/>
              <a:gdLst/>
              <a:ahLst/>
              <a:rect l="l" t="t" r="r" b="b"/>
              <a:pathLst>
                <a:path w="204" h="367">
                  <a:moveTo>
                    <a:pt x="48" y="42"/>
                  </a:moveTo>
                  <a:cubicBezTo>
                    <a:pt x="32" y="90"/>
                    <a:pt x="28" y="132"/>
                    <a:pt x="0" y="174"/>
                  </a:cubicBezTo>
                  <a:cubicBezTo>
                    <a:pt x="4" y="190"/>
                    <a:pt x="2" y="209"/>
                    <a:pt x="12" y="222"/>
                  </a:cubicBezTo>
                  <a:cubicBezTo>
                    <a:pt x="20" y="232"/>
                    <a:pt x="38" y="226"/>
                    <a:pt x="48" y="234"/>
                  </a:cubicBezTo>
                  <a:cubicBezTo>
                    <a:pt x="59" y="243"/>
                    <a:pt x="64" y="258"/>
                    <a:pt x="72" y="270"/>
                  </a:cubicBezTo>
                  <a:cubicBezTo>
                    <a:pt x="85" y="336"/>
                    <a:pt x="81" y="367"/>
                    <a:pt x="156" y="342"/>
                  </a:cubicBezTo>
                  <a:cubicBezTo>
                    <a:pt x="174" y="287"/>
                    <a:pt x="171" y="235"/>
                    <a:pt x="204" y="186"/>
                  </a:cubicBezTo>
                  <a:cubicBezTo>
                    <a:pt x="162" y="165"/>
                    <a:pt x="123" y="152"/>
                    <a:pt x="84" y="126"/>
                  </a:cubicBezTo>
                  <a:cubicBezTo>
                    <a:pt x="80" y="98"/>
                    <a:pt x="78" y="70"/>
                    <a:pt x="72" y="42"/>
                  </a:cubicBezTo>
                  <a:cubicBezTo>
                    <a:pt x="70" y="30"/>
                    <a:pt x="71" y="0"/>
                    <a:pt x="60" y="6"/>
                  </a:cubicBezTo>
                  <a:cubicBezTo>
                    <a:pt x="45" y="13"/>
                    <a:pt x="53" y="38"/>
                    <a:pt x="48" y="54"/>
                  </a:cubicBezTo>
                  <a:cubicBezTo>
                    <a:pt x="45" y="66"/>
                    <a:pt x="36" y="103"/>
                    <a:pt x="36" y="90"/>
                  </a:cubicBezTo>
                  <a:cubicBezTo>
                    <a:pt x="36" y="74"/>
                    <a:pt x="44" y="58"/>
                    <a:pt x="48" y="42"/>
                  </a:cubicBezTo>
                  <a:close/>
                </a:path>
              </a:pathLst>
            </a:custGeom>
            <a:solidFill>
              <a:srgbClr val="33ccff"/>
            </a:solidFill>
            <a:ln w="3168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未知"/>
            <p:cNvSpPr/>
            <p:nvPr/>
          </p:nvSpPr>
          <p:spPr>
            <a:xfrm>
              <a:off x="7167600" y="4743360"/>
              <a:ext cx="414360" cy="685800"/>
            </a:xfrm>
            <a:custGeom>
              <a:avLst/>
              <a:gdLst/>
              <a:ahLst/>
              <a:rect l="l" t="t" r="r" b="b"/>
              <a:pathLst>
                <a:path w="261" h="432">
                  <a:moveTo>
                    <a:pt x="261" y="0"/>
                  </a:moveTo>
                  <a:cubicBezTo>
                    <a:pt x="253" y="12"/>
                    <a:pt x="248" y="27"/>
                    <a:pt x="237" y="36"/>
                  </a:cubicBezTo>
                  <a:cubicBezTo>
                    <a:pt x="227" y="44"/>
                    <a:pt x="212" y="42"/>
                    <a:pt x="201" y="48"/>
                  </a:cubicBezTo>
                  <a:cubicBezTo>
                    <a:pt x="108" y="95"/>
                    <a:pt x="219" y="54"/>
                    <a:pt x="129" y="84"/>
                  </a:cubicBezTo>
                  <a:cubicBezTo>
                    <a:pt x="85" y="215"/>
                    <a:pt x="155" y="16"/>
                    <a:pt x="93" y="156"/>
                  </a:cubicBezTo>
                  <a:cubicBezTo>
                    <a:pt x="0" y="366"/>
                    <a:pt x="125" y="107"/>
                    <a:pt x="57" y="288"/>
                  </a:cubicBezTo>
                  <a:cubicBezTo>
                    <a:pt x="52" y="302"/>
                    <a:pt x="39" y="311"/>
                    <a:pt x="33" y="324"/>
                  </a:cubicBezTo>
                  <a:cubicBezTo>
                    <a:pt x="13" y="363"/>
                    <a:pt x="21" y="385"/>
                    <a:pt x="21" y="432"/>
                  </a:cubicBezTo>
                </a:path>
              </a:pathLst>
            </a:custGeom>
            <a:noFill/>
            <a:ln w="3168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未知"/>
            <p:cNvSpPr/>
            <p:nvPr/>
          </p:nvSpPr>
          <p:spPr>
            <a:xfrm>
              <a:off x="209520" y="1981080"/>
              <a:ext cx="2914560" cy="3809880"/>
            </a:xfrm>
            <a:custGeom>
              <a:avLst/>
              <a:gdLst/>
              <a:ahLst/>
              <a:rect l="l" t="t" r="r" b="b"/>
              <a:pathLst>
                <a:path w="1836" h="2400">
                  <a:moveTo>
                    <a:pt x="1836" y="1704"/>
                  </a:moveTo>
                  <a:cubicBezTo>
                    <a:pt x="1812" y="1708"/>
                    <a:pt x="1785" y="1704"/>
                    <a:pt x="1764" y="1716"/>
                  </a:cubicBezTo>
                  <a:cubicBezTo>
                    <a:pt x="1753" y="1722"/>
                    <a:pt x="1760" y="1742"/>
                    <a:pt x="1752" y="1752"/>
                  </a:cubicBezTo>
                  <a:cubicBezTo>
                    <a:pt x="1741" y="1766"/>
                    <a:pt x="1680" y="1794"/>
                    <a:pt x="1668" y="1800"/>
                  </a:cubicBezTo>
                  <a:cubicBezTo>
                    <a:pt x="1660" y="1824"/>
                    <a:pt x="1658" y="1851"/>
                    <a:pt x="1644" y="1872"/>
                  </a:cubicBezTo>
                  <a:cubicBezTo>
                    <a:pt x="1636" y="1884"/>
                    <a:pt x="1626" y="1895"/>
                    <a:pt x="1620" y="1908"/>
                  </a:cubicBezTo>
                  <a:cubicBezTo>
                    <a:pt x="1607" y="1934"/>
                    <a:pt x="1612" y="1968"/>
                    <a:pt x="1596" y="1992"/>
                  </a:cubicBezTo>
                  <a:cubicBezTo>
                    <a:pt x="1588" y="2004"/>
                    <a:pt x="1572" y="2008"/>
                    <a:pt x="1560" y="2016"/>
                  </a:cubicBezTo>
                  <a:cubicBezTo>
                    <a:pt x="1556" y="2028"/>
                    <a:pt x="1557" y="2043"/>
                    <a:pt x="1548" y="2052"/>
                  </a:cubicBezTo>
                  <a:cubicBezTo>
                    <a:pt x="1528" y="2072"/>
                    <a:pt x="1476" y="2100"/>
                    <a:pt x="1476" y="2100"/>
                  </a:cubicBezTo>
                  <a:cubicBezTo>
                    <a:pt x="1493" y="2170"/>
                    <a:pt x="1507" y="2204"/>
                    <a:pt x="1476" y="2292"/>
                  </a:cubicBezTo>
                  <a:cubicBezTo>
                    <a:pt x="1470" y="2309"/>
                    <a:pt x="1445" y="2309"/>
                    <a:pt x="1428" y="2316"/>
                  </a:cubicBezTo>
                  <a:cubicBezTo>
                    <a:pt x="1393" y="2330"/>
                    <a:pt x="1352" y="2331"/>
                    <a:pt x="1320" y="2352"/>
                  </a:cubicBezTo>
                  <a:cubicBezTo>
                    <a:pt x="1273" y="2383"/>
                    <a:pt x="1298" y="2371"/>
                    <a:pt x="1248" y="2388"/>
                  </a:cubicBezTo>
                  <a:cubicBezTo>
                    <a:pt x="1240" y="2376"/>
                    <a:pt x="1229" y="2366"/>
                    <a:pt x="1224" y="2352"/>
                  </a:cubicBezTo>
                  <a:cubicBezTo>
                    <a:pt x="1185" y="2234"/>
                    <a:pt x="1275" y="2275"/>
                    <a:pt x="1068" y="2292"/>
                  </a:cubicBezTo>
                  <a:cubicBezTo>
                    <a:pt x="1023" y="2337"/>
                    <a:pt x="979" y="2400"/>
                    <a:pt x="888" y="2316"/>
                  </a:cubicBezTo>
                  <a:cubicBezTo>
                    <a:pt x="856" y="2286"/>
                    <a:pt x="880" y="2228"/>
                    <a:pt x="876" y="2184"/>
                  </a:cubicBezTo>
                  <a:cubicBezTo>
                    <a:pt x="880" y="2148"/>
                    <a:pt x="877" y="2110"/>
                    <a:pt x="888" y="2076"/>
                  </a:cubicBezTo>
                  <a:cubicBezTo>
                    <a:pt x="897" y="2049"/>
                    <a:pt x="936" y="2004"/>
                    <a:pt x="936" y="2004"/>
                  </a:cubicBezTo>
                  <a:cubicBezTo>
                    <a:pt x="934" y="1992"/>
                    <a:pt x="932" y="1911"/>
                    <a:pt x="888" y="1920"/>
                  </a:cubicBezTo>
                  <a:cubicBezTo>
                    <a:pt x="874" y="1923"/>
                    <a:pt x="870" y="1943"/>
                    <a:pt x="864" y="1956"/>
                  </a:cubicBezTo>
                  <a:cubicBezTo>
                    <a:pt x="854" y="1979"/>
                    <a:pt x="848" y="2004"/>
                    <a:pt x="840" y="2028"/>
                  </a:cubicBezTo>
                  <a:cubicBezTo>
                    <a:pt x="828" y="2064"/>
                    <a:pt x="732" y="2064"/>
                    <a:pt x="732" y="2064"/>
                  </a:cubicBezTo>
                  <a:cubicBezTo>
                    <a:pt x="717" y="2020"/>
                    <a:pt x="687" y="2000"/>
                    <a:pt x="672" y="1956"/>
                  </a:cubicBezTo>
                  <a:cubicBezTo>
                    <a:pt x="684" y="1848"/>
                    <a:pt x="699" y="1738"/>
                    <a:pt x="636" y="1644"/>
                  </a:cubicBezTo>
                  <a:cubicBezTo>
                    <a:pt x="620" y="422"/>
                    <a:pt x="911" y="836"/>
                    <a:pt x="528" y="708"/>
                  </a:cubicBezTo>
                  <a:cubicBezTo>
                    <a:pt x="502" y="631"/>
                    <a:pt x="536" y="715"/>
                    <a:pt x="480" y="636"/>
                  </a:cubicBezTo>
                  <a:cubicBezTo>
                    <a:pt x="453" y="598"/>
                    <a:pt x="434" y="555"/>
                    <a:pt x="408" y="516"/>
                  </a:cubicBezTo>
                  <a:cubicBezTo>
                    <a:pt x="400" y="504"/>
                    <a:pt x="389" y="494"/>
                    <a:pt x="384" y="480"/>
                  </a:cubicBezTo>
                  <a:cubicBezTo>
                    <a:pt x="363" y="417"/>
                    <a:pt x="329" y="359"/>
                    <a:pt x="300" y="300"/>
                  </a:cubicBezTo>
                  <a:cubicBezTo>
                    <a:pt x="294" y="289"/>
                    <a:pt x="297" y="273"/>
                    <a:pt x="288" y="264"/>
                  </a:cubicBezTo>
                  <a:cubicBezTo>
                    <a:pt x="273" y="249"/>
                    <a:pt x="226" y="235"/>
                    <a:pt x="204" y="228"/>
                  </a:cubicBezTo>
                  <a:cubicBezTo>
                    <a:pt x="135" y="125"/>
                    <a:pt x="227" y="246"/>
                    <a:pt x="144" y="180"/>
                  </a:cubicBezTo>
                  <a:cubicBezTo>
                    <a:pt x="133" y="171"/>
                    <a:pt x="129" y="155"/>
                    <a:pt x="120" y="144"/>
                  </a:cubicBezTo>
                  <a:cubicBezTo>
                    <a:pt x="87" y="104"/>
                    <a:pt x="82" y="117"/>
                    <a:pt x="60" y="72"/>
                  </a:cubicBezTo>
                  <a:cubicBezTo>
                    <a:pt x="54" y="61"/>
                    <a:pt x="56" y="46"/>
                    <a:pt x="48" y="36"/>
                  </a:cubicBezTo>
                  <a:cubicBezTo>
                    <a:pt x="36" y="20"/>
                    <a:pt x="14" y="14"/>
                    <a:pt x="0" y="0"/>
                  </a:cubicBezTo>
                </a:path>
              </a:pathLst>
            </a:custGeom>
            <a:noFill/>
            <a:ln w="3168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0" name=""/>
          <p:cNvSpPr/>
          <p:nvPr/>
        </p:nvSpPr>
        <p:spPr>
          <a:xfrm>
            <a:off x="4800600" y="990720"/>
            <a:ext cx="15228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4495680" y="1219320"/>
            <a:ext cx="7621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solidFill>
                    <a:srgbClr val="000000"/>
                  </a:solidFill>
                </a:ln>
                <a:solidFill>
                  <a:srgbClr val="000000"/>
                </a:solidFill>
                <a:latin typeface="宋体"/>
              </a:rPr>
              <a:t>吴起镇</a:t>
            </a:r>
            <a:endParaRPr b="0" lang="en-US" sz="2400" spc="-1" strike="noStrike">
              <a:ln w="0">
                <a:solidFill>
                  <a:srgbClr val="000000"/>
                </a:solidFill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12" name=""/>
          <p:cNvSpPr/>
          <p:nvPr/>
        </p:nvSpPr>
        <p:spPr>
          <a:xfrm>
            <a:off x="3124080" y="1295280"/>
            <a:ext cx="152640" cy="152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2819520" y="1447920"/>
            <a:ext cx="4572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solidFill>
                    <a:srgbClr val="000000"/>
                  </a:solidFill>
                </a:ln>
                <a:solidFill>
                  <a:srgbClr val="000000"/>
                </a:solidFill>
                <a:latin typeface="宋体"/>
              </a:rPr>
              <a:t>会宁</a:t>
            </a:r>
            <a:endParaRPr b="0" lang="en-US" sz="2400" spc="-1" strike="noStrike">
              <a:ln w="0">
                <a:solidFill>
                  <a:srgbClr val="000000"/>
                </a:solidFill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grpSp>
        <p:nvGrpSpPr>
          <p:cNvPr id="714" name=""/>
          <p:cNvGrpSpPr/>
          <p:nvPr/>
        </p:nvGrpSpPr>
        <p:grpSpPr>
          <a:xfrm>
            <a:off x="380880" y="1143000"/>
            <a:ext cx="228600" cy="76320"/>
            <a:chOff x="380880" y="1143000"/>
            <a:chExt cx="228600" cy="76320"/>
          </a:xfrm>
        </p:grpSpPr>
        <p:sp>
          <p:nvSpPr>
            <p:cNvPr id="715" name="未知"/>
            <p:cNvSpPr/>
            <p:nvPr/>
          </p:nvSpPr>
          <p:spPr>
            <a:xfrm>
              <a:off x="380880" y="1143000"/>
              <a:ext cx="79560" cy="72360"/>
            </a:xfrm>
            <a:custGeom>
              <a:avLst/>
              <a:gdLst/>
              <a:ahLst/>
              <a:rect l="l" t="t" r="r" b="b"/>
              <a:pathLst>
                <a:path w="264" h="444">
                  <a:moveTo>
                    <a:pt x="0" y="0"/>
                  </a:moveTo>
                  <a:cubicBezTo>
                    <a:pt x="34" y="69"/>
                    <a:pt x="63" y="66"/>
                    <a:pt x="108" y="120"/>
                  </a:cubicBezTo>
                  <a:cubicBezTo>
                    <a:pt x="130" y="146"/>
                    <a:pt x="147" y="176"/>
                    <a:pt x="168" y="204"/>
                  </a:cubicBezTo>
                  <a:cubicBezTo>
                    <a:pt x="172" y="220"/>
                    <a:pt x="173" y="237"/>
                    <a:pt x="180" y="252"/>
                  </a:cubicBezTo>
                  <a:cubicBezTo>
                    <a:pt x="189" y="270"/>
                    <a:pt x="209" y="281"/>
                    <a:pt x="216" y="300"/>
                  </a:cubicBezTo>
                  <a:cubicBezTo>
                    <a:pt x="225" y="323"/>
                    <a:pt x="223" y="348"/>
                    <a:pt x="228" y="372"/>
                  </a:cubicBezTo>
                  <a:cubicBezTo>
                    <a:pt x="231" y="384"/>
                    <a:pt x="234" y="397"/>
                    <a:pt x="240" y="408"/>
                  </a:cubicBezTo>
                  <a:cubicBezTo>
                    <a:pt x="246" y="421"/>
                    <a:pt x="264" y="444"/>
                    <a:pt x="264" y="444"/>
                  </a:cubicBezTo>
                </a:path>
              </a:pathLst>
            </a:custGeom>
            <a:noFill/>
            <a:ln w="93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未知"/>
            <p:cNvSpPr/>
            <p:nvPr/>
          </p:nvSpPr>
          <p:spPr>
            <a:xfrm>
              <a:off x="499320" y="1152720"/>
              <a:ext cx="110160" cy="66600"/>
            </a:xfrm>
            <a:custGeom>
              <a:avLst/>
              <a:gdLst/>
              <a:ahLst/>
              <a:rect l="l" t="t" r="r" b="b"/>
              <a:pathLst>
                <a:path w="364" h="408">
                  <a:moveTo>
                    <a:pt x="16" y="408"/>
                  </a:moveTo>
                  <a:cubicBezTo>
                    <a:pt x="27" y="241"/>
                    <a:pt x="0" y="165"/>
                    <a:pt x="160" y="108"/>
                  </a:cubicBezTo>
                  <a:cubicBezTo>
                    <a:pt x="187" y="98"/>
                    <a:pt x="216" y="92"/>
                    <a:pt x="244" y="84"/>
                  </a:cubicBezTo>
                  <a:cubicBezTo>
                    <a:pt x="282" y="58"/>
                    <a:pt x="330" y="34"/>
                    <a:pt x="364" y="0"/>
                  </a:cubicBezTo>
                </a:path>
              </a:pathLst>
            </a:custGeom>
            <a:noFill/>
            <a:ln w="93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未知"/>
            <p:cNvSpPr/>
            <p:nvPr/>
          </p:nvSpPr>
          <p:spPr>
            <a:xfrm>
              <a:off x="478800" y="1158480"/>
              <a:ext cx="7200" cy="54720"/>
            </a:xfrm>
            <a:custGeom>
              <a:avLst/>
              <a:gdLst/>
              <a:ahLst/>
              <a:rect l="l" t="t" r="r" b="b"/>
              <a:pathLst>
                <a:path w="24" h="336">
                  <a:moveTo>
                    <a:pt x="0" y="336"/>
                  </a:moveTo>
                  <a:cubicBezTo>
                    <a:pt x="4" y="288"/>
                    <a:pt x="6" y="240"/>
                    <a:pt x="12" y="192"/>
                  </a:cubicBezTo>
                  <a:cubicBezTo>
                    <a:pt x="14" y="179"/>
                    <a:pt x="24" y="169"/>
                    <a:pt x="24" y="156"/>
                  </a:cubicBezTo>
                  <a:cubicBezTo>
                    <a:pt x="24" y="104"/>
                    <a:pt x="12" y="52"/>
                    <a:pt x="12" y="0"/>
                  </a:cubicBezTo>
                </a:path>
              </a:pathLst>
            </a:custGeom>
            <a:noFill/>
            <a:ln w="93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3581280" y="1143000"/>
            <a:ext cx="15264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3429000" y="1295280"/>
            <a:ext cx="4572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solidFill>
                    <a:srgbClr val="000000"/>
                  </a:solidFill>
                </a:ln>
                <a:solidFill>
                  <a:srgbClr val="000000"/>
                </a:solidFill>
                <a:latin typeface="宋体"/>
              </a:rPr>
              <a:t>将台堡</a:t>
            </a:r>
            <a:endParaRPr b="0" lang="en-US" sz="2400" spc="-1" strike="noStrike">
              <a:ln w="0">
                <a:solidFill>
                  <a:srgbClr val="000000"/>
                </a:solidFill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20" name=""/>
          <p:cNvSpPr/>
          <p:nvPr/>
        </p:nvSpPr>
        <p:spPr>
          <a:xfrm rot="2080200">
            <a:off x="4053960" y="5430960"/>
            <a:ext cx="1427400" cy="323640"/>
          </a:xfrm>
          <a:prstGeom prst="leftArrow">
            <a:avLst>
              <a:gd name="adj1" fmla="val 50000"/>
              <a:gd name="adj2" fmla="val 11026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340000" y="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黑体"/>
              </a:rPr>
              <a:t>中国工农红军长征简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8004240" y="56865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161120" y="481644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824520" y="62452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181480" y="477504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227480" y="6157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⑤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736800" y="531324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100240" y="59245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330720" y="35164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363680" y="33894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322960" y="76212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293920" y="7650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245360" y="4900680"/>
            <a:ext cx="1300320" cy="520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江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8031240" y="5751360"/>
            <a:ext cx="1185840" cy="520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福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800760" y="6308640"/>
            <a:ext cx="1067040" cy="520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广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081320" y="6253200"/>
            <a:ext cx="1067040" cy="520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广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660840" y="5388120"/>
            <a:ext cx="1143000" cy="520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贵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995480" y="6016680"/>
            <a:ext cx="1038240" cy="520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云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309840" y="3597120"/>
            <a:ext cx="914400" cy="520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四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074600" y="3498840"/>
            <a:ext cx="1067040" cy="520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西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787400" y="857160"/>
            <a:ext cx="1371600" cy="520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甘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362560" y="824040"/>
            <a:ext cx="1295280" cy="520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陕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3" name=""/>
          <p:cNvGrpSpPr/>
          <p:nvPr/>
        </p:nvGrpSpPr>
        <p:grpSpPr>
          <a:xfrm>
            <a:off x="2314440" y="3759120"/>
            <a:ext cx="4967280" cy="1666800"/>
            <a:chOff x="2314440" y="3759120"/>
            <a:chExt cx="4967280" cy="1666800"/>
          </a:xfrm>
        </p:grpSpPr>
        <p:sp>
          <p:nvSpPr>
            <p:cNvPr id="744" name=""/>
            <p:cNvSpPr/>
            <p:nvPr/>
          </p:nvSpPr>
          <p:spPr>
            <a:xfrm>
              <a:off x="2314440" y="375912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468600" y="436068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291000" y="490536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491000" y="45352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543040" y="48765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9" name=""/>
          <p:cNvSpPr/>
          <p:nvPr/>
        </p:nvSpPr>
        <p:spPr>
          <a:xfrm rot="1201200">
            <a:off x="6565680" y="4618080"/>
            <a:ext cx="6112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湘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662360" y="4292640"/>
            <a:ext cx="6112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乌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254320" y="4857840"/>
            <a:ext cx="12952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金沙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H="1" rot="18809400">
            <a:off x="3362760" y="4575600"/>
            <a:ext cx="609840" cy="804960"/>
          </a:xfrm>
          <a:prstGeom prst="uturnArrow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未知"/>
          <p:cNvSpPr/>
          <p:nvPr/>
        </p:nvSpPr>
        <p:spPr>
          <a:xfrm>
            <a:off x="3257640" y="4667400"/>
            <a:ext cx="617400" cy="576000"/>
          </a:xfrm>
          <a:custGeom>
            <a:avLst/>
            <a:gdLst/>
            <a:ahLst/>
            <a:rect l="l" t="t" r="r" b="b"/>
            <a:pathLst>
              <a:path w="389" h="363">
                <a:moveTo>
                  <a:pt x="156" y="0"/>
                </a:moveTo>
                <a:cubicBezTo>
                  <a:pt x="164" y="12"/>
                  <a:pt x="174" y="23"/>
                  <a:pt x="180" y="36"/>
                </a:cubicBezTo>
                <a:cubicBezTo>
                  <a:pt x="186" y="51"/>
                  <a:pt x="182" y="71"/>
                  <a:pt x="192" y="84"/>
                </a:cubicBezTo>
                <a:cubicBezTo>
                  <a:pt x="200" y="94"/>
                  <a:pt x="216" y="92"/>
                  <a:pt x="228" y="96"/>
                </a:cubicBezTo>
                <a:cubicBezTo>
                  <a:pt x="236" y="108"/>
                  <a:pt x="247" y="118"/>
                  <a:pt x="252" y="132"/>
                </a:cubicBezTo>
                <a:cubicBezTo>
                  <a:pt x="259" y="151"/>
                  <a:pt x="253" y="175"/>
                  <a:pt x="264" y="192"/>
                </a:cubicBezTo>
                <a:cubicBezTo>
                  <a:pt x="271" y="203"/>
                  <a:pt x="289" y="198"/>
                  <a:pt x="300" y="204"/>
                </a:cubicBezTo>
                <a:cubicBezTo>
                  <a:pt x="325" y="218"/>
                  <a:pt x="372" y="252"/>
                  <a:pt x="372" y="252"/>
                </a:cubicBezTo>
                <a:cubicBezTo>
                  <a:pt x="376" y="264"/>
                  <a:pt x="389" y="276"/>
                  <a:pt x="384" y="288"/>
                </a:cubicBezTo>
                <a:cubicBezTo>
                  <a:pt x="378" y="302"/>
                  <a:pt x="326" y="322"/>
                  <a:pt x="312" y="324"/>
                </a:cubicBezTo>
                <a:cubicBezTo>
                  <a:pt x="264" y="330"/>
                  <a:pt x="216" y="332"/>
                  <a:pt x="168" y="336"/>
                </a:cubicBezTo>
                <a:cubicBezTo>
                  <a:pt x="129" y="349"/>
                  <a:pt x="107" y="363"/>
                  <a:pt x="60" y="336"/>
                </a:cubicBezTo>
                <a:cubicBezTo>
                  <a:pt x="49" y="330"/>
                  <a:pt x="57" y="309"/>
                  <a:pt x="48" y="300"/>
                </a:cubicBezTo>
                <a:cubicBezTo>
                  <a:pt x="35" y="287"/>
                  <a:pt x="16" y="288"/>
                  <a:pt x="0" y="288"/>
                </a:cubicBezTo>
              </a:path>
            </a:pathLst>
          </a:custGeom>
          <a:noFill/>
          <a:ln w="255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962520" y="5029200"/>
            <a:ext cx="15228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111640" y="4873680"/>
            <a:ext cx="1168560" cy="520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湖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rot="2647200">
            <a:off x="4197600" y="3654000"/>
            <a:ext cx="61128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赤水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097000" y="3873600"/>
            <a:ext cx="12956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大渡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rot="762000">
            <a:off x="2438280" y="2971440"/>
            <a:ext cx="327240" cy="1066680"/>
          </a:xfrm>
          <a:prstGeom prst="upArrow">
            <a:avLst>
              <a:gd name="adj1" fmla="val 50000"/>
              <a:gd name="adj2" fmla="val 81491"/>
            </a:avLst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rot="429000">
            <a:off x="2133720" y="4114800"/>
            <a:ext cx="304560" cy="1600200"/>
          </a:xfrm>
          <a:prstGeom prst="upArrow">
            <a:avLst>
              <a:gd name="adj1" fmla="val 50000"/>
              <a:gd name="adj2" fmla="val 131353"/>
            </a:avLst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8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3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54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59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1" name=""/>
          <p:cNvSpPr/>
          <p:nvPr/>
        </p:nvSpPr>
        <p:spPr>
          <a:xfrm>
            <a:off x="117360" y="757080"/>
            <a:ext cx="14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原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17360" y="1538280"/>
            <a:ext cx="126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经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338120" y="798480"/>
            <a:ext cx="55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红军              反“围剿”失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338560" y="798480"/>
            <a:ext cx="157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第五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5" name=""/>
          <p:cNvGrpSpPr/>
          <p:nvPr/>
        </p:nvGrpSpPr>
        <p:grpSpPr>
          <a:xfrm>
            <a:off x="3214800" y="4024440"/>
            <a:ext cx="2233440" cy="1079280"/>
            <a:chOff x="3214800" y="4024440"/>
            <a:chExt cx="2233440" cy="1079280"/>
          </a:xfrm>
        </p:grpSpPr>
        <p:sp>
          <p:nvSpPr>
            <p:cNvPr id="766" name=""/>
            <p:cNvSpPr/>
            <p:nvPr/>
          </p:nvSpPr>
          <p:spPr>
            <a:xfrm>
              <a:off x="3214800" y="4563720"/>
              <a:ext cx="36036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540240" y="4024440"/>
              <a:ext cx="1908000" cy="10792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66"/>
                  </a:solidFill>
                  <a:latin typeface="Times New Roman"/>
                  <a:ea typeface="黑体"/>
                </a:rPr>
                <a:t>爬雪山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8" name=""/>
          <p:cNvGrpSpPr/>
          <p:nvPr/>
        </p:nvGrpSpPr>
        <p:grpSpPr>
          <a:xfrm>
            <a:off x="831960" y="3166920"/>
            <a:ext cx="2384280" cy="1936800"/>
            <a:chOff x="831960" y="3166920"/>
            <a:chExt cx="2384280" cy="1936800"/>
          </a:xfrm>
        </p:grpSpPr>
        <p:sp>
          <p:nvSpPr>
            <p:cNvPr id="769" name=""/>
            <p:cNvSpPr/>
            <p:nvPr/>
          </p:nvSpPr>
          <p:spPr>
            <a:xfrm>
              <a:off x="1308240" y="4024080"/>
              <a:ext cx="1908000" cy="10796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66"/>
                  </a:solidFill>
                  <a:latin typeface="Times New Roman"/>
                  <a:ea typeface="黑体"/>
                </a:rPr>
                <a:t>飞夺泸定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>
              <a:off x="831960" y="3166920"/>
              <a:ext cx="395280" cy="1622520"/>
            </a:xfrm>
            <a:custGeom>
              <a:avLst/>
              <a:gdLst>
                <a:gd name="textAreaLeft" fmla="*/ 52920 w 395280"/>
                <a:gd name="textAreaRight" fmla="*/ 342360 w 395280"/>
                <a:gd name="textAreaTop" fmla="*/ 297720 h 1622520"/>
                <a:gd name="textAreaBottom" fmla="*/ 1153440 h 162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931" stAng="-5400000" swAng="5400000"/>
                  <a:lnTo>
                    <a:pt x="21600" y="11388"/>
                  </a:lnTo>
                  <a:arcTo wR="21600" hR="7931" stAng="0" swAng="2764861"/>
                  <a:lnTo>
                    <a:pt x="7200" y="21146"/>
                  </a:lnTo>
                  <a:lnTo>
                    <a:pt x="0" y="17590"/>
                  </a:lnTo>
                  <a:lnTo>
                    <a:pt x="7200" y="13125"/>
                  </a:lnTo>
                  <a:lnTo>
                    <a:pt x="7200" y="15407"/>
                  </a:lnTo>
                  <a:arcTo wR="21600" hR="7931" stAng="2764861" swAng="-2483614"/>
                  <a:lnTo>
                    <a:pt x="21081" y="9659"/>
                  </a:lnTo>
                  <a:arcTo wR="21600" hR="7931" stAng="-281247" swAng="-5118753"/>
                  <a:close/>
                </a:path>
                <a:path fill="darkenLess" w="21600" h="21600">
                  <a:moveTo>
                    <a:pt x="0" y="0"/>
                  </a:moveTo>
                  <a:arcTo wR="21600" hR="7931" stAng="-5400000" swAng="5400000"/>
                  <a:lnTo>
                    <a:pt x="21600" y="11388"/>
                  </a:lnTo>
                  <a:arcTo wR="21600" hR="7931" stAng="0" swAng="-281247"/>
                  <a:lnTo>
                    <a:pt x="21081" y="9659"/>
                  </a:lnTo>
                  <a:arcTo wR="21600" hR="7931" stAng="-281247" swAng="-5118753"/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1" name=""/>
          <p:cNvGrpSpPr/>
          <p:nvPr/>
        </p:nvGrpSpPr>
        <p:grpSpPr>
          <a:xfrm>
            <a:off x="3540240" y="2701800"/>
            <a:ext cx="2417400" cy="1079640"/>
            <a:chOff x="3540240" y="2701800"/>
            <a:chExt cx="2417400" cy="1079640"/>
          </a:xfrm>
        </p:grpSpPr>
        <p:sp>
          <p:nvSpPr>
            <p:cNvPr id="772" name=""/>
            <p:cNvSpPr/>
            <p:nvPr/>
          </p:nvSpPr>
          <p:spPr>
            <a:xfrm flipH="1">
              <a:off x="5381280" y="3244680"/>
              <a:ext cx="57636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40240" y="2701800"/>
              <a:ext cx="1908000" cy="10796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66"/>
                  </a:solidFill>
                  <a:latin typeface="Times New Roman"/>
                  <a:ea typeface="黑体"/>
                </a:rPr>
                <a:t>巧渡金沙江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1308240" y="2701800"/>
            <a:ext cx="2237760" cy="1079640"/>
            <a:chOff x="1308240" y="2701800"/>
            <a:chExt cx="2237760" cy="1079640"/>
          </a:xfrm>
        </p:grpSpPr>
        <p:sp>
          <p:nvSpPr>
            <p:cNvPr id="775" name=""/>
            <p:cNvSpPr/>
            <p:nvPr/>
          </p:nvSpPr>
          <p:spPr>
            <a:xfrm>
              <a:off x="1308240" y="2701800"/>
              <a:ext cx="1907640" cy="10796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66"/>
                  </a:solidFill>
                  <a:latin typeface="Times New Roman"/>
                  <a:ea typeface="黑体"/>
                </a:rPr>
                <a:t>强渡大渡河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3186000" y="3241440"/>
              <a:ext cx="36000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7" name=""/>
          <p:cNvSpPr/>
          <p:nvPr/>
        </p:nvSpPr>
        <p:spPr>
          <a:xfrm>
            <a:off x="1308240" y="1432080"/>
            <a:ext cx="1908000" cy="10792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黑体"/>
              </a:rPr>
              <a:t>中央革命根据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5411880" y="1432080"/>
            <a:ext cx="1563120" cy="1079280"/>
            <a:chOff x="5411880" y="1432080"/>
            <a:chExt cx="1563120" cy="1079280"/>
          </a:xfrm>
        </p:grpSpPr>
        <p:sp>
          <p:nvSpPr>
            <p:cNvPr id="779" name=""/>
            <p:cNvSpPr/>
            <p:nvPr/>
          </p:nvSpPr>
          <p:spPr>
            <a:xfrm>
              <a:off x="5964120" y="1432080"/>
              <a:ext cx="1010880" cy="10792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66"/>
                  </a:solidFill>
                  <a:latin typeface="Times New Roman"/>
                  <a:ea typeface="黑体"/>
                </a:rPr>
                <a:t>突破湘江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411880" y="1971360"/>
              <a:ext cx="57600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6892920" y="1432080"/>
            <a:ext cx="1353960" cy="1079280"/>
            <a:chOff x="6892920" y="1432080"/>
            <a:chExt cx="1353960" cy="1079280"/>
          </a:xfrm>
        </p:grpSpPr>
        <p:sp>
          <p:nvSpPr>
            <p:cNvPr id="782" name=""/>
            <p:cNvSpPr/>
            <p:nvPr/>
          </p:nvSpPr>
          <p:spPr>
            <a:xfrm>
              <a:off x="6892920" y="1971360"/>
              <a:ext cx="36036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236000" y="1432080"/>
              <a:ext cx="1010880" cy="10792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66"/>
                  </a:solidFill>
                  <a:latin typeface="Times New Roman"/>
                  <a:ea typeface="黑体"/>
                </a:rPr>
                <a:t>渡过乌江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4" name=""/>
          <p:cNvGrpSpPr/>
          <p:nvPr/>
        </p:nvGrpSpPr>
        <p:grpSpPr>
          <a:xfrm>
            <a:off x="7236000" y="1800360"/>
            <a:ext cx="1457280" cy="1981080"/>
            <a:chOff x="7236000" y="1800360"/>
            <a:chExt cx="1457280" cy="1981080"/>
          </a:xfrm>
        </p:grpSpPr>
        <p:sp>
          <p:nvSpPr>
            <p:cNvPr id="785" name=""/>
            <p:cNvSpPr/>
            <p:nvPr/>
          </p:nvSpPr>
          <p:spPr>
            <a:xfrm>
              <a:off x="8298000" y="1800360"/>
              <a:ext cx="395280" cy="1622520"/>
            </a:xfrm>
            <a:custGeom>
              <a:avLst/>
              <a:gdLst>
                <a:gd name="textAreaLeft" fmla="*/ 52920 w 395280"/>
                <a:gd name="textAreaRight" fmla="*/ 342360 w 395280"/>
                <a:gd name="textAreaTop" fmla="*/ 297720 h 1622520"/>
                <a:gd name="textAreaBottom" fmla="*/ 1153440 h 162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931" stAng="-5400000" swAng="5400000"/>
                  <a:lnTo>
                    <a:pt x="21600" y="11388"/>
                  </a:lnTo>
                  <a:arcTo wR="21600" hR="7931" stAng="0" swAng="2764861"/>
                  <a:lnTo>
                    <a:pt x="7200" y="21146"/>
                  </a:lnTo>
                  <a:lnTo>
                    <a:pt x="0" y="17590"/>
                  </a:lnTo>
                  <a:lnTo>
                    <a:pt x="7200" y="13125"/>
                  </a:lnTo>
                  <a:lnTo>
                    <a:pt x="7200" y="15407"/>
                  </a:lnTo>
                  <a:arcTo wR="21600" hR="7931" stAng="2764861" swAng="-2483614"/>
                  <a:lnTo>
                    <a:pt x="21081" y="9659"/>
                  </a:lnTo>
                  <a:arcTo wR="21600" hR="7931" stAng="-281247" swAng="-5118753"/>
                  <a:close/>
                </a:path>
                <a:path fill="darkenLess" w="21600" h="21600">
                  <a:moveTo>
                    <a:pt x="0" y="0"/>
                  </a:moveTo>
                  <a:arcTo wR="21600" hR="7931" stAng="-5400000" swAng="5400000"/>
                  <a:lnTo>
                    <a:pt x="21600" y="11388"/>
                  </a:lnTo>
                  <a:arcTo wR="21600" hR="7931" stAng="0" swAng="-281247"/>
                  <a:lnTo>
                    <a:pt x="21081" y="9659"/>
                  </a:lnTo>
                  <a:arcTo wR="21600" hR="7931" stAng="-281247" swAng="-5118753"/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236000" y="2702160"/>
              <a:ext cx="1011240" cy="10792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66"/>
                  </a:solidFill>
                  <a:latin typeface="Times New Roman"/>
                  <a:ea typeface="黑体"/>
                </a:rPr>
                <a:t>解放遵义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3228840" y="1432080"/>
            <a:ext cx="2219400" cy="1079280"/>
            <a:chOff x="3228840" y="1432080"/>
            <a:chExt cx="2219400" cy="1079280"/>
          </a:xfrm>
        </p:grpSpPr>
        <p:sp>
          <p:nvSpPr>
            <p:cNvPr id="788" name=""/>
            <p:cNvSpPr/>
            <p:nvPr/>
          </p:nvSpPr>
          <p:spPr>
            <a:xfrm>
              <a:off x="3228840" y="1971360"/>
              <a:ext cx="36036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539880" y="1432080"/>
              <a:ext cx="1908360" cy="10792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66"/>
                  </a:solidFill>
                  <a:latin typeface="Times New Roman"/>
                  <a:ea typeface="黑体"/>
                </a:rPr>
                <a:t>突破四道封锁线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5964120" y="2705040"/>
            <a:ext cx="1309320" cy="1079640"/>
            <a:chOff x="5964120" y="2705040"/>
            <a:chExt cx="1309320" cy="1079640"/>
          </a:xfrm>
        </p:grpSpPr>
        <p:sp>
          <p:nvSpPr>
            <p:cNvPr id="791" name=""/>
            <p:cNvSpPr/>
            <p:nvPr/>
          </p:nvSpPr>
          <p:spPr>
            <a:xfrm flipH="1">
              <a:off x="6913080" y="3244680"/>
              <a:ext cx="36036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964120" y="2705040"/>
              <a:ext cx="1011240" cy="10796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66"/>
                  </a:solidFill>
                  <a:latin typeface="Times New Roman"/>
                  <a:ea typeface="黑体"/>
                </a:rPr>
                <a:t>四渡赤水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6426360" y="4422600"/>
            <a:ext cx="2721960" cy="1890720"/>
            <a:chOff x="6426360" y="4422600"/>
            <a:chExt cx="2721960" cy="1890720"/>
          </a:xfrm>
        </p:grpSpPr>
        <p:sp>
          <p:nvSpPr>
            <p:cNvPr id="794" name=""/>
            <p:cNvSpPr/>
            <p:nvPr/>
          </p:nvSpPr>
          <p:spPr>
            <a:xfrm>
              <a:off x="6426360" y="5233680"/>
              <a:ext cx="2360160" cy="10796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66"/>
                  </a:solidFill>
                  <a:latin typeface="Times New Roman"/>
                  <a:ea typeface="黑体"/>
                </a:rPr>
                <a:t>三大主力红军甘肃会师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8753400" y="4422600"/>
              <a:ext cx="394920" cy="1622520"/>
            </a:xfrm>
            <a:custGeom>
              <a:avLst/>
              <a:gdLst>
                <a:gd name="textAreaLeft" fmla="*/ 52920 w 394920"/>
                <a:gd name="textAreaRight" fmla="*/ 342000 w 394920"/>
                <a:gd name="textAreaTop" fmla="*/ 297720 h 1622520"/>
                <a:gd name="textAreaBottom" fmla="*/ 1153440 h 162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931" stAng="-5400000" swAng="5400000"/>
                  <a:lnTo>
                    <a:pt x="21600" y="11388"/>
                  </a:lnTo>
                  <a:arcTo wR="21600" hR="7931" stAng="0" swAng="2764861"/>
                  <a:lnTo>
                    <a:pt x="7200" y="21146"/>
                  </a:lnTo>
                  <a:lnTo>
                    <a:pt x="0" y="17590"/>
                  </a:lnTo>
                  <a:lnTo>
                    <a:pt x="7200" y="13125"/>
                  </a:lnTo>
                  <a:lnTo>
                    <a:pt x="7200" y="15407"/>
                  </a:lnTo>
                  <a:arcTo wR="21600" hR="7931" stAng="2764861" swAng="-2483614"/>
                  <a:lnTo>
                    <a:pt x="21081" y="9659"/>
                  </a:lnTo>
                  <a:arcTo wR="21600" hR="7931" stAng="-281247" swAng="-5118753"/>
                  <a:close/>
                </a:path>
                <a:path fill="darkenLess" w="21600" h="21600">
                  <a:moveTo>
                    <a:pt x="0" y="0"/>
                  </a:moveTo>
                  <a:arcTo wR="21600" hR="7931" stAng="-5400000" swAng="5400000"/>
                  <a:lnTo>
                    <a:pt x="21600" y="11388"/>
                  </a:lnTo>
                  <a:arcTo wR="21600" hR="7931" stAng="0" swAng="-281247"/>
                  <a:lnTo>
                    <a:pt x="21081" y="9659"/>
                  </a:lnTo>
                  <a:arcTo wR="21600" hR="7931" stAng="-281247" swAng="-5118753"/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6" name=""/>
          <p:cNvGrpSpPr/>
          <p:nvPr/>
        </p:nvGrpSpPr>
        <p:grpSpPr>
          <a:xfrm>
            <a:off x="6919920" y="4024440"/>
            <a:ext cx="1947960" cy="1079280"/>
            <a:chOff x="6919920" y="4024440"/>
            <a:chExt cx="1947960" cy="1079280"/>
          </a:xfrm>
        </p:grpSpPr>
        <p:sp>
          <p:nvSpPr>
            <p:cNvPr id="797" name=""/>
            <p:cNvSpPr/>
            <p:nvPr/>
          </p:nvSpPr>
          <p:spPr>
            <a:xfrm>
              <a:off x="6919920" y="4563720"/>
              <a:ext cx="36036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236000" y="4024440"/>
              <a:ext cx="1631880" cy="10792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66"/>
                  </a:solidFill>
                  <a:latin typeface="Times New Roman"/>
                  <a:ea typeface="黑体"/>
                </a:rPr>
                <a:t>陕北吴起镇会师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5443560" y="4024440"/>
            <a:ext cx="1531800" cy="1079280"/>
            <a:chOff x="5443560" y="4024440"/>
            <a:chExt cx="1531800" cy="1079280"/>
          </a:xfrm>
        </p:grpSpPr>
        <p:sp>
          <p:nvSpPr>
            <p:cNvPr id="800" name=""/>
            <p:cNvSpPr/>
            <p:nvPr/>
          </p:nvSpPr>
          <p:spPr>
            <a:xfrm>
              <a:off x="5443560" y="4551120"/>
              <a:ext cx="57636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964120" y="4024440"/>
              <a:ext cx="1011240" cy="10792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66"/>
                  </a:solidFill>
                  <a:latin typeface="Times New Roman"/>
                  <a:ea typeface="黑体"/>
                </a:rPr>
                <a:t>过草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6195960" y="127080"/>
            <a:ext cx="3425760" cy="6644880"/>
            <a:chOff x="6195960" y="127080"/>
            <a:chExt cx="3425760" cy="6644880"/>
          </a:xfrm>
        </p:grpSpPr>
        <p:grpSp>
          <p:nvGrpSpPr>
            <p:cNvPr id="803" name=""/>
            <p:cNvGrpSpPr/>
            <p:nvPr/>
          </p:nvGrpSpPr>
          <p:grpSpPr>
            <a:xfrm>
              <a:off x="6211800" y="127080"/>
              <a:ext cx="3409920" cy="581400"/>
              <a:chOff x="6211800" y="127080"/>
              <a:chExt cx="3409920" cy="581400"/>
            </a:xfrm>
          </p:grpSpPr>
          <p:sp>
            <p:nvSpPr>
              <p:cNvPr id="804" name=""/>
              <p:cNvSpPr/>
              <p:nvPr/>
            </p:nvSpPr>
            <p:spPr>
              <a:xfrm>
                <a:off x="6532560" y="127080"/>
                <a:ext cx="3089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Times New Roman"/>
                    <a:ea typeface="华文行楷"/>
                  </a:rPr>
                  <a:t>1936</a:t>
                </a:r>
                <a:r>
                  <a:rPr b="1" lang="zh-CN" sz="3200" spc="-1" strike="noStrike">
                    <a:solidFill>
                      <a:srgbClr val="0000ff"/>
                    </a:solidFill>
                    <a:latin typeface="Times New Roman"/>
                    <a:ea typeface="华文行楷"/>
                  </a:rPr>
                  <a:t>、</a:t>
                </a:r>
                <a:r>
                  <a:rPr b="1" lang="en-US" sz="3200" spc="-1" strike="noStrike">
                    <a:solidFill>
                      <a:srgbClr val="0000ff"/>
                    </a:solidFill>
                    <a:latin typeface="Times New Roman"/>
                    <a:ea typeface="华文行楷"/>
                  </a:rPr>
                  <a:t>10)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6211800" y="477720"/>
                <a:ext cx="8319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6" name=""/>
            <p:cNvSpPr/>
            <p:nvPr/>
          </p:nvSpPr>
          <p:spPr>
            <a:xfrm>
              <a:off x="6195960" y="625140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1936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年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月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7" name=""/>
          <p:cNvSpPr/>
          <p:nvPr/>
        </p:nvSpPr>
        <p:spPr>
          <a:xfrm>
            <a:off x="117360" y="5624640"/>
            <a:ext cx="14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意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8" name=""/>
          <p:cNvGrpSpPr/>
          <p:nvPr/>
        </p:nvGrpSpPr>
        <p:grpSpPr>
          <a:xfrm>
            <a:off x="1420920" y="5181480"/>
            <a:ext cx="4238640" cy="1662120"/>
            <a:chOff x="1420920" y="5181480"/>
            <a:chExt cx="4238640" cy="1662120"/>
          </a:xfrm>
        </p:grpSpPr>
        <p:sp>
          <p:nvSpPr>
            <p:cNvPr id="809" name=""/>
            <p:cNvSpPr/>
            <p:nvPr/>
          </p:nvSpPr>
          <p:spPr>
            <a:xfrm>
              <a:off x="1676520" y="5181480"/>
              <a:ext cx="2389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粉碎了…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676520" y="5729040"/>
              <a:ext cx="2438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保存了…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676520" y="6264000"/>
              <a:ext cx="3983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使……转危为安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420920" y="5263920"/>
              <a:ext cx="235080" cy="1406520"/>
            </a:xfrm>
            <a:custGeom>
              <a:avLst/>
              <a:gdLst>
                <a:gd name="textAreaLeft" fmla="*/ 150120 w 235080"/>
                <a:gd name="textAreaRight" fmla="*/ 235440 w 235080"/>
                <a:gd name="textAreaTop" fmla="*/ 36360 h 1406520"/>
                <a:gd name="textAreaBottom" fmla="*/ 1370160 h 140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4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3" name=""/>
          <p:cNvSpPr/>
          <p:nvPr/>
        </p:nvSpPr>
        <p:spPr>
          <a:xfrm>
            <a:off x="95400" y="31680"/>
            <a:ext cx="438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红军不怕远征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914640" y="1224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(1934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、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66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6" name=""/>
          <p:cNvSpPr/>
          <p:nvPr/>
        </p:nvSpPr>
        <p:spPr>
          <a:xfrm>
            <a:off x="14400" y="12524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倒下的是一座座丰碑，活着的是一面面旗帜。人数虽少些，但留下的都是中国革命的精华。——毛泽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0" y="3733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1955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年中国人民解放军首次授封的将帅中，中将以上的共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254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人，其中有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222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人参加过长征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9" name=""/>
          <p:cNvSpPr/>
          <p:nvPr/>
        </p:nvSpPr>
        <p:spPr>
          <a:xfrm>
            <a:off x="65160" y="101592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我们纪念长征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最重要的是弘扬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长征精神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把革命先烈开创的伟大事业不断推向前进。航天精神和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长征精神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一脉相承。勇往直前、百折不挠、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长征精神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将一直激励着我们大步迈向民族复兴。——中国运载火箭技术研究院院长吴燕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66600" y="66600"/>
            <a:ext cx="6603840" cy="6412680"/>
            <a:chOff x="66600" y="66600"/>
            <a:chExt cx="6603840" cy="6412680"/>
          </a:xfrm>
        </p:grpSpPr>
        <p:sp>
          <p:nvSpPr>
            <p:cNvPr id="821" name=""/>
            <p:cNvSpPr/>
            <p:nvPr/>
          </p:nvSpPr>
          <p:spPr>
            <a:xfrm>
              <a:off x="66600" y="66600"/>
              <a:ext cx="3600360" cy="934920"/>
            </a:xfrm>
            <a:custGeom>
              <a:avLst/>
              <a:gdLst>
                <a:gd name="textAreaLeft" fmla="*/ 110160 w 3600360"/>
                <a:gd name="textAreaRight" fmla="*/ 3490200 w 3600360"/>
                <a:gd name="textAreaTop" fmla="*/ 110160 h 934920"/>
                <a:gd name="textAreaBottom" fmla="*/ 824760 h 934920"/>
              </a:gdLst>
              <a:ahLst/>
              <a:rect l="textAreaLeft" t="textAreaTop" r="textAreaRight" b="textAreaBottom"/>
              <a:pathLst>
                <a:path w="83158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79558" y="21600"/>
                  </a:lnTo>
                  <a:arcTo wR="3600" hR="3600" stAng="10800000" swAng="5400000"/>
                  <a:lnTo>
                    <a:pt x="83158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Arial"/>
                </a:rPr>
                <a:t>请  思  考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10880" y="5715000"/>
              <a:ext cx="6559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3300"/>
                  </a:solidFill>
                  <a:latin typeface="Times New Roman"/>
                </a:rPr>
                <a:t>你认为什么是长征精神？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4" name=""/>
          <p:cNvSpPr/>
          <p:nvPr/>
        </p:nvSpPr>
        <p:spPr>
          <a:xfrm>
            <a:off x="90360" y="84240"/>
            <a:ext cx="438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红军不怕远征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17360" y="757080"/>
            <a:ext cx="14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原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17360" y="1538280"/>
            <a:ext cx="126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经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338120" y="798480"/>
            <a:ext cx="55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红军              反“围剿”失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338560" y="798480"/>
            <a:ext cx="157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第五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782880" y="12384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(1934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、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3214800" y="4024440"/>
            <a:ext cx="2233440" cy="1079280"/>
            <a:chOff x="3214800" y="4024440"/>
            <a:chExt cx="2233440" cy="1079280"/>
          </a:xfrm>
        </p:grpSpPr>
        <p:sp>
          <p:nvSpPr>
            <p:cNvPr id="831" name=""/>
            <p:cNvSpPr/>
            <p:nvPr/>
          </p:nvSpPr>
          <p:spPr>
            <a:xfrm>
              <a:off x="3214800" y="4563720"/>
              <a:ext cx="36036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540240" y="4024440"/>
              <a:ext cx="1908000" cy="10792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66"/>
                  </a:solidFill>
                  <a:latin typeface="Times New Roman"/>
                  <a:ea typeface="黑体"/>
                </a:rPr>
                <a:t>爬雪山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3" name=""/>
          <p:cNvGrpSpPr/>
          <p:nvPr/>
        </p:nvGrpSpPr>
        <p:grpSpPr>
          <a:xfrm>
            <a:off x="831960" y="3166920"/>
            <a:ext cx="2384280" cy="1936800"/>
            <a:chOff x="831960" y="3166920"/>
            <a:chExt cx="2384280" cy="1936800"/>
          </a:xfrm>
        </p:grpSpPr>
        <p:sp>
          <p:nvSpPr>
            <p:cNvPr id="834" name=""/>
            <p:cNvSpPr/>
            <p:nvPr/>
          </p:nvSpPr>
          <p:spPr>
            <a:xfrm>
              <a:off x="1308240" y="4024080"/>
              <a:ext cx="1908000" cy="10796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66"/>
                  </a:solidFill>
                  <a:latin typeface="Times New Roman"/>
                  <a:ea typeface="黑体"/>
                </a:rPr>
                <a:t>飞夺泸定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831960" y="3166920"/>
              <a:ext cx="395280" cy="1622520"/>
            </a:xfrm>
            <a:custGeom>
              <a:avLst/>
              <a:gdLst>
                <a:gd name="textAreaLeft" fmla="*/ 52920 w 395280"/>
                <a:gd name="textAreaRight" fmla="*/ 342360 w 395280"/>
                <a:gd name="textAreaTop" fmla="*/ 297720 h 1622520"/>
                <a:gd name="textAreaBottom" fmla="*/ 1153440 h 162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931" stAng="-5400000" swAng="5400000"/>
                  <a:lnTo>
                    <a:pt x="21600" y="11388"/>
                  </a:lnTo>
                  <a:arcTo wR="21600" hR="7931" stAng="0" swAng="2764861"/>
                  <a:lnTo>
                    <a:pt x="7200" y="21146"/>
                  </a:lnTo>
                  <a:lnTo>
                    <a:pt x="0" y="17590"/>
                  </a:lnTo>
                  <a:lnTo>
                    <a:pt x="7200" y="13125"/>
                  </a:lnTo>
                  <a:lnTo>
                    <a:pt x="7200" y="15407"/>
                  </a:lnTo>
                  <a:arcTo wR="21600" hR="7931" stAng="2764861" swAng="-2483614"/>
                  <a:lnTo>
                    <a:pt x="21081" y="9659"/>
                  </a:lnTo>
                  <a:arcTo wR="21600" hR="7931" stAng="-281247" swAng="-5118753"/>
                  <a:close/>
                </a:path>
                <a:path fill="darkenLess" w="21600" h="21600">
                  <a:moveTo>
                    <a:pt x="0" y="0"/>
                  </a:moveTo>
                  <a:arcTo wR="21600" hR="7931" stAng="-5400000" swAng="5400000"/>
                  <a:lnTo>
                    <a:pt x="21600" y="11388"/>
                  </a:lnTo>
                  <a:arcTo wR="21600" hR="7931" stAng="0" swAng="-281247"/>
                  <a:lnTo>
                    <a:pt x="21081" y="9659"/>
                  </a:lnTo>
                  <a:arcTo wR="21600" hR="7931" stAng="-281247" swAng="-5118753"/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6" name=""/>
          <p:cNvGrpSpPr/>
          <p:nvPr/>
        </p:nvGrpSpPr>
        <p:grpSpPr>
          <a:xfrm>
            <a:off x="3540240" y="2701800"/>
            <a:ext cx="2417400" cy="1079640"/>
            <a:chOff x="3540240" y="2701800"/>
            <a:chExt cx="2417400" cy="1079640"/>
          </a:xfrm>
        </p:grpSpPr>
        <p:sp>
          <p:nvSpPr>
            <p:cNvPr id="837" name=""/>
            <p:cNvSpPr/>
            <p:nvPr/>
          </p:nvSpPr>
          <p:spPr>
            <a:xfrm flipH="1">
              <a:off x="5381280" y="3244680"/>
              <a:ext cx="57636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540240" y="2701800"/>
              <a:ext cx="1908000" cy="10796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66"/>
                  </a:solidFill>
                  <a:latin typeface="Times New Roman"/>
                  <a:ea typeface="黑体"/>
                </a:rPr>
                <a:t>巧渡金沙江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9" name=""/>
          <p:cNvGrpSpPr/>
          <p:nvPr/>
        </p:nvGrpSpPr>
        <p:grpSpPr>
          <a:xfrm>
            <a:off x="1308240" y="2701800"/>
            <a:ext cx="2237760" cy="1079640"/>
            <a:chOff x="1308240" y="2701800"/>
            <a:chExt cx="2237760" cy="1079640"/>
          </a:xfrm>
        </p:grpSpPr>
        <p:sp>
          <p:nvSpPr>
            <p:cNvPr id="840" name=""/>
            <p:cNvSpPr/>
            <p:nvPr/>
          </p:nvSpPr>
          <p:spPr>
            <a:xfrm>
              <a:off x="1308240" y="2701800"/>
              <a:ext cx="1907640" cy="10796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66"/>
                  </a:solidFill>
                  <a:latin typeface="Times New Roman"/>
                  <a:ea typeface="黑体"/>
                </a:rPr>
                <a:t>强渡大渡河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3186000" y="3241440"/>
              <a:ext cx="36000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2" name=""/>
          <p:cNvSpPr/>
          <p:nvPr/>
        </p:nvSpPr>
        <p:spPr>
          <a:xfrm>
            <a:off x="1308240" y="1432080"/>
            <a:ext cx="1908000" cy="10792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黑体"/>
              </a:rPr>
              <a:t>中央革命根据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3" name=""/>
          <p:cNvGrpSpPr/>
          <p:nvPr/>
        </p:nvGrpSpPr>
        <p:grpSpPr>
          <a:xfrm>
            <a:off x="5411880" y="1432080"/>
            <a:ext cx="1563120" cy="1079280"/>
            <a:chOff x="5411880" y="1432080"/>
            <a:chExt cx="1563120" cy="1079280"/>
          </a:xfrm>
        </p:grpSpPr>
        <p:sp>
          <p:nvSpPr>
            <p:cNvPr id="844" name=""/>
            <p:cNvSpPr/>
            <p:nvPr/>
          </p:nvSpPr>
          <p:spPr>
            <a:xfrm>
              <a:off x="5964120" y="1432080"/>
              <a:ext cx="1010880" cy="10792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66"/>
                  </a:solidFill>
                  <a:latin typeface="Times New Roman"/>
                  <a:ea typeface="黑体"/>
                </a:rPr>
                <a:t>突破湘江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411880" y="1971360"/>
              <a:ext cx="57600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6" name=""/>
          <p:cNvGrpSpPr/>
          <p:nvPr/>
        </p:nvGrpSpPr>
        <p:grpSpPr>
          <a:xfrm>
            <a:off x="6892920" y="1432080"/>
            <a:ext cx="1353960" cy="1079280"/>
            <a:chOff x="6892920" y="1432080"/>
            <a:chExt cx="1353960" cy="1079280"/>
          </a:xfrm>
        </p:grpSpPr>
        <p:sp>
          <p:nvSpPr>
            <p:cNvPr id="847" name=""/>
            <p:cNvSpPr/>
            <p:nvPr/>
          </p:nvSpPr>
          <p:spPr>
            <a:xfrm>
              <a:off x="6892920" y="1971360"/>
              <a:ext cx="36036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236000" y="1432080"/>
              <a:ext cx="1010880" cy="10792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66"/>
                  </a:solidFill>
                  <a:latin typeface="Times New Roman"/>
                  <a:ea typeface="黑体"/>
                </a:rPr>
                <a:t>渡过乌江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9" name=""/>
          <p:cNvGrpSpPr/>
          <p:nvPr/>
        </p:nvGrpSpPr>
        <p:grpSpPr>
          <a:xfrm>
            <a:off x="7236000" y="1800360"/>
            <a:ext cx="1457280" cy="1981080"/>
            <a:chOff x="7236000" y="1800360"/>
            <a:chExt cx="1457280" cy="1981080"/>
          </a:xfrm>
        </p:grpSpPr>
        <p:sp>
          <p:nvSpPr>
            <p:cNvPr id="850" name=""/>
            <p:cNvSpPr/>
            <p:nvPr/>
          </p:nvSpPr>
          <p:spPr>
            <a:xfrm>
              <a:off x="8298000" y="1800360"/>
              <a:ext cx="395280" cy="1622520"/>
            </a:xfrm>
            <a:custGeom>
              <a:avLst/>
              <a:gdLst>
                <a:gd name="textAreaLeft" fmla="*/ 52920 w 395280"/>
                <a:gd name="textAreaRight" fmla="*/ 342360 w 395280"/>
                <a:gd name="textAreaTop" fmla="*/ 297720 h 1622520"/>
                <a:gd name="textAreaBottom" fmla="*/ 1153440 h 162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931" stAng="-5400000" swAng="5400000"/>
                  <a:lnTo>
                    <a:pt x="21600" y="11388"/>
                  </a:lnTo>
                  <a:arcTo wR="21600" hR="7931" stAng="0" swAng="2764861"/>
                  <a:lnTo>
                    <a:pt x="7200" y="21146"/>
                  </a:lnTo>
                  <a:lnTo>
                    <a:pt x="0" y="17590"/>
                  </a:lnTo>
                  <a:lnTo>
                    <a:pt x="7200" y="13125"/>
                  </a:lnTo>
                  <a:lnTo>
                    <a:pt x="7200" y="15407"/>
                  </a:lnTo>
                  <a:arcTo wR="21600" hR="7931" stAng="2764861" swAng="-2483614"/>
                  <a:lnTo>
                    <a:pt x="21081" y="9659"/>
                  </a:lnTo>
                  <a:arcTo wR="21600" hR="7931" stAng="-281247" swAng="-5118753"/>
                  <a:close/>
                </a:path>
                <a:path fill="darkenLess" w="21600" h="21600">
                  <a:moveTo>
                    <a:pt x="0" y="0"/>
                  </a:moveTo>
                  <a:arcTo wR="21600" hR="7931" stAng="-5400000" swAng="5400000"/>
                  <a:lnTo>
                    <a:pt x="21600" y="11388"/>
                  </a:lnTo>
                  <a:arcTo wR="21600" hR="7931" stAng="0" swAng="-281247"/>
                  <a:lnTo>
                    <a:pt x="21081" y="9659"/>
                  </a:lnTo>
                  <a:arcTo wR="21600" hR="7931" stAng="-281247" swAng="-5118753"/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236000" y="2702160"/>
              <a:ext cx="1011240" cy="10792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66"/>
                  </a:solidFill>
                  <a:latin typeface="Times New Roman"/>
                  <a:ea typeface="黑体"/>
                </a:rPr>
                <a:t>解放遵义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3228840" y="1432080"/>
            <a:ext cx="2219400" cy="1079280"/>
            <a:chOff x="3228840" y="1432080"/>
            <a:chExt cx="2219400" cy="1079280"/>
          </a:xfrm>
        </p:grpSpPr>
        <p:sp>
          <p:nvSpPr>
            <p:cNvPr id="853" name=""/>
            <p:cNvSpPr/>
            <p:nvPr/>
          </p:nvSpPr>
          <p:spPr>
            <a:xfrm>
              <a:off x="3228840" y="1971360"/>
              <a:ext cx="36036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539880" y="1432080"/>
              <a:ext cx="1908360" cy="10792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66"/>
                  </a:solidFill>
                  <a:latin typeface="Times New Roman"/>
                  <a:ea typeface="黑体"/>
                </a:rPr>
                <a:t>突破四道封锁线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"/>
          <p:cNvGrpSpPr/>
          <p:nvPr/>
        </p:nvGrpSpPr>
        <p:grpSpPr>
          <a:xfrm>
            <a:off x="5964120" y="2705040"/>
            <a:ext cx="1309320" cy="1079640"/>
            <a:chOff x="5964120" y="2705040"/>
            <a:chExt cx="1309320" cy="1079640"/>
          </a:xfrm>
        </p:grpSpPr>
        <p:sp>
          <p:nvSpPr>
            <p:cNvPr id="856" name=""/>
            <p:cNvSpPr/>
            <p:nvPr/>
          </p:nvSpPr>
          <p:spPr>
            <a:xfrm flipH="1">
              <a:off x="6913080" y="3244680"/>
              <a:ext cx="36036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964120" y="2705040"/>
              <a:ext cx="1011240" cy="10796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66"/>
                  </a:solidFill>
                  <a:latin typeface="Times New Roman"/>
                  <a:ea typeface="黑体"/>
                </a:rPr>
                <a:t>四渡赤水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8" name=""/>
          <p:cNvGrpSpPr/>
          <p:nvPr/>
        </p:nvGrpSpPr>
        <p:grpSpPr>
          <a:xfrm>
            <a:off x="6426360" y="4422600"/>
            <a:ext cx="2721960" cy="1890720"/>
            <a:chOff x="6426360" y="4422600"/>
            <a:chExt cx="2721960" cy="1890720"/>
          </a:xfrm>
        </p:grpSpPr>
        <p:sp>
          <p:nvSpPr>
            <p:cNvPr id="859" name=""/>
            <p:cNvSpPr/>
            <p:nvPr/>
          </p:nvSpPr>
          <p:spPr>
            <a:xfrm>
              <a:off x="6426360" y="5233680"/>
              <a:ext cx="2360160" cy="10796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66"/>
                  </a:solidFill>
                  <a:latin typeface="Times New Roman"/>
                  <a:ea typeface="黑体"/>
                </a:rPr>
                <a:t>三大主力红军甘肃会师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753400" y="4422600"/>
              <a:ext cx="394920" cy="1622520"/>
            </a:xfrm>
            <a:custGeom>
              <a:avLst/>
              <a:gdLst>
                <a:gd name="textAreaLeft" fmla="*/ 52920 w 394920"/>
                <a:gd name="textAreaRight" fmla="*/ 342000 w 394920"/>
                <a:gd name="textAreaTop" fmla="*/ 297720 h 1622520"/>
                <a:gd name="textAreaBottom" fmla="*/ 1153440 h 162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931" stAng="-5400000" swAng="5400000"/>
                  <a:lnTo>
                    <a:pt x="21600" y="11388"/>
                  </a:lnTo>
                  <a:arcTo wR="21600" hR="7931" stAng="0" swAng="2764861"/>
                  <a:lnTo>
                    <a:pt x="7200" y="21146"/>
                  </a:lnTo>
                  <a:lnTo>
                    <a:pt x="0" y="17590"/>
                  </a:lnTo>
                  <a:lnTo>
                    <a:pt x="7200" y="13125"/>
                  </a:lnTo>
                  <a:lnTo>
                    <a:pt x="7200" y="15407"/>
                  </a:lnTo>
                  <a:arcTo wR="21600" hR="7931" stAng="2764861" swAng="-2483614"/>
                  <a:lnTo>
                    <a:pt x="21081" y="9659"/>
                  </a:lnTo>
                  <a:arcTo wR="21600" hR="7931" stAng="-281247" swAng="-5118753"/>
                  <a:close/>
                </a:path>
                <a:path fill="darkenLess" w="21600" h="21600">
                  <a:moveTo>
                    <a:pt x="0" y="0"/>
                  </a:moveTo>
                  <a:arcTo wR="21600" hR="7931" stAng="-5400000" swAng="5400000"/>
                  <a:lnTo>
                    <a:pt x="21600" y="11388"/>
                  </a:lnTo>
                  <a:arcTo wR="21600" hR="7931" stAng="0" swAng="-281247"/>
                  <a:lnTo>
                    <a:pt x="21081" y="9659"/>
                  </a:lnTo>
                  <a:arcTo wR="21600" hR="7931" stAng="-281247" swAng="-5118753"/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1" name=""/>
          <p:cNvGrpSpPr/>
          <p:nvPr/>
        </p:nvGrpSpPr>
        <p:grpSpPr>
          <a:xfrm>
            <a:off x="6919920" y="4024440"/>
            <a:ext cx="1947960" cy="1079280"/>
            <a:chOff x="6919920" y="4024440"/>
            <a:chExt cx="1947960" cy="1079280"/>
          </a:xfrm>
        </p:grpSpPr>
        <p:sp>
          <p:nvSpPr>
            <p:cNvPr id="862" name=""/>
            <p:cNvSpPr/>
            <p:nvPr/>
          </p:nvSpPr>
          <p:spPr>
            <a:xfrm>
              <a:off x="6919920" y="4563720"/>
              <a:ext cx="36036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236000" y="4024440"/>
              <a:ext cx="1631880" cy="10792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66"/>
                  </a:solidFill>
                  <a:latin typeface="Times New Roman"/>
                  <a:ea typeface="黑体"/>
                </a:rPr>
                <a:t>陕北吴起镇会师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4" name=""/>
          <p:cNvGrpSpPr/>
          <p:nvPr/>
        </p:nvGrpSpPr>
        <p:grpSpPr>
          <a:xfrm>
            <a:off x="5443560" y="4024440"/>
            <a:ext cx="1531800" cy="1079280"/>
            <a:chOff x="5443560" y="4024440"/>
            <a:chExt cx="1531800" cy="1079280"/>
          </a:xfrm>
        </p:grpSpPr>
        <p:sp>
          <p:nvSpPr>
            <p:cNvPr id="865" name=""/>
            <p:cNvSpPr/>
            <p:nvPr/>
          </p:nvSpPr>
          <p:spPr>
            <a:xfrm>
              <a:off x="5443560" y="4551120"/>
              <a:ext cx="57636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964120" y="4024440"/>
              <a:ext cx="1011240" cy="10792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66"/>
                  </a:solidFill>
                  <a:latin typeface="Times New Roman"/>
                  <a:ea typeface="黑体"/>
                </a:rPr>
                <a:t>过草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7" name=""/>
          <p:cNvGrpSpPr/>
          <p:nvPr/>
        </p:nvGrpSpPr>
        <p:grpSpPr>
          <a:xfrm>
            <a:off x="6081840" y="76320"/>
            <a:ext cx="3409920" cy="6683400"/>
            <a:chOff x="6081840" y="76320"/>
            <a:chExt cx="3409920" cy="6683400"/>
          </a:xfrm>
        </p:grpSpPr>
        <p:grpSp>
          <p:nvGrpSpPr>
            <p:cNvPr id="868" name=""/>
            <p:cNvGrpSpPr/>
            <p:nvPr/>
          </p:nvGrpSpPr>
          <p:grpSpPr>
            <a:xfrm>
              <a:off x="6081840" y="76320"/>
              <a:ext cx="3409920" cy="581400"/>
              <a:chOff x="6081840" y="76320"/>
              <a:chExt cx="3409920" cy="581400"/>
            </a:xfrm>
          </p:grpSpPr>
          <p:sp>
            <p:nvSpPr>
              <p:cNvPr id="869" name=""/>
              <p:cNvSpPr/>
              <p:nvPr/>
            </p:nvSpPr>
            <p:spPr>
              <a:xfrm>
                <a:off x="6402600" y="76320"/>
                <a:ext cx="3089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Times New Roman"/>
                    <a:ea typeface="华文行楷"/>
                  </a:rPr>
                  <a:t>1936</a:t>
                </a:r>
                <a:r>
                  <a:rPr b="1" lang="zh-CN" sz="3200" spc="-1" strike="noStrike">
                    <a:solidFill>
                      <a:srgbClr val="0000ff"/>
                    </a:solidFill>
                    <a:latin typeface="Times New Roman"/>
                    <a:ea typeface="华文行楷"/>
                  </a:rPr>
                  <a:t>、</a:t>
                </a:r>
                <a:r>
                  <a:rPr b="1" lang="en-US" sz="3200" spc="-1" strike="noStrike">
                    <a:solidFill>
                      <a:srgbClr val="0000ff"/>
                    </a:solidFill>
                    <a:latin typeface="Times New Roman"/>
                    <a:ea typeface="华文行楷"/>
                  </a:rPr>
                  <a:t>10)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6081840" y="427320"/>
                <a:ext cx="8319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1" name=""/>
            <p:cNvSpPr/>
            <p:nvPr/>
          </p:nvSpPr>
          <p:spPr>
            <a:xfrm>
              <a:off x="6607440" y="6240600"/>
              <a:ext cx="2666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2" name=""/>
          <p:cNvSpPr/>
          <p:nvPr/>
        </p:nvSpPr>
        <p:spPr>
          <a:xfrm>
            <a:off x="117360" y="5624640"/>
            <a:ext cx="14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意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3" name=""/>
          <p:cNvGrpSpPr/>
          <p:nvPr/>
        </p:nvGrpSpPr>
        <p:grpSpPr>
          <a:xfrm>
            <a:off x="1420920" y="5181480"/>
            <a:ext cx="4238640" cy="1662120"/>
            <a:chOff x="1420920" y="5181480"/>
            <a:chExt cx="4238640" cy="1662120"/>
          </a:xfrm>
        </p:grpSpPr>
        <p:sp>
          <p:nvSpPr>
            <p:cNvPr id="874" name=""/>
            <p:cNvSpPr/>
            <p:nvPr/>
          </p:nvSpPr>
          <p:spPr>
            <a:xfrm>
              <a:off x="1676520" y="5181480"/>
              <a:ext cx="2389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粉碎了…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676520" y="5729040"/>
              <a:ext cx="2438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保存了…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676520" y="6264000"/>
              <a:ext cx="3983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使……转危为安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420920" y="5263920"/>
              <a:ext cx="235080" cy="1406520"/>
            </a:xfrm>
            <a:custGeom>
              <a:avLst/>
              <a:gdLst>
                <a:gd name="textAreaLeft" fmla="*/ 150120 w 235080"/>
                <a:gd name="textAreaRight" fmla="*/ 235440 w 235080"/>
                <a:gd name="textAreaTop" fmla="*/ 36360 h 1406520"/>
                <a:gd name="textAreaBottom" fmla="*/ 1370160 h 140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4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advTm="40000">
    <p:blinds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9" name=""/>
          <p:cNvSpPr/>
          <p:nvPr/>
        </p:nvSpPr>
        <p:spPr>
          <a:xfrm rot="21247800">
            <a:off x="2360160" y="5564160"/>
            <a:ext cx="1068480" cy="257040"/>
          </a:xfrm>
          <a:prstGeom prst="leftArrow">
            <a:avLst>
              <a:gd name="adj1" fmla="val 65593"/>
              <a:gd name="adj2" fmla="val 120568"/>
            </a:avLst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rot="1855200">
            <a:off x="3593880" y="5052600"/>
            <a:ext cx="230040" cy="762120"/>
          </a:xfrm>
          <a:custGeom>
            <a:avLst/>
            <a:gdLst>
              <a:gd name="textAreaLeft" fmla="*/ 30600 w 230040"/>
              <a:gd name="textAreaRight" fmla="*/ 199440 w 230040"/>
              <a:gd name="textAreaTop" fmla="*/ 133200 h 762120"/>
              <a:gd name="textAreaBottom" fmla="*/ 5526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334120" y="5943600"/>
            <a:ext cx="2133360" cy="304920"/>
          </a:xfrm>
          <a:prstGeom prst="leftArrow">
            <a:avLst>
              <a:gd name="adj1" fmla="val 50000"/>
              <a:gd name="adj2" fmla="val 17491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rot="762000">
            <a:off x="2724120" y="1987560"/>
            <a:ext cx="304920" cy="990720"/>
          </a:xfrm>
          <a:prstGeom prst="upArrow">
            <a:avLst>
              <a:gd name="adj1" fmla="val 50000"/>
              <a:gd name="adj2" fmla="val 81228"/>
            </a:avLst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 rot="3862200">
            <a:off x="3774600" y="587520"/>
            <a:ext cx="304920" cy="1904760"/>
          </a:xfrm>
          <a:prstGeom prst="upArrow">
            <a:avLst>
              <a:gd name="adj1" fmla="val 50000"/>
              <a:gd name="adj2" fmla="val 156169"/>
            </a:avLst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 txBox="1"/>
          <p:nvPr/>
        </p:nvSpPr>
        <p:spPr>
          <a:xfrm>
            <a:off x="7086600" y="5410080"/>
            <a:ext cx="5335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幼圆"/>
              </a:rPr>
              <a:t>中   央</a:t>
            </a:r>
            <a:endParaRPr b="0" lang="en-US" sz="24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幼圆"/>
              <a:ea typeface="幼圆"/>
            </a:endParaRPr>
          </a:p>
        </p:txBody>
      </p:sp>
      <p:sp>
        <p:nvSpPr>
          <p:cNvPr id="885" name=""/>
          <p:cNvSpPr/>
          <p:nvPr/>
        </p:nvSpPr>
        <p:spPr>
          <a:xfrm>
            <a:off x="6858000" y="5486400"/>
            <a:ext cx="152280" cy="228600"/>
          </a:xfrm>
          <a:prstGeom prst="triangle">
            <a:avLst>
              <a:gd name="adj" fmla="val 6333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7010280" y="5715000"/>
            <a:ext cx="30492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于都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887" name=""/>
          <p:cNvSpPr txBox="1"/>
          <p:nvPr/>
        </p:nvSpPr>
        <p:spPr>
          <a:xfrm>
            <a:off x="7620120" y="5715000"/>
            <a:ext cx="30456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瑞金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888" name=""/>
          <p:cNvSpPr/>
          <p:nvPr/>
        </p:nvSpPr>
        <p:spPr>
          <a:xfrm>
            <a:off x="7391520" y="5867280"/>
            <a:ext cx="199800" cy="152640"/>
          </a:xfrm>
          <a:prstGeom prst="star5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4114800" y="4876920"/>
            <a:ext cx="4572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遵义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890" name=""/>
          <p:cNvSpPr/>
          <p:nvPr/>
        </p:nvSpPr>
        <p:spPr>
          <a:xfrm rot="4123800">
            <a:off x="4982760" y="5285880"/>
            <a:ext cx="106704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18707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187072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rot="1095600">
            <a:off x="6139080" y="5830920"/>
            <a:ext cx="133272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55761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55761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rot="3433800">
            <a:off x="5571000" y="5631480"/>
            <a:ext cx="10666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559" y="1357"/>
                </a:moveTo>
                <a:arcTo wR="10800" hR="10800" stAng="-7142001" swAng="4929074"/>
                <a:lnTo>
                  <a:pt x="10800" y="10800"/>
                </a:lnTo>
                <a:close/>
              </a:path>
              <a:path fill="none" w="21600" h="21600">
                <a:moveTo>
                  <a:pt x="5559" y="1357"/>
                </a:moveTo>
                <a:arcTo wR="10800" hR="10800" stAng="-7142001" swAng="492907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rot="5247600">
            <a:off x="4333680" y="4973400"/>
            <a:ext cx="106776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18707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187072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4" name=""/>
          <p:cNvGrpSpPr/>
          <p:nvPr/>
        </p:nvGrpSpPr>
        <p:grpSpPr>
          <a:xfrm>
            <a:off x="209520" y="1981080"/>
            <a:ext cx="8934480" cy="4419720"/>
            <a:chOff x="209520" y="1981080"/>
            <a:chExt cx="8934480" cy="4419720"/>
          </a:xfrm>
        </p:grpSpPr>
        <p:sp>
          <p:nvSpPr>
            <p:cNvPr id="895" name="未知"/>
            <p:cNvSpPr/>
            <p:nvPr/>
          </p:nvSpPr>
          <p:spPr>
            <a:xfrm>
              <a:off x="5219640" y="4686120"/>
              <a:ext cx="1233360" cy="1714680"/>
            </a:xfrm>
            <a:custGeom>
              <a:avLst/>
              <a:gdLst/>
              <a:ahLst/>
              <a:rect l="l" t="t" r="r" b="b"/>
              <a:pathLst>
                <a:path w="777" h="1080">
                  <a:moveTo>
                    <a:pt x="672" y="0"/>
                  </a:moveTo>
                  <a:cubicBezTo>
                    <a:pt x="694" y="65"/>
                    <a:pt x="722" y="115"/>
                    <a:pt x="744" y="180"/>
                  </a:cubicBezTo>
                  <a:cubicBezTo>
                    <a:pt x="748" y="192"/>
                    <a:pt x="752" y="204"/>
                    <a:pt x="756" y="216"/>
                  </a:cubicBezTo>
                  <a:cubicBezTo>
                    <a:pt x="760" y="228"/>
                    <a:pt x="768" y="252"/>
                    <a:pt x="768" y="252"/>
                  </a:cubicBezTo>
                  <a:cubicBezTo>
                    <a:pt x="759" y="341"/>
                    <a:pt x="777" y="386"/>
                    <a:pt x="708" y="432"/>
                  </a:cubicBezTo>
                  <a:cubicBezTo>
                    <a:pt x="704" y="444"/>
                    <a:pt x="706" y="460"/>
                    <a:pt x="696" y="468"/>
                  </a:cubicBezTo>
                  <a:cubicBezTo>
                    <a:pt x="683" y="478"/>
                    <a:pt x="663" y="474"/>
                    <a:pt x="648" y="480"/>
                  </a:cubicBezTo>
                  <a:cubicBezTo>
                    <a:pt x="635" y="486"/>
                    <a:pt x="624" y="496"/>
                    <a:pt x="612" y="504"/>
                  </a:cubicBezTo>
                  <a:cubicBezTo>
                    <a:pt x="651" y="530"/>
                    <a:pt x="691" y="541"/>
                    <a:pt x="636" y="612"/>
                  </a:cubicBezTo>
                  <a:cubicBezTo>
                    <a:pt x="620" y="632"/>
                    <a:pt x="588" y="628"/>
                    <a:pt x="564" y="636"/>
                  </a:cubicBezTo>
                  <a:cubicBezTo>
                    <a:pt x="550" y="641"/>
                    <a:pt x="540" y="652"/>
                    <a:pt x="528" y="660"/>
                  </a:cubicBezTo>
                  <a:cubicBezTo>
                    <a:pt x="444" y="632"/>
                    <a:pt x="480" y="628"/>
                    <a:pt x="420" y="648"/>
                  </a:cubicBezTo>
                  <a:cubicBezTo>
                    <a:pt x="399" y="711"/>
                    <a:pt x="419" y="677"/>
                    <a:pt x="336" y="732"/>
                  </a:cubicBezTo>
                  <a:cubicBezTo>
                    <a:pt x="324" y="740"/>
                    <a:pt x="300" y="756"/>
                    <a:pt x="300" y="756"/>
                  </a:cubicBezTo>
                  <a:cubicBezTo>
                    <a:pt x="283" y="782"/>
                    <a:pt x="257" y="802"/>
                    <a:pt x="240" y="828"/>
                  </a:cubicBezTo>
                  <a:cubicBezTo>
                    <a:pt x="194" y="898"/>
                    <a:pt x="273" y="834"/>
                    <a:pt x="192" y="888"/>
                  </a:cubicBezTo>
                  <a:cubicBezTo>
                    <a:pt x="171" y="951"/>
                    <a:pt x="191" y="917"/>
                    <a:pt x="108" y="972"/>
                  </a:cubicBezTo>
                  <a:cubicBezTo>
                    <a:pt x="96" y="980"/>
                    <a:pt x="72" y="996"/>
                    <a:pt x="72" y="996"/>
                  </a:cubicBezTo>
                  <a:cubicBezTo>
                    <a:pt x="56" y="1058"/>
                    <a:pt x="55" y="1052"/>
                    <a:pt x="0" y="1080"/>
                  </a:cubicBezTo>
                </a:path>
              </a:pathLst>
            </a:custGeom>
            <a:noFill/>
            <a:ln w="3168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未知"/>
            <p:cNvSpPr/>
            <p:nvPr/>
          </p:nvSpPr>
          <p:spPr>
            <a:xfrm>
              <a:off x="2857320" y="3500280"/>
              <a:ext cx="362160" cy="1243080"/>
            </a:xfrm>
            <a:custGeom>
              <a:avLst/>
              <a:gdLst/>
              <a:ahLst/>
              <a:rect l="l" t="t" r="r" b="b"/>
              <a:pathLst>
                <a:path w="192" h="651">
                  <a:moveTo>
                    <a:pt x="192" y="651"/>
                  </a:moveTo>
                  <a:cubicBezTo>
                    <a:pt x="176" y="647"/>
                    <a:pt x="157" y="649"/>
                    <a:pt x="144" y="639"/>
                  </a:cubicBezTo>
                  <a:cubicBezTo>
                    <a:pt x="134" y="631"/>
                    <a:pt x="140" y="613"/>
                    <a:pt x="132" y="603"/>
                  </a:cubicBezTo>
                  <a:cubicBezTo>
                    <a:pt x="123" y="592"/>
                    <a:pt x="108" y="587"/>
                    <a:pt x="96" y="579"/>
                  </a:cubicBezTo>
                  <a:cubicBezTo>
                    <a:pt x="88" y="555"/>
                    <a:pt x="80" y="531"/>
                    <a:pt x="72" y="507"/>
                  </a:cubicBezTo>
                  <a:cubicBezTo>
                    <a:pt x="68" y="495"/>
                    <a:pt x="60" y="471"/>
                    <a:pt x="60" y="471"/>
                  </a:cubicBezTo>
                  <a:cubicBezTo>
                    <a:pt x="70" y="336"/>
                    <a:pt x="86" y="213"/>
                    <a:pt x="60" y="75"/>
                  </a:cubicBezTo>
                  <a:cubicBezTo>
                    <a:pt x="46" y="0"/>
                    <a:pt x="36" y="3"/>
                    <a:pt x="0" y="3"/>
                  </a:cubicBezTo>
                </a:path>
              </a:pathLst>
            </a:custGeom>
            <a:noFill/>
            <a:ln w="3168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未知"/>
            <p:cNvSpPr/>
            <p:nvPr/>
          </p:nvSpPr>
          <p:spPr>
            <a:xfrm>
              <a:off x="2286000" y="3886200"/>
              <a:ext cx="647640" cy="528480"/>
            </a:xfrm>
            <a:custGeom>
              <a:avLst/>
              <a:gdLst/>
              <a:ahLst/>
              <a:rect l="l" t="t" r="r" b="b"/>
              <a:pathLst>
                <a:path w="408" h="333">
                  <a:moveTo>
                    <a:pt x="408" y="252"/>
                  </a:moveTo>
                  <a:cubicBezTo>
                    <a:pt x="354" y="333"/>
                    <a:pt x="337" y="311"/>
                    <a:pt x="228" y="300"/>
                  </a:cubicBezTo>
                  <a:cubicBezTo>
                    <a:pt x="204" y="284"/>
                    <a:pt x="180" y="268"/>
                    <a:pt x="156" y="252"/>
                  </a:cubicBezTo>
                  <a:cubicBezTo>
                    <a:pt x="132" y="236"/>
                    <a:pt x="124" y="204"/>
                    <a:pt x="108" y="180"/>
                  </a:cubicBezTo>
                  <a:cubicBezTo>
                    <a:pt x="100" y="168"/>
                    <a:pt x="96" y="153"/>
                    <a:pt x="84" y="144"/>
                  </a:cubicBezTo>
                  <a:cubicBezTo>
                    <a:pt x="28" y="102"/>
                    <a:pt x="0" y="72"/>
                    <a:pt x="0" y="0"/>
                  </a:cubicBezTo>
                </a:path>
              </a:pathLst>
            </a:custGeom>
            <a:noFill/>
            <a:ln w="3168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未知"/>
            <p:cNvSpPr/>
            <p:nvPr/>
          </p:nvSpPr>
          <p:spPr>
            <a:xfrm>
              <a:off x="3600360" y="3657600"/>
              <a:ext cx="2876760" cy="933480"/>
            </a:xfrm>
            <a:custGeom>
              <a:avLst/>
              <a:gdLst/>
              <a:ahLst/>
              <a:rect l="l" t="t" r="r" b="b"/>
              <a:pathLst>
                <a:path w="1812" h="588">
                  <a:moveTo>
                    <a:pt x="0" y="588"/>
                  </a:moveTo>
                  <a:cubicBezTo>
                    <a:pt x="16" y="584"/>
                    <a:pt x="34" y="585"/>
                    <a:pt x="48" y="576"/>
                  </a:cubicBezTo>
                  <a:cubicBezTo>
                    <a:pt x="60" y="568"/>
                    <a:pt x="62" y="550"/>
                    <a:pt x="72" y="540"/>
                  </a:cubicBezTo>
                  <a:cubicBezTo>
                    <a:pt x="82" y="530"/>
                    <a:pt x="96" y="524"/>
                    <a:pt x="108" y="516"/>
                  </a:cubicBezTo>
                  <a:cubicBezTo>
                    <a:pt x="152" y="449"/>
                    <a:pt x="107" y="502"/>
                    <a:pt x="168" y="468"/>
                  </a:cubicBezTo>
                  <a:cubicBezTo>
                    <a:pt x="193" y="454"/>
                    <a:pt x="216" y="436"/>
                    <a:pt x="240" y="420"/>
                  </a:cubicBezTo>
                  <a:cubicBezTo>
                    <a:pt x="261" y="406"/>
                    <a:pt x="291" y="410"/>
                    <a:pt x="312" y="396"/>
                  </a:cubicBezTo>
                  <a:cubicBezTo>
                    <a:pt x="324" y="388"/>
                    <a:pt x="334" y="377"/>
                    <a:pt x="348" y="372"/>
                  </a:cubicBezTo>
                  <a:cubicBezTo>
                    <a:pt x="406" y="351"/>
                    <a:pt x="469" y="344"/>
                    <a:pt x="528" y="324"/>
                  </a:cubicBezTo>
                  <a:cubicBezTo>
                    <a:pt x="536" y="312"/>
                    <a:pt x="541" y="297"/>
                    <a:pt x="552" y="288"/>
                  </a:cubicBezTo>
                  <a:cubicBezTo>
                    <a:pt x="562" y="280"/>
                    <a:pt x="579" y="285"/>
                    <a:pt x="588" y="276"/>
                  </a:cubicBezTo>
                  <a:cubicBezTo>
                    <a:pt x="652" y="212"/>
                    <a:pt x="540" y="260"/>
                    <a:pt x="636" y="228"/>
                  </a:cubicBezTo>
                  <a:cubicBezTo>
                    <a:pt x="668" y="132"/>
                    <a:pt x="620" y="244"/>
                    <a:pt x="684" y="180"/>
                  </a:cubicBezTo>
                  <a:cubicBezTo>
                    <a:pt x="707" y="157"/>
                    <a:pt x="688" y="110"/>
                    <a:pt x="708" y="84"/>
                  </a:cubicBezTo>
                  <a:cubicBezTo>
                    <a:pt x="740" y="42"/>
                    <a:pt x="819" y="23"/>
                    <a:pt x="864" y="0"/>
                  </a:cubicBezTo>
                  <a:cubicBezTo>
                    <a:pt x="992" y="4"/>
                    <a:pt x="1120" y="1"/>
                    <a:pt x="1248" y="12"/>
                  </a:cubicBezTo>
                  <a:cubicBezTo>
                    <a:pt x="1299" y="16"/>
                    <a:pt x="1288" y="82"/>
                    <a:pt x="1320" y="108"/>
                  </a:cubicBezTo>
                  <a:cubicBezTo>
                    <a:pt x="1330" y="116"/>
                    <a:pt x="1345" y="114"/>
                    <a:pt x="1356" y="120"/>
                  </a:cubicBezTo>
                  <a:cubicBezTo>
                    <a:pt x="1416" y="150"/>
                    <a:pt x="1442" y="168"/>
                    <a:pt x="1512" y="180"/>
                  </a:cubicBezTo>
                  <a:cubicBezTo>
                    <a:pt x="1560" y="212"/>
                    <a:pt x="1553" y="229"/>
                    <a:pt x="1584" y="276"/>
                  </a:cubicBezTo>
                  <a:cubicBezTo>
                    <a:pt x="1588" y="296"/>
                    <a:pt x="1580" y="324"/>
                    <a:pt x="1596" y="336"/>
                  </a:cubicBezTo>
                  <a:cubicBezTo>
                    <a:pt x="1619" y="353"/>
                    <a:pt x="1652" y="343"/>
                    <a:pt x="1680" y="348"/>
                  </a:cubicBezTo>
                  <a:cubicBezTo>
                    <a:pt x="1713" y="354"/>
                    <a:pt x="1733" y="362"/>
                    <a:pt x="1764" y="372"/>
                  </a:cubicBezTo>
                  <a:cubicBezTo>
                    <a:pt x="1788" y="408"/>
                    <a:pt x="1812" y="446"/>
                    <a:pt x="1812" y="492"/>
                  </a:cubicBezTo>
                </a:path>
              </a:pathLst>
            </a:custGeom>
            <a:noFill/>
            <a:ln w="3168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未知"/>
            <p:cNvSpPr/>
            <p:nvPr/>
          </p:nvSpPr>
          <p:spPr>
            <a:xfrm>
              <a:off x="2841480" y="4267080"/>
              <a:ext cx="1920960" cy="1447920"/>
            </a:xfrm>
            <a:custGeom>
              <a:avLst/>
              <a:gdLst/>
              <a:ahLst/>
              <a:rect l="l" t="t" r="r" b="b"/>
              <a:pathLst>
                <a:path w="1210" h="912">
                  <a:moveTo>
                    <a:pt x="910" y="0"/>
                  </a:moveTo>
                  <a:cubicBezTo>
                    <a:pt x="948" y="113"/>
                    <a:pt x="958" y="93"/>
                    <a:pt x="1078" y="108"/>
                  </a:cubicBezTo>
                  <a:cubicBezTo>
                    <a:pt x="1141" y="150"/>
                    <a:pt x="1111" y="118"/>
                    <a:pt x="1138" y="228"/>
                  </a:cubicBezTo>
                  <a:cubicBezTo>
                    <a:pt x="1149" y="272"/>
                    <a:pt x="1185" y="334"/>
                    <a:pt x="1210" y="372"/>
                  </a:cubicBezTo>
                  <a:cubicBezTo>
                    <a:pt x="1169" y="399"/>
                    <a:pt x="1138" y="408"/>
                    <a:pt x="1090" y="420"/>
                  </a:cubicBezTo>
                  <a:cubicBezTo>
                    <a:pt x="1098" y="444"/>
                    <a:pt x="1106" y="468"/>
                    <a:pt x="1114" y="492"/>
                  </a:cubicBezTo>
                  <a:cubicBezTo>
                    <a:pt x="1118" y="504"/>
                    <a:pt x="1126" y="528"/>
                    <a:pt x="1126" y="528"/>
                  </a:cubicBezTo>
                  <a:cubicBezTo>
                    <a:pt x="1106" y="588"/>
                    <a:pt x="1080" y="576"/>
                    <a:pt x="1018" y="588"/>
                  </a:cubicBezTo>
                  <a:cubicBezTo>
                    <a:pt x="951" y="622"/>
                    <a:pt x="903" y="626"/>
                    <a:pt x="826" y="636"/>
                  </a:cubicBezTo>
                  <a:cubicBezTo>
                    <a:pt x="802" y="644"/>
                    <a:pt x="768" y="639"/>
                    <a:pt x="754" y="660"/>
                  </a:cubicBezTo>
                  <a:cubicBezTo>
                    <a:pt x="738" y="684"/>
                    <a:pt x="733" y="723"/>
                    <a:pt x="706" y="732"/>
                  </a:cubicBezTo>
                  <a:cubicBezTo>
                    <a:pt x="647" y="752"/>
                    <a:pt x="598" y="768"/>
                    <a:pt x="538" y="780"/>
                  </a:cubicBezTo>
                  <a:cubicBezTo>
                    <a:pt x="415" y="862"/>
                    <a:pt x="386" y="891"/>
                    <a:pt x="238" y="912"/>
                  </a:cubicBezTo>
                  <a:cubicBezTo>
                    <a:pt x="222" y="908"/>
                    <a:pt x="205" y="906"/>
                    <a:pt x="190" y="900"/>
                  </a:cubicBezTo>
                  <a:cubicBezTo>
                    <a:pt x="177" y="894"/>
                    <a:pt x="168" y="879"/>
                    <a:pt x="154" y="876"/>
                  </a:cubicBezTo>
                  <a:cubicBezTo>
                    <a:pt x="111" y="867"/>
                    <a:pt x="66" y="868"/>
                    <a:pt x="22" y="864"/>
                  </a:cubicBezTo>
                  <a:cubicBezTo>
                    <a:pt x="0" y="798"/>
                    <a:pt x="10" y="841"/>
                    <a:pt x="10" y="732"/>
                  </a:cubicBezTo>
                </a:path>
              </a:pathLst>
            </a:custGeom>
            <a:noFill/>
            <a:ln w="3168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未知"/>
            <p:cNvSpPr/>
            <p:nvPr/>
          </p:nvSpPr>
          <p:spPr>
            <a:xfrm>
              <a:off x="6415200" y="2908080"/>
              <a:ext cx="2728800" cy="1505160"/>
            </a:xfrm>
            <a:custGeom>
              <a:avLst/>
              <a:gdLst/>
              <a:ahLst/>
              <a:rect l="l" t="t" r="r" b="b"/>
              <a:pathLst>
                <a:path w="1719" h="948">
                  <a:moveTo>
                    <a:pt x="1719" y="52"/>
                  </a:moveTo>
                  <a:cubicBezTo>
                    <a:pt x="1627" y="83"/>
                    <a:pt x="1524" y="82"/>
                    <a:pt x="1443" y="28"/>
                  </a:cubicBezTo>
                  <a:cubicBezTo>
                    <a:pt x="1363" y="32"/>
                    <a:pt x="1273" y="0"/>
                    <a:pt x="1203" y="40"/>
                  </a:cubicBezTo>
                  <a:cubicBezTo>
                    <a:pt x="1165" y="62"/>
                    <a:pt x="1199" y="128"/>
                    <a:pt x="1191" y="172"/>
                  </a:cubicBezTo>
                  <a:cubicBezTo>
                    <a:pt x="1191" y="172"/>
                    <a:pt x="1161" y="262"/>
                    <a:pt x="1155" y="280"/>
                  </a:cubicBezTo>
                  <a:cubicBezTo>
                    <a:pt x="1134" y="343"/>
                    <a:pt x="1154" y="309"/>
                    <a:pt x="1071" y="364"/>
                  </a:cubicBezTo>
                  <a:cubicBezTo>
                    <a:pt x="1059" y="372"/>
                    <a:pt x="1035" y="388"/>
                    <a:pt x="1035" y="388"/>
                  </a:cubicBezTo>
                  <a:cubicBezTo>
                    <a:pt x="1031" y="420"/>
                    <a:pt x="1048" y="464"/>
                    <a:pt x="1023" y="484"/>
                  </a:cubicBezTo>
                  <a:cubicBezTo>
                    <a:pt x="992" y="509"/>
                    <a:pt x="943" y="491"/>
                    <a:pt x="903" y="496"/>
                  </a:cubicBezTo>
                  <a:cubicBezTo>
                    <a:pt x="879" y="499"/>
                    <a:pt x="855" y="504"/>
                    <a:pt x="831" y="508"/>
                  </a:cubicBezTo>
                  <a:cubicBezTo>
                    <a:pt x="858" y="549"/>
                    <a:pt x="891" y="600"/>
                    <a:pt x="855" y="652"/>
                  </a:cubicBezTo>
                  <a:cubicBezTo>
                    <a:pt x="838" y="676"/>
                    <a:pt x="783" y="700"/>
                    <a:pt x="783" y="700"/>
                  </a:cubicBezTo>
                  <a:cubicBezTo>
                    <a:pt x="754" y="786"/>
                    <a:pt x="736" y="779"/>
                    <a:pt x="651" y="796"/>
                  </a:cubicBezTo>
                  <a:cubicBezTo>
                    <a:pt x="627" y="792"/>
                    <a:pt x="602" y="792"/>
                    <a:pt x="579" y="784"/>
                  </a:cubicBezTo>
                  <a:cubicBezTo>
                    <a:pt x="513" y="762"/>
                    <a:pt x="564" y="766"/>
                    <a:pt x="531" y="724"/>
                  </a:cubicBezTo>
                  <a:cubicBezTo>
                    <a:pt x="522" y="713"/>
                    <a:pt x="507" y="708"/>
                    <a:pt x="495" y="700"/>
                  </a:cubicBezTo>
                  <a:cubicBezTo>
                    <a:pt x="479" y="652"/>
                    <a:pt x="465" y="632"/>
                    <a:pt x="423" y="604"/>
                  </a:cubicBezTo>
                  <a:cubicBezTo>
                    <a:pt x="375" y="532"/>
                    <a:pt x="340" y="557"/>
                    <a:pt x="255" y="568"/>
                  </a:cubicBezTo>
                  <a:cubicBezTo>
                    <a:pt x="251" y="580"/>
                    <a:pt x="251" y="594"/>
                    <a:pt x="243" y="604"/>
                  </a:cubicBezTo>
                  <a:cubicBezTo>
                    <a:pt x="234" y="615"/>
                    <a:pt x="213" y="615"/>
                    <a:pt x="207" y="628"/>
                  </a:cubicBezTo>
                  <a:cubicBezTo>
                    <a:pt x="196" y="650"/>
                    <a:pt x="203" y="677"/>
                    <a:pt x="195" y="700"/>
                  </a:cubicBezTo>
                  <a:cubicBezTo>
                    <a:pt x="183" y="737"/>
                    <a:pt x="155" y="775"/>
                    <a:pt x="123" y="796"/>
                  </a:cubicBezTo>
                  <a:cubicBezTo>
                    <a:pt x="119" y="808"/>
                    <a:pt x="120" y="823"/>
                    <a:pt x="111" y="832"/>
                  </a:cubicBezTo>
                  <a:cubicBezTo>
                    <a:pt x="102" y="841"/>
                    <a:pt x="82" y="834"/>
                    <a:pt x="75" y="844"/>
                  </a:cubicBezTo>
                  <a:cubicBezTo>
                    <a:pt x="0" y="948"/>
                    <a:pt x="90" y="896"/>
                    <a:pt x="27" y="928"/>
                  </a:cubicBezTo>
                </a:path>
              </a:pathLst>
            </a:custGeom>
            <a:noFill/>
            <a:ln w="3168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未知"/>
            <p:cNvSpPr/>
            <p:nvPr/>
          </p:nvSpPr>
          <p:spPr>
            <a:xfrm>
              <a:off x="5918040" y="4305240"/>
              <a:ext cx="546120" cy="399960"/>
            </a:xfrm>
            <a:custGeom>
              <a:avLst/>
              <a:gdLst/>
              <a:ahLst/>
              <a:rect l="l" t="t" r="r" b="b"/>
              <a:pathLst>
                <a:path w="344" h="252">
                  <a:moveTo>
                    <a:pt x="280" y="0"/>
                  </a:moveTo>
                  <a:cubicBezTo>
                    <a:pt x="276" y="12"/>
                    <a:pt x="274" y="25"/>
                    <a:pt x="268" y="36"/>
                  </a:cubicBezTo>
                  <a:cubicBezTo>
                    <a:pt x="254" y="61"/>
                    <a:pt x="220" y="108"/>
                    <a:pt x="220" y="108"/>
                  </a:cubicBezTo>
                  <a:cubicBezTo>
                    <a:pt x="234" y="117"/>
                    <a:pt x="280" y="137"/>
                    <a:pt x="268" y="168"/>
                  </a:cubicBezTo>
                  <a:cubicBezTo>
                    <a:pt x="263" y="181"/>
                    <a:pt x="244" y="184"/>
                    <a:pt x="232" y="192"/>
                  </a:cubicBezTo>
                  <a:cubicBezTo>
                    <a:pt x="172" y="172"/>
                    <a:pt x="196" y="152"/>
                    <a:pt x="136" y="132"/>
                  </a:cubicBezTo>
                  <a:cubicBezTo>
                    <a:pt x="119" y="183"/>
                    <a:pt x="123" y="210"/>
                    <a:pt x="28" y="156"/>
                  </a:cubicBezTo>
                  <a:cubicBezTo>
                    <a:pt x="17" y="150"/>
                    <a:pt x="53" y="120"/>
                    <a:pt x="40" y="120"/>
                  </a:cubicBezTo>
                  <a:cubicBezTo>
                    <a:pt x="24" y="120"/>
                    <a:pt x="7" y="183"/>
                    <a:pt x="4" y="192"/>
                  </a:cubicBezTo>
                  <a:cubicBezTo>
                    <a:pt x="8" y="208"/>
                    <a:pt x="0" y="235"/>
                    <a:pt x="16" y="240"/>
                  </a:cubicBezTo>
                  <a:cubicBezTo>
                    <a:pt x="50" y="251"/>
                    <a:pt x="111" y="228"/>
                    <a:pt x="148" y="216"/>
                  </a:cubicBezTo>
                  <a:cubicBezTo>
                    <a:pt x="176" y="220"/>
                    <a:pt x="204" y="222"/>
                    <a:pt x="232" y="228"/>
                  </a:cubicBezTo>
                  <a:cubicBezTo>
                    <a:pt x="257" y="234"/>
                    <a:pt x="304" y="252"/>
                    <a:pt x="304" y="252"/>
                  </a:cubicBezTo>
                  <a:cubicBezTo>
                    <a:pt x="344" y="193"/>
                    <a:pt x="325" y="160"/>
                    <a:pt x="304" y="96"/>
                  </a:cubicBezTo>
                  <a:cubicBezTo>
                    <a:pt x="342" y="39"/>
                    <a:pt x="337" y="71"/>
                    <a:pt x="280" y="0"/>
                  </a:cubicBezTo>
                  <a:close/>
                </a:path>
              </a:pathLst>
            </a:custGeom>
            <a:solidFill>
              <a:srgbClr val="33ccff"/>
            </a:solidFill>
            <a:ln w="3168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未知"/>
            <p:cNvSpPr/>
            <p:nvPr/>
          </p:nvSpPr>
          <p:spPr>
            <a:xfrm>
              <a:off x="7429320" y="4181400"/>
              <a:ext cx="324000" cy="582480"/>
            </a:xfrm>
            <a:custGeom>
              <a:avLst/>
              <a:gdLst/>
              <a:ahLst/>
              <a:rect l="l" t="t" r="r" b="b"/>
              <a:pathLst>
                <a:path w="204" h="367">
                  <a:moveTo>
                    <a:pt x="48" y="42"/>
                  </a:moveTo>
                  <a:cubicBezTo>
                    <a:pt x="32" y="90"/>
                    <a:pt x="28" y="132"/>
                    <a:pt x="0" y="174"/>
                  </a:cubicBezTo>
                  <a:cubicBezTo>
                    <a:pt x="4" y="190"/>
                    <a:pt x="2" y="209"/>
                    <a:pt x="12" y="222"/>
                  </a:cubicBezTo>
                  <a:cubicBezTo>
                    <a:pt x="20" y="232"/>
                    <a:pt x="38" y="226"/>
                    <a:pt x="48" y="234"/>
                  </a:cubicBezTo>
                  <a:cubicBezTo>
                    <a:pt x="59" y="243"/>
                    <a:pt x="64" y="258"/>
                    <a:pt x="72" y="270"/>
                  </a:cubicBezTo>
                  <a:cubicBezTo>
                    <a:pt x="85" y="336"/>
                    <a:pt x="81" y="367"/>
                    <a:pt x="156" y="342"/>
                  </a:cubicBezTo>
                  <a:cubicBezTo>
                    <a:pt x="174" y="287"/>
                    <a:pt x="171" y="235"/>
                    <a:pt x="204" y="186"/>
                  </a:cubicBezTo>
                  <a:cubicBezTo>
                    <a:pt x="162" y="165"/>
                    <a:pt x="123" y="152"/>
                    <a:pt x="84" y="126"/>
                  </a:cubicBezTo>
                  <a:cubicBezTo>
                    <a:pt x="80" y="98"/>
                    <a:pt x="78" y="70"/>
                    <a:pt x="72" y="42"/>
                  </a:cubicBezTo>
                  <a:cubicBezTo>
                    <a:pt x="70" y="30"/>
                    <a:pt x="71" y="0"/>
                    <a:pt x="60" y="6"/>
                  </a:cubicBezTo>
                  <a:cubicBezTo>
                    <a:pt x="45" y="13"/>
                    <a:pt x="53" y="38"/>
                    <a:pt x="48" y="54"/>
                  </a:cubicBezTo>
                  <a:cubicBezTo>
                    <a:pt x="45" y="66"/>
                    <a:pt x="36" y="103"/>
                    <a:pt x="36" y="90"/>
                  </a:cubicBezTo>
                  <a:cubicBezTo>
                    <a:pt x="36" y="74"/>
                    <a:pt x="44" y="58"/>
                    <a:pt x="48" y="42"/>
                  </a:cubicBezTo>
                  <a:close/>
                </a:path>
              </a:pathLst>
            </a:custGeom>
            <a:solidFill>
              <a:srgbClr val="33ccff"/>
            </a:solidFill>
            <a:ln w="3168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未知"/>
            <p:cNvSpPr/>
            <p:nvPr/>
          </p:nvSpPr>
          <p:spPr>
            <a:xfrm>
              <a:off x="7167600" y="4743360"/>
              <a:ext cx="414360" cy="685800"/>
            </a:xfrm>
            <a:custGeom>
              <a:avLst/>
              <a:gdLst/>
              <a:ahLst/>
              <a:rect l="l" t="t" r="r" b="b"/>
              <a:pathLst>
                <a:path w="261" h="432">
                  <a:moveTo>
                    <a:pt x="261" y="0"/>
                  </a:moveTo>
                  <a:cubicBezTo>
                    <a:pt x="253" y="12"/>
                    <a:pt x="248" y="27"/>
                    <a:pt x="237" y="36"/>
                  </a:cubicBezTo>
                  <a:cubicBezTo>
                    <a:pt x="227" y="44"/>
                    <a:pt x="212" y="42"/>
                    <a:pt x="201" y="48"/>
                  </a:cubicBezTo>
                  <a:cubicBezTo>
                    <a:pt x="108" y="95"/>
                    <a:pt x="219" y="54"/>
                    <a:pt x="129" y="84"/>
                  </a:cubicBezTo>
                  <a:cubicBezTo>
                    <a:pt x="85" y="215"/>
                    <a:pt x="155" y="16"/>
                    <a:pt x="93" y="156"/>
                  </a:cubicBezTo>
                  <a:cubicBezTo>
                    <a:pt x="0" y="366"/>
                    <a:pt x="125" y="107"/>
                    <a:pt x="57" y="288"/>
                  </a:cubicBezTo>
                  <a:cubicBezTo>
                    <a:pt x="52" y="302"/>
                    <a:pt x="39" y="311"/>
                    <a:pt x="33" y="324"/>
                  </a:cubicBezTo>
                  <a:cubicBezTo>
                    <a:pt x="13" y="363"/>
                    <a:pt x="21" y="385"/>
                    <a:pt x="21" y="432"/>
                  </a:cubicBezTo>
                </a:path>
              </a:pathLst>
            </a:custGeom>
            <a:noFill/>
            <a:ln w="3168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未知"/>
            <p:cNvSpPr/>
            <p:nvPr/>
          </p:nvSpPr>
          <p:spPr>
            <a:xfrm>
              <a:off x="209520" y="1981080"/>
              <a:ext cx="2914560" cy="3809880"/>
            </a:xfrm>
            <a:custGeom>
              <a:avLst/>
              <a:gdLst/>
              <a:ahLst/>
              <a:rect l="l" t="t" r="r" b="b"/>
              <a:pathLst>
                <a:path w="1836" h="2400">
                  <a:moveTo>
                    <a:pt x="1836" y="1704"/>
                  </a:moveTo>
                  <a:cubicBezTo>
                    <a:pt x="1812" y="1708"/>
                    <a:pt x="1785" y="1704"/>
                    <a:pt x="1764" y="1716"/>
                  </a:cubicBezTo>
                  <a:cubicBezTo>
                    <a:pt x="1753" y="1722"/>
                    <a:pt x="1760" y="1742"/>
                    <a:pt x="1752" y="1752"/>
                  </a:cubicBezTo>
                  <a:cubicBezTo>
                    <a:pt x="1741" y="1766"/>
                    <a:pt x="1680" y="1794"/>
                    <a:pt x="1668" y="1800"/>
                  </a:cubicBezTo>
                  <a:cubicBezTo>
                    <a:pt x="1660" y="1824"/>
                    <a:pt x="1658" y="1851"/>
                    <a:pt x="1644" y="1872"/>
                  </a:cubicBezTo>
                  <a:cubicBezTo>
                    <a:pt x="1636" y="1884"/>
                    <a:pt x="1626" y="1895"/>
                    <a:pt x="1620" y="1908"/>
                  </a:cubicBezTo>
                  <a:cubicBezTo>
                    <a:pt x="1607" y="1934"/>
                    <a:pt x="1612" y="1968"/>
                    <a:pt x="1596" y="1992"/>
                  </a:cubicBezTo>
                  <a:cubicBezTo>
                    <a:pt x="1588" y="2004"/>
                    <a:pt x="1572" y="2008"/>
                    <a:pt x="1560" y="2016"/>
                  </a:cubicBezTo>
                  <a:cubicBezTo>
                    <a:pt x="1556" y="2028"/>
                    <a:pt x="1557" y="2043"/>
                    <a:pt x="1548" y="2052"/>
                  </a:cubicBezTo>
                  <a:cubicBezTo>
                    <a:pt x="1528" y="2072"/>
                    <a:pt x="1476" y="2100"/>
                    <a:pt x="1476" y="2100"/>
                  </a:cubicBezTo>
                  <a:cubicBezTo>
                    <a:pt x="1493" y="2170"/>
                    <a:pt x="1507" y="2204"/>
                    <a:pt x="1476" y="2292"/>
                  </a:cubicBezTo>
                  <a:cubicBezTo>
                    <a:pt x="1470" y="2309"/>
                    <a:pt x="1445" y="2309"/>
                    <a:pt x="1428" y="2316"/>
                  </a:cubicBezTo>
                  <a:cubicBezTo>
                    <a:pt x="1393" y="2330"/>
                    <a:pt x="1352" y="2331"/>
                    <a:pt x="1320" y="2352"/>
                  </a:cubicBezTo>
                  <a:cubicBezTo>
                    <a:pt x="1273" y="2383"/>
                    <a:pt x="1298" y="2371"/>
                    <a:pt x="1248" y="2388"/>
                  </a:cubicBezTo>
                  <a:cubicBezTo>
                    <a:pt x="1240" y="2376"/>
                    <a:pt x="1229" y="2366"/>
                    <a:pt x="1224" y="2352"/>
                  </a:cubicBezTo>
                  <a:cubicBezTo>
                    <a:pt x="1185" y="2234"/>
                    <a:pt x="1275" y="2275"/>
                    <a:pt x="1068" y="2292"/>
                  </a:cubicBezTo>
                  <a:cubicBezTo>
                    <a:pt x="1023" y="2337"/>
                    <a:pt x="979" y="2400"/>
                    <a:pt x="888" y="2316"/>
                  </a:cubicBezTo>
                  <a:cubicBezTo>
                    <a:pt x="856" y="2286"/>
                    <a:pt x="880" y="2228"/>
                    <a:pt x="876" y="2184"/>
                  </a:cubicBezTo>
                  <a:cubicBezTo>
                    <a:pt x="880" y="2148"/>
                    <a:pt x="877" y="2110"/>
                    <a:pt x="888" y="2076"/>
                  </a:cubicBezTo>
                  <a:cubicBezTo>
                    <a:pt x="897" y="2049"/>
                    <a:pt x="936" y="2004"/>
                    <a:pt x="936" y="2004"/>
                  </a:cubicBezTo>
                  <a:cubicBezTo>
                    <a:pt x="934" y="1992"/>
                    <a:pt x="932" y="1911"/>
                    <a:pt x="888" y="1920"/>
                  </a:cubicBezTo>
                  <a:cubicBezTo>
                    <a:pt x="874" y="1923"/>
                    <a:pt x="870" y="1943"/>
                    <a:pt x="864" y="1956"/>
                  </a:cubicBezTo>
                  <a:cubicBezTo>
                    <a:pt x="854" y="1979"/>
                    <a:pt x="848" y="2004"/>
                    <a:pt x="840" y="2028"/>
                  </a:cubicBezTo>
                  <a:cubicBezTo>
                    <a:pt x="828" y="2064"/>
                    <a:pt x="732" y="2064"/>
                    <a:pt x="732" y="2064"/>
                  </a:cubicBezTo>
                  <a:cubicBezTo>
                    <a:pt x="717" y="2020"/>
                    <a:pt x="687" y="2000"/>
                    <a:pt x="672" y="1956"/>
                  </a:cubicBezTo>
                  <a:cubicBezTo>
                    <a:pt x="684" y="1848"/>
                    <a:pt x="699" y="1738"/>
                    <a:pt x="636" y="1644"/>
                  </a:cubicBezTo>
                  <a:cubicBezTo>
                    <a:pt x="620" y="422"/>
                    <a:pt x="911" y="836"/>
                    <a:pt x="528" y="708"/>
                  </a:cubicBezTo>
                  <a:cubicBezTo>
                    <a:pt x="502" y="631"/>
                    <a:pt x="536" y="715"/>
                    <a:pt x="480" y="636"/>
                  </a:cubicBezTo>
                  <a:cubicBezTo>
                    <a:pt x="453" y="598"/>
                    <a:pt x="434" y="555"/>
                    <a:pt x="408" y="516"/>
                  </a:cubicBezTo>
                  <a:cubicBezTo>
                    <a:pt x="400" y="504"/>
                    <a:pt x="389" y="494"/>
                    <a:pt x="384" y="480"/>
                  </a:cubicBezTo>
                  <a:cubicBezTo>
                    <a:pt x="363" y="417"/>
                    <a:pt x="329" y="359"/>
                    <a:pt x="300" y="300"/>
                  </a:cubicBezTo>
                  <a:cubicBezTo>
                    <a:pt x="294" y="289"/>
                    <a:pt x="297" y="273"/>
                    <a:pt x="288" y="264"/>
                  </a:cubicBezTo>
                  <a:cubicBezTo>
                    <a:pt x="273" y="249"/>
                    <a:pt x="226" y="235"/>
                    <a:pt x="204" y="228"/>
                  </a:cubicBezTo>
                  <a:cubicBezTo>
                    <a:pt x="135" y="125"/>
                    <a:pt x="227" y="246"/>
                    <a:pt x="144" y="180"/>
                  </a:cubicBezTo>
                  <a:cubicBezTo>
                    <a:pt x="133" y="171"/>
                    <a:pt x="129" y="155"/>
                    <a:pt x="120" y="144"/>
                  </a:cubicBezTo>
                  <a:cubicBezTo>
                    <a:pt x="87" y="104"/>
                    <a:pt x="82" y="117"/>
                    <a:pt x="60" y="72"/>
                  </a:cubicBezTo>
                  <a:cubicBezTo>
                    <a:pt x="54" y="61"/>
                    <a:pt x="56" y="46"/>
                    <a:pt x="48" y="36"/>
                  </a:cubicBezTo>
                  <a:cubicBezTo>
                    <a:pt x="36" y="20"/>
                    <a:pt x="14" y="14"/>
                    <a:pt x="0" y="0"/>
                  </a:cubicBezTo>
                </a:path>
              </a:pathLst>
            </a:custGeom>
            <a:noFill/>
            <a:ln w="3168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4800600" y="990720"/>
            <a:ext cx="15228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 txBox="1"/>
          <p:nvPr/>
        </p:nvSpPr>
        <p:spPr>
          <a:xfrm>
            <a:off x="4495680" y="1219320"/>
            <a:ext cx="7621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solidFill>
                    <a:srgbClr val="000000"/>
                  </a:solidFill>
                </a:ln>
                <a:solidFill>
                  <a:srgbClr val="000000"/>
                </a:solidFill>
                <a:latin typeface="宋体"/>
              </a:rPr>
              <a:t>吴起镇</a:t>
            </a:r>
            <a:endParaRPr b="0" lang="en-US" sz="2400" spc="-1" strike="noStrike">
              <a:ln w="0">
                <a:solidFill>
                  <a:srgbClr val="000000"/>
                </a:solidFill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907" name=""/>
          <p:cNvSpPr/>
          <p:nvPr/>
        </p:nvSpPr>
        <p:spPr>
          <a:xfrm>
            <a:off x="3124080" y="1295280"/>
            <a:ext cx="152640" cy="152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2819520" y="1447920"/>
            <a:ext cx="4572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solidFill>
                    <a:srgbClr val="000000"/>
                  </a:solidFill>
                </a:ln>
                <a:solidFill>
                  <a:srgbClr val="000000"/>
                </a:solidFill>
                <a:latin typeface="宋体"/>
              </a:rPr>
              <a:t>会宁</a:t>
            </a:r>
            <a:endParaRPr b="0" lang="en-US" sz="2400" spc="-1" strike="noStrike">
              <a:ln w="0">
                <a:solidFill>
                  <a:srgbClr val="000000"/>
                </a:solidFill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grpSp>
        <p:nvGrpSpPr>
          <p:cNvPr id="909" name=""/>
          <p:cNvGrpSpPr/>
          <p:nvPr/>
        </p:nvGrpSpPr>
        <p:grpSpPr>
          <a:xfrm>
            <a:off x="380880" y="1143000"/>
            <a:ext cx="228600" cy="76320"/>
            <a:chOff x="380880" y="1143000"/>
            <a:chExt cx="228600" cy="76320"/>
          </a:xfrm>
        </p:grpSpPr>
        <p:sp>
          <p:nvSpPr>
            <p:cNvPr id="910" name="未知"/>
            <p:cNvSpPr/>
            <p:nvPr/>
          </p:nvSpPr>
          <p:spPr>
            <a:xfrm>
              <a:off x="380880" y="1143000"/>
              <a:ext cx="79560" cy="72360"/>
            </a:xfrm>
            <a:custGeom>
              <a:avLst/>
              <a:gdLst/>
              <a:ahLst/>
              <a:rect l="l" t="t" r="r" b="b"/>
              <a:pathLst>
                <a:path w="264" h="444">
                  <a:moveTo>
                    <a:pt x="0" y="0"/>
                  </a:moveTo>
                  <a:cubicBezTo>
                    <a:pt x="34" y="69"/>
                    <a:pt x="63" y="66"/>
                    <a:pt x="108" y="120"/>
                  </a:cubicBezTo>
                  <a:cubicBezTo>
                    <a:pt x="130" y="146"/>
                    <a:pt x="147" y="176"/>
                    <a:pt x="168" y="204"/>
                  </a:cubicBezTo>
                  <a:cubicBezTo>
                    <a:pt x="172" y="220"/>
                    <a:pt x="173" y="237"/>
                    <a:pt x="180" y="252"/>
                  </a:cubicBezTo>
                  <a:cubicBezTo>
                    <a:pt x="189" y="270"/>
                    <a:pt x="209" y="281"/>
                    <a:pt x="216" y="300"/>
                  </a:cubicBezTo>
                  <a:cubicBezTo>
                    <a:pt x="225" y="323"/>
                    <a:pt x="223" y="348"/>
                    <a:pt x="228" y="372"/>
                  </a:cubicBezTo>
                  <a:cubicBezTo>
                    <a:pt x="231" y="384"/>
                    <a:pt x="234" y="397"/>
                    <a:pt x="240" y="408"/>
                  </a:cubicBezTo>
                  <a:cubicBezTo>
                    <a:pt x="246" y="421"/>
                    <a:pt x="264" y="444"/>
                    <a:pt x="264" y="444"/>
                  </a:cubicBezTo>
                </a:path>
              </a:pathLst>
            </a:custGeom>
            <a:noFill/>
            <a:ln w="93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未知"/>
            <p:cNvSpPr/>
            <p:nvPr/>
          </p:nvSpPr>
          <p:spPr>
            <a:xfrm>
              <a:off x="499320" y="1152720"/>
              <a:ext cx="110160" cy="66600"/>
            </a:xfrm>
            <a:custGeom>
              <a:avLst/>
              <a:gdLst/>
              <a:ahLst/>
              <a:rect l="l" t="t" r="r" b="b"/>
              <a:pathLst>
                <a:path w="364" h="408">
                  <a:moveTo>
                    <a:pt x="16" y="408"/>
                  </a:moveTo>
                  <a:cubicBezTo>
                    <a:pt x="27" y="241"/>
                    <a:pt x="0" y="165"/>
                    <a:pt x="160" y="108"/>
                  </a:cubicBezTo>
                  <a:cubicBezTo>
                    <a:pt x="187" y="98"/>
                    <a:pt x="216" y="92"/>
                    <a:pt x="244" y="84"/>
                  </a:cubicBezTo>
                  <a:cubicBezTo>
                    <a:pt x="282" y="58"/>
                    <a:pt x="330" y="34"/>
                    <a:pt x="364" y="0"/>
                  </a:cubicBezTo>
                </a:path>
              </a:pathLst>
            </a:custGeom>
            <a:noFill/>
            <a:ln w="93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未知"/>
            <p:cNvSpPr/>
            <p:nvPr/>
          </p:nvSpPr>
          <p:spPr>
            <a:xfrm>
              <a:off x="478800" y="1158480"/>
              <a:ext cx="7200" cy="54720"/>
            </a:xfrm>
            <a:custGeom>
              <a:avLst/>
              <a:gdLst/>
              <a:ahLst/>
              <a:rect l="l" t="t" r="r" b="b"/>
              <a:pathLst>
                <a:path w="24" h="336">
                  <a:moveTo>
                    <a:pt x="0" y="336"/>
                  </a:moveTo>
                  <a:cubicBezTo>
                    <a:pt x="4" y="288"/>
                    <a:pt x="6" y="240"/>
                    <a:pt x="12" y="192"/>
                  </a:cubicBezTo>
                  <a:cubicBezTo>
                    <a:pt x="14" y="179"/>
                    <a:pt x="24" y="169"/>
                    <a:pt x="24" y="156"/>
                  </a:cubicBezTo>
                  <a:cubicBezTo>
                    <a:pt x="24" y="104"/>
                    <a:pt x="12" y="52"/>
                    <a:pt x="12" y="0"/>
                  </a:cubicBezTo>
                </a:path>
              </a:pathLst>
            </a:custGeom>
            <a:noFill/>
            <a:ln w="93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3" name=""/>
          <p:cNvSpPr/>
          <p:nvPr/>
        </p:nvSpPr>
        <p:spPr>
          <a:xfrm>
            <a:off x="3581280" y="1143000"/>
            <a:ext cx="15264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3429000" y="1295280"/>
            <a:ext cx="4572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solidFill>
                    <a:srgbClr val="000000"/>
                  </a:solidFill>
                </a:ln>
                <a:solidFill>
                  <a:srgbClr val="000000"/>
                </a:solidFill>
                <a:latin typeface="宋体"/>
              </a:rPr>
              <a:t>将台堡</a:t>
            </a:r>
            <a:endParaRPr b="0" lang="en-US" sz="2400" spc="-1" strike="noStrike">
              <a:ln w="0">
                <a:solidFill>
                  <a:srgbClr val="000000"/>
                </a:solidFill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915" name=""/>
          <p:cNvSpPr/>
          <p:nvPr/>
        </p:nvSpPr>
        <p:spPr>
          <a:xfrm>
            <a:off x="2340000" y="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黑体"/>
              </a:rPr>
              <a:t>中国工农红军长征简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7351560" y="48211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8148600" y="547524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6824520" y="62452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181480" y="477504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227480" y="6157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⑤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736800" y="531324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100240" y="59245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330720" y="35164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363680" y="33894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2689200" y="7794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5776920" y="7621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122960" y="4888080"/>
            <a:ext cx="1300320" cy="5205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江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8024760" y="5608800"/>
            <a:ext cx="1185840" cy="5205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福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6800760" y="6308640"/>
            <a:ext cx="1067040" cy="5205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广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081320" y="6253200"/>
            <a:ext cx="1067040" cy="5205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广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660840" y="5388120"/>
            <a:ext cx="1143000" cy="5205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贵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995480" y="6016680"/>
            <a:ext cx="1038240" cy="5205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云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309840" y="3597120"/>
            <a:ext cx="914400" cy="5205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四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1074600" y="3498840"/>
            <a:ext cx="1067040" cy="5205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西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228760" y="863640"/>
            <a:ext cx="1371600" cy="5205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甘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603760" y="860400"/>
            <a:ext cx="1295640" cy="5205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陕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2314440" y="3759120"/>
            <a:ext cx="4967280" cy="1666800"/>
            <a:chOff x="2314440" y="3759120"/>
            <a:chExt cx="4967280" cy="1666800"/>
          </a:xfrm>
        </p:grpSpPr>
        <p:sp>
          <p:nvSpPr>
            <p:cNvPr id="938" name=""/>
            <p:cNvSpPr/>
            <p:nvPr/>
          </p:nvSpPr>
          <p:spPr>
            <a:xfrm>
              <a:off x="2314440" y="375912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468600" y="436068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291000" y="490536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491000" y="45352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543040" y="48765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3" name=""/>
          <p:cNvSpPr/>
          <p:nvPr/>
        </p:nvSpPr>
        <p:spPr>
          <a:xfrm rot="1201200">
            <a:off x="6565680" y="4618080"/>
            <a:ext cx="6112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湘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662360" y="4292640"/>
            <a:ext cx="6112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乌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2254320" y="4857840"/>
            <a:ext cx="12952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金沙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 flipH="1" rot="18809400">
            <a:off x="3362760" y="4575600"/>
            <a:ext cx="609840" cy="804960"/>
          </a:xfrm>
          <a:prstGeom prst="uturnArrow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未知"/>
          <p:cNvSpPr/>
          <p:nvPr/>
        </p:nvSpPr>
        <p:spPr>
          <a:xfrm>
            <a:off x="3257640" y="4667400"/>
            <a:ext cx="617400" cy="576000"/>
          </a:xfrm>
          <a:custGeom>
            <a:avLst/>
            <a:gdLst/>
            <a:ahLst/>
            <a:rect l="l" t="t" r="r" b="b"/>
            <a:pathLst>
              <a:path w="389" h="363">
                <a:moveTo>
                  <a:pt x="156" y="0"/>
                </a:moveTo>
                <a:cubicBezTo>
                  <a:pt x="164" y="12"/>
                  <a:pt x="174" y="23"/>
                  <a:pt x="180" y="36"/>
                </a:cubicBezTo>
                <a:cubicBezTo>
                  <a:pt x="186" y="51"/>
                  <a:pt x="182" y="71"/>
                  <a:pt x="192" y="84"/>
                </a:cubicBezTo>
                <a:cubicBezTo>
                  <a:pt x="200" y="94"/>
                  <a:pt x="216" y="92"/>
                  <a:pt x="228" y="96"/>
                </a:cubicBezTo>
                <a:cubicBezTo>
                  <a:pt x="236" y="108"/>
                  <a:pt x="247" y="118"/>
                  <a:pt x="252" y="132"/>
                </a:cubicBezTo>
                <a:cubicBezTo>
                  <a:pt x="259" y="151"/>
                  <a:pt x="253" y="175"/>
                  <a:pt x="264" y="192"/>
                </a:cubicBezTo>
                <a:cubicBezTo>
                  <a:pt x="271" y="203"/>
                  <a:pt x="289" y="198"/>
                  <a:pt x="300" y="204"/>
                </a:cubicBezTo>
                <a:cubicBezTo>
                  <a:pt x="325" y="218"/>
                  <a:pt x="372" y="252"/>
                  <a:pt x="372" y="252"/>
                </a:cubicBezTo>
                <a:cubicBezTo>
                  <a:pt x="376" y="264"/>
                  <a:pt x="389" y="276"/>
                  <a:pt x="384" y="288"/>
                </a:cubicBezTo>
                <a:cubicBezTo>
                  <a:pt x="378" y="302"/>
                  <a:pt x="326" y="322"/>
                  <a:pt x="312" y="324"/>
                </a:cubicBezTo>
                <a:cubicBezTo>
                  <a:pt x="264" y="330"/>
                  <a:pt x="216" y="332"/>
                  <a:pt x="168" y="336"/>
                </a:cubicBezTo>
                <a:cubicBezTo>
                  <a:pt x="129" y="349"/>
                  <a:pt x="107" y="363"/>
                  <a:pt x="60" y="336"/>
                </a:cubicBezTo>
                <a:cubicBezTo>
                  <a:pt x="49" y="330"/>
                  <a:pt x="57" y="309"/>
                  <a:pt x="48" y="300"/>
                </a:cubicBezTo>
                <a:cubicBezTo>
                  <a:pt x="35" y="287"/>
                  <a:pt x="16" y="288"/>
                  <a:pt x="0" y="288"/>
                </a:cubicBezTo>
              </a:path>
            </a:pathLst>
          </a:custGeom>
          <a:noFill/>
          <a:ln w="255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962520" y="5029200"/>
            <a:ext cx="15228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111640" y="4873680"/>
            <a:ext cx="1168560" cy="5205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湖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2647200">
            <a:off x="4197600" y="3654000"/>
            <a:ext cx="61128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赤水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097000" y="3873600"/>
            <a:ext cx="12956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大渡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762000">
            <a:off x="2438280" y="2971440"/>
            <a:ext cx="327240" cy="1066680"/>
          </a:xfrm>
          <a:prstGeom prst="upArrow">
            <a:avLst>
              <a:gd name="adj1" fmla="val 50000"/>
              <a:gd name="adj2" fmla="val 81491"/>
            </a:avLst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rot="429000">
            <a:off x="2133720" y="4114800"/>
            <a:ext cx="304560" cy="1600200"/>
          </a:xfrm>
          <a:prstGeom prst="upArrow">
            <a:avLst>
              <a:gd name="adj1" fmla="val 50000"/>
              <a:gd name="adj2" fmla="val 131353"/>
            </a:avLst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rot="2080200">
            <a:off x="4053960" y="5430960"/>
            <a:ext cx="1427400" cy="323640"/>
          </a:xfrm>
          <a:prstGeom prst="leftArrow">
            <a:avLst>
              <a:gd name="adj1" fmla="val 50000"/>
              <a:gd name="adj2" fmla="val 11026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6" name=""/>
          <p:cNvSpPr/>
          <p:nvPr/>
        </p:nvSpPr>
        <p:spPr>
          <a:xfrm>
            <a:off x="25560" y="11160"/>
            <a:ext cx="163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选一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87480" y="777960"/>
            <a:ext cx="886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在第几次反“围剿”失败后红军被迫开始进行长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79280" y="135252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三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9320" y="2408400"/>
            <a:ext cx="908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第五次反围剿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遵义会议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渡过金沙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长征结束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47520" y="1838160"/>
            <a:ext cx="827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毛泽东在党中央的核心地位确立是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9600" y="3257640"/>
            <a:ext cx="90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红军长征打乱敌人的追剿计划是在哪一事件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__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37260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四渡赤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渡过乌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渡过金沙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飞夺泸定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461340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红军长征中跳出敌人的包围是在哪一事件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___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-25560" y="5075280"/>
            <a:ext cx="910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四渡赤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渡过乌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渡过金沙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飞夺泸定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8182080" y="72216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6518160" y="180324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846920" y="323064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7491240" y="45576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1" name=""/>
          <p:cNvSpPr/>
          <p:nvPr/>
        </p:nvSpPr>
        <p:spPr>
          <a:xfrm>
            <a:off x="0" y="83808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红军长征结束时胜利会师的三大主力是：①红一方面军  ②红二方面军  ③红三方面军④红四方面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27000" y="170640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①②③　　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①②④　　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①③④　　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②③④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65160" y="30510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遵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甘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吴起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井冈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30240" y="2598840"/>
            <a:ext cx="84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3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月三大主力红军会师的地点是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28440" y="3537000"/>
            <a:ext cx="908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红军长征胜利结束的时间是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__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5160" y="40417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3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3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3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3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36360" y="491184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红军长征取得胜利的关键性事件是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1920" y="5365800"/>
            <a:ext cx="83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强渡大渡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四渡赤水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渡过金沙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遵义会议的召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338960" y="124776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7137360" y="252396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5259240" y="345924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477120" y="48769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4" name=""/>
          <p:cNvSpPr/>
          <p:nvPr/>
        </p:nvSpPr>
        <p:spPr>
          <a:xfrm>
            <a:off x="25560" y="184320"/>
            <a:ext cx="165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填一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9600" y="1033560"/>
            <a:ext cx="9053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_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月，党中央和中央红军离开中央革命根据地，开始长征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_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_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月到达陕甘革命根据地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_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镇，与陕北红军胜利会师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_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_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月，红二方面军和红四方面军到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_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同前来接应的红一方面军胜利会师。红军三大主力会师宣告红军二万五千里长征胜利结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12600" y="3645000"/>
            <a:ext cx="906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_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_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月，党中央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_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召开政治局扩大会议，集中全力解决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_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人在军事上和组织上的错误，肯定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____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正确主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5165640"/>
            <a:ext cx="90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我党历史上生死攸关的转折点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______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511200" y="1009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93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4373640" y="146376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7040520" y="188424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1903320" y="100656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06600" y="365760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93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943360" y="144144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93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2184480" y="36162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5705640" y="18478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93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257040" y="181764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吴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719600" y="3589200"/>
            <a:ext cx="14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遵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3278160" y="40402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博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1182600" y="445284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毛泽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537160" y="5137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遵义会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4253040" y="2274840"/>
            <a:ext cx="119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甘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70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81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2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7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02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-163440" y="260280"/>
            <a:ext cx="862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Times New Roman"/>
                <a:ea typeface="华文仿宋"/>
              </a:rPr>
              <a:t> </a:t>
            </a:r>
            <a:r>
              <a:rPr b="1" lang="zh-CN" sz="5400" spc="-1" strike="noStrike">
                <a:solidFill>
                  <a:srgbClr val="000099"/>
                </a:solidFill>
                <a:latin typeface="Times New Roman"/>
                <a:ea typeface="华文仿宋"/>
              </a:rPr>
              <a:t>井冈山会师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84280"/>
            <a:ext cx="14032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时间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情况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结果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35280" y="141300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华文隶书"/>
                <a:ea typeface="华文隶书"/>
              </a:rPr>
              <a:t>1928</a:t>
            </a:r>
            <a:r>
              <a:rPr b="1" lang="zh-CN" sz="3600" spc="-1" strike="noStrike">
                <a:solidFill>
                  <a:srgbClr val="800080"/>
                </a:solidFill>
                <a:latin typeface="华文隶书"/>
                <a:ea typeface="华文隶书"/>
              </a:rPr>
              <a:t>年</a:t>
            </a:r>
            <a:r>
              <a:rPr b="1" lang="en-US" sz="3600" spc="-1" strike="noStrike">
                <a:solidFill>
                  <a:srgbClr val="800080"/>
                </a:solidFill>
                <a:latin typeface="华文隶书"/>
                <a:ea typeface="华文隶书"/>
              </a:rPr>
              <a:t>4</a:t>
            </a:r>
            <a:r>
              <a:rPr b="1" lang="zh-CN" sz="3600" spc="-1" strike="noStrike">
                <a:solidFill>
                  <a:srgbClr val="800080"/>
                </a:solidFill>
                <a:latin typeface="华文隶书"/>
                <a:ea typeface="华文隶书"/>
              </a:rPr>
              <a:t>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92360" y="292428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  <a:ea typeface="华文隶书"/>
              </a:rPr>
              <a:t>朱德、陈毅与毛泽东的队伍会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187280" y="4437000"/>
            <a:ext cx="7129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隶书"/>
              </a:rPr>
              <a:t>建立了中国工农红军第一支坚强的队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隶书"/>
              </a:rPr>
              <a:t>　　　——中国工农红军第四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3" name=""/>
          <p:cNvSpPr/>
          <p:nvPr/>
        </p:nvSpPr>
        <p:spPr>
          <a:xfrm rot="21247800">
            <a:off x="2360160" y="5564160"/>
            <a:ext cx="1068480" cy="257040"/>
          </a:xfrm>
          <a:prstGeom prst="leftArrow">
            <a:avLst>
              <a:gd name="adj1" fmla="val 65593"/>
              <a:gd name="adj2" fmla="val 120568"/>
            </a:avLst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2590920" y="4876920"/>
            <a:ext cx="608760" cy="838080"/>
            <a:chOff x="2590920" y="4876920"/>
            <a:chExt cx="608760" cy="838080"/>
          </a:xfrm>
        </p:grpSpPr>
        <p:sp>
          <p:nvSpPr>
            <p:cNvPr id="1005" name=""/>
            <p:cNvSpPr txBox="1"/>
            <p:nvPr/>
          </p:nvSpPr>
          <p:spPr>
            <a:xfrm>
              <a:off x="2997000" y="4876920"/>
              <a:ext cx="202680" cy="15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ln w="0">
                    <a:solidFill>
                      <a:srgbClr val="0000ff"/>
                    </a:solidFill>
                  </a:ln>
                  <a:solidFill>
                    <a:srgbClr val="0000ff"/>
                  </a:solidFill>
                  <a:latin typeface="宋体"/>
                </a:rPr>
                <a:t>金</a:t>
              </a:r>
              <a:endParaRPr b="0" lang="en-US" sz="2400" spc="-1" strike="noStrike">
                <a:ln w="0">
                  <a:solidFill>
                    <a:srgbClr val="0000ff"/>
                  </a:solidFill>
                </a:ln>
                <a:solidFill>
                  <a:srgbClr val="0000ff"/>
                </a:solidFill>
                <a:latin typeface="宋体"/>
                <a:ea typeface="宋体"/>
              </a:endParaRPr>
            </a:p>
          </p:txBody>
        </p:sp>
        <p:sp>
          <p:nvSpPr>
            <p:cNvPr id="1006" name=""/>
            <p:cNvSpPr txBox="1"/>
            <p:nvPr/>
          </p:nvSpPr>
          <p:spPr>
            <a:xfrm>
              <a:off x="2692440" y="5181840"/>
              <a:ext cx="202680" cy="15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ln w="0">
                    <a:solidFill>
                      <a:srgbClr val="0000ff"/>
                    </a:solidFill>
                  </a:ln>
                  <a:solidFill>
                    <a:srgbClr val="0000ff"/>
                  </a:solidFill>
                  <a:latin typeface="宋体"/>
                </a:rPr>
                <a:t>沙</a:t>
              </a:r>
              <a:endParaRPr b="0" lang="en-US" sz="2400" spc="-1" strike="noStrike">
                <a:ln w="0">
                  <a:solidFill>
                    <a:srgbClr val="0000ff"/>
                  </a:solidFill>
                </a:ln>
                <a:solidFill>
                  <a:srgbClr val="0000ff"/>
                </a:solidFill>
                <a:latin typeface="宋体"/>
                <a:ea typeface="宋体"/>
              </a:endParaRPr>
            </a:p>
          </p:txBody>
        </p:sp>
        <p:sp>
          <p:nvSpPr>
            <p:cNvPr id="1007" name=""/>
            <p:cNvSpPr txBox="1"/>
            <p:nvPr/>
          </p:nvSpPr>
          <p:spPr>
            <a:xfrm>
              <a:off x="2590920" y="5562720"/>
              <a:ext cx="202680" cy="15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ln w="0">
                    <a:solidFill>
                      <a:srgbClr val="0000ff"/>
                    </a:solidFill>
                  </a:ln>
                  <a:solidFill>
                    <a:srgbClr val="0000ff"/>
                  </a:solidFill>
                  <a:latin typeface="宋体"/>
                </a:rPr>
                <a:t>江</a:t>
              </a:r>
              <a:endParaRPr b="0" lang="en-US" sz="2400" spc="-1" strike="noStrike">
                <a:ln w="0">
                  <a:solidFill>
                    <a:srgbClr val="0000ff"/>
                  </a:solidFill>
                </a:ln>
                <a:solidFill>
                  <a:srgbClr val="0000ff"/>
                </a:solidFill>
                <a:latin typeface="宋体"/>
                <a:ea typeface="宋体"/>
              </a:endParaRPr>
            </a:p>
          </p:txBody>
        </p:sp>
      </p:grpSp>
      <p:sp>
        <p:nvSpPr>
          <p:cNvPr id="1008" name=""/>
          <p:cNvSpPr/>
          <p:nvPr/>
        </p:nvSpPr>
        <p:spPr>
          <a:xfrm rot="1855200">
            <a:off x="3593880" y="5052600"/>
            <a:ext cx="230040" cy="762120"/>
          </a:xfrm>
          <a:custGeom>
            <a:avLst/>
            <a:gdLst>
              <a:gd name="textAreaLeft" fmla="*/ 30600 w 230040"/>
              <a:gd name="textAreaRight" fmla="*/ 199440 w 230040"/>
              <a:gd name="textAreaTop" fmla="*/ 133200 h 762120"/>
              <a:gd name="textAreaBottom" fmla="*/ 5526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5334120" y="5943600"/>
            <a:ext cx="2133360" cy="304920"/>
          </a:xfrm>
          <a:prstGeom prst="leftArrow">
            <a:avLst>
              <a:gd name="adj1" fmla="val 50000"/>
              <a:gd name="adj2" fmla="val 17491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rot="762000">
            <a:off x="2724120" y="1987560"/>
            <a:ext cx="304920" cy="990720"/>
          </a:xfrm>
          <a:prstGeom prst="upArrow">
            <a:avLst>
              <a:gd name="adj1" fmla="val 50000"/>
              <a:gd name="adj2" fmla="val 81228"/>
            </a:avLst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 rot="3862200">
            <a:off x="3774600" y="587520"/>
            <a:ext cx="304920" cy="1904760"/>
          </a:xfrm>
          <a:prstGeom prst="upArrow">
            <a:avLst>
              <a:gd name="adj1" fmla="val 50000"/>
              <a:gd name="adj2" fmla="val 156169"/>
            </a:avLst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H="1" rot="18809400">
            <a:off x="3362760" y="4575600"/>
            <a:ext cx="609840" cy="804960"/>
          </a:xfrm>
          <a:prstGeom prst="uturnArrow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rot="429000">
            <a:off x="2133720" y="4114800"/>
            <a:ext cx="304560" cy="1600200"/>
          </a:xfrm>
          <a:prstGeom prst="upArrow">
            <a:avLst>
              <a:gd name="adj1" fmla="val 50000"/>
              <a:gd name="adj2" fmla="val 131353"/>
            </a:avLst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rot="762000">
            <a:off x="2438280" y="2971440"/>
            <a:ext cx="327240" cy="1066680"/>
          </a:xfrm>
          <a:prstGeom prst="upArrow">
            <a:avLst>
              <a:gd name="adj1" fmla="val 50000"/>
              <a:gd name="adj2" fmla="val 81491"/>
            </a:avLst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858000" y="5486400"/>
            <a:ext cx="152280" cy="228600"/>
          </a:xfrm>
          <a:prstGeom prst="triangle">
            <a:avLst>
              <a:gd name="adj" fmla="val 6333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7391520" y="5867280"/>
            <a:ext cx="387360" cy="295560"/>
          </a:xfrm>
          <a:prstGeom prst="star5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未知"/>
          <p:cNvSpPr/>
          <p:nvPr/>
        </p:nvSpPr>
        <p:spPr>
          <a:xfrm>
            <a:off x="3257640" y="4667400"/>
            <a:ext cx="617400" cy="576000"/>
          </a:xfrm>
          <a:custGeom>
            <a:avLst/>
            <a:gdLst/>
            <a:ahLst/>
            <a:rect l="l" t="t" r="r" b="b"/>
            <a:pathLst>
              <a:path w="389" h="363">
                <a:moveTo>
                  <a:pt x="156" y="0"/>
                </a:moveTo>
                <a:cubicBezTo>
                  <a:pt x="164" y="12"/>
                  <a:pt x="174" y="23"/>
                  <a:pt x="180" y="36"/>
                </a:cubicBezTo>
                <a:cubicBezTo>
                  <a:pt x="186" y="51"/>
                  <a:pt x="182" y="71"/>
                  <a:pt x="192" y="84"/>
                </a:cubicBezTo>
                <a:cubicBezTo>
                  <a:pt x="200" y="94"/>
                  <a:pt x="216" y="92"/>
                  <a:pt x="228" y="96"/>
                </a:cubicBezTo>
                <a:cubicBezTo>
                  <a:pt x="236" y="108"/>
                  <a:pt x="247" y="118"/>
                  <a:pt x="252" y="132"/>
                </a:cubicBezTo>
                <a:cubicBezTo>
                  <a:pt x="259" y="151"/>
                  <a:pt x="253" y="175"/>
                  <a:pt x="264" y="192"/>
                </a:cubicBezTo>
                <a:cubicBezTo>
                  <a:pt x="271" y="203"/>
                  <a:pt x="289" y="198"/>
                  <a:pt x="300" y="204"/>
                </a:cubicBezTo>
                <a:cubicBezTo>
                  <a:pt x="325" y="218"/>
                  <a:pt x="372" y="252"/>
                  <a:pt x="372" y="252"/>
                </a:cubicBezTo>
                <a:cubicBezTo>
                  <a:pt x="376" y="264"/>
                  <a:pt x="389" y="276"/>
                  <a:pt x="384" y="288"/>
                </a:cubicBezTo>
                <a:cubicBezTo>
                  <a:pt x="378" y="302"/>
                  <a:pt x="326" y="322"/>
                  <a:pt x="312" y="324"/>
                </a:cubicBezTo>
                <a:cubicBezTo>
                  <a:pt x="264" y="330"/>
                  <a:pt x="216" y="332"/>
                  <a:pt x="168" y="336"/>
                </a:cubicBezTo>
                <a:cubicBezTo>
                  <a:pt x="129" y="349"/>
                  <a:pt x="107" y="363"/>
                  <a:pt x="60" y="336"/>
                </a:cubicBezTo>
                <a:cubicBezTo>
                  <a:pt x="49" y="330"/>
                  <a:pt x="57" y="309"/>
                  <a:pt x="48" y="300"/>
                </a:cubicBezTo>
                <a:cubicBezTo>
                  <a:pt x="35" y="287"/>
                  <a:pt x="16" y="288"/>
                  <a:pt x="0" y="288"/>
                </a:cubicBezTo>
              </a:path>
            </a:pathLst>
          </a:custGeom>
          <a:noFill/>
          <a:ln w="255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3962520" y="5029200"/>
            <a:ext cx="15228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rot="4123800">
            <a:off x="4982760" y="5285880"/>
            <a:ext cx="106704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18707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187072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rot="1095600">
            <a:off x="6139080" y="5830920"/>
            <a:ext cx="133272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55761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55761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rot="3433800">
            <a:off x="5571000" y="5631480"/>
            <a:ext cx="10666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559" y="1357"/>
                </a:moveTo>
                <a:arcTo wR="10800" hR="10800" stAng="-7142001" swAng="4929074"/>
                <a:lnTo>
                  <a:pt x="10800" y="10800"/>
                </a:lnTo>
                <a:close/>
              </a:path>
              <a:path fill="none" w="21600" h="21600">
                <a:moveTo>
                  <a:pt x="5559" y="1357"/>
                </a:moveTo>
                <a:arcTo wR="10800" hR="10800" stAng="-7142001" swAng="492907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rot="5247600">
            <a:off x="4333680" y="4973400"/>
            <a:ext cx="106776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18707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187072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 txBox="1"/>
          <p:nvPr/>
        </p:nvSpPr>
        <p:spPr>
          <a:xfrm>
            <a:off x="2057400" y="2209680"/>
            <a:ext cx="106668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宋体"/>
              </a:rPr>
              <a:t>松潘草地</a:t>
            </a:r>
            <a:endParaRPr b="0" lang="en-US" sz="2400" spc="-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宋体"/>
              <a:ea typeface="宋体"/>
            </a:endParaRPr>
          </a:p>
        </p:txBody>
      </p:sp>
      <p:sp>
        <p:nvSpPr>
          <p:cNvPr id="1024" name="未知"/>
          <p:cNvSpPr/>
          <p:nvPr/>
        </p:nvSpPr>
        <p:spPr>
          <a:xfrm>
            <a:off x="5219640" y="4686480"/>
            <a:ext cx="1233720" cy="1714320"/>
          </a:xfrm>
          <a:custGeom>
            <a:avLst/>
            <a:gdLst/>
            <a:ahLst/>
            <a:rect l="l" t="t" r="r" b="b"/>
            <a:pathLst>
              <a:path w="777" h="1080">
                <a:moveTo>
                  <a:pt x="672" y="0"/>
                </a:moveTo>
                <a:cubicBezTo>
                  <a:pt x="694" y="65"/>
                  <a:pt x="722" y="115"/>
                  <a:pt x="744" y="180"/>
                </a:cubicBezTo>
                <a:cubicBezTo>
                  <a:pt x="748" y="192"/>
                  <a:pt x="752" y="204"/>
                  <a:pt x="756" y="216"/>
                </a:cubicBezTo>
                <a:cubicBezTo>
                  <a:pt x="760" y="228"/>
                  <a:pt x="768" y="252"/>
                  <a:pt x="768" y="252"/>
                </a:cubicBezTo>
                <a:cubicBezTo>
                  <a:pt x="759" y="341"/>
                  <a:pt x="777" y="386"/>
                  <a:pt x="708" y="432"/>
                </a:cubicBezTo>
                <a:cubicBezTo>
                  <a:pt x="704" y="444"/>
                  <a:pt x="706" y="460"/>
                  <a:pt x="696" y="468"/>
                </a:cubicBezTo>
                <a:cubicBezTo>
                  <a:pt x="683" y="478"/>
                  <a:pt x="663" y="474"/>
                  <a:pt x="648" y="480"/>
                </a:cubicBezTo>
                <a:cubicBezTo>
                  <a:pt x="635" y="486"/>
                  <a:pt x="624" y="496"/>
                  <a:pt x="612" y="504"/>
                </a:cubicBezTo>
                <a:cubicBezTo>
                  <a:pt x="651" y="530"/>
                  <a:pt x="691" y="541"/>
                  <a:pt x="636" y="612"/>
                </a:cubicBezTo>
                <a:cubicBezTo>
                  <a:pt x="620" y="632"/>
                  <a:pt x="588" y="628"/>
                  <a:pt x="564" y="636"/>
                </a:cubicBezTo>
                <a:cubicBezTo>
                  <a:pt x="550" y="641"/>
                  <a:pt x="540" y="652"/>
                  <a:pt x="528" y="660"/>
                </a:cubicBezTo>
                <a:cubicBezTo>
                  <a:pt x="444" y="632"/>
                  <a:pt x="480" y="628"/>
                  <a:pt x="420" y="648"/>
                </a:cubicBezTo>
                <a:cubicBezTo>
                  <a:pt x="399" y="711"/>
                  <a:pt x="419" y="677"/>
                  <a:pt x="336" y="732"/>
                </a:cubicBezTo>
                <a:cubicBezTo>
                  <a:pt x="324" y="740"/>
                  <a:pt x="300" y="756"/>
                  <a:pt x="300" y="756"/>
                </a:cubicBezTo>
                <a:cubicBezTo>
                  <a:pt x="283" y="782"/>
                  <a:pt x="257" y="802"/>
                  <a:pt x="240" y="828"/>
                </a:cubicBezTo>
                <a:cubicBezTo>
                  <a:pt x="194" y="898"/>
                  <a:pt x="273" y="834"/>
                  <a:pt x="192" y="888"/>
                </a:cubicBezTo>
                <a:cubicBezTo>
                  <a:pt x="171" y="951"/>
                  <a:pt x="191" y="917"/>
                  <a:pt x="108" y="972"/>
                </a:cubicBezTo>
                <a:cubicBezTo>
                  <a:pt x="96" y="980"/>
                  <a:pt x="72" y="996"/>
                  <a:pt x="72" y="996"/>
                </a:cubicBezTo>
                <a:cubicBezTo>
                  <a:pt x="56" y="1058"/>
                  <a:pt x="55" y="1052"/>
                  <a:pt x="0" y="1080"/>
                </a:cubicBezTo>
              </a:path>
            </a:pathLst>
          </a:custGeom>
          <a:noFill/>
          <a:ln w="442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未知"/>
          <p:cNvSpPr/>
          <p:nvPr/>
        </p:nvSpPr>
        <p:spPr>
          <a:xfrm>
            <a:off x="2857680" y="3500280"/>
            <a:ext cx="361800" cy="1243080"/>
          </a:xfrm>
          <a:custGeom>
            <a:avLst/>
            <a:gdLst/>
            <a:ahLst/>
            <a:rect l="l" t="t" r="r" b="b"/>
            <a:pathLst>
              <a:path w="192" h="651">
                <a:moveTo>
                  <a:pt x="192" y="651"/>
                </a:moveTo>
                <a:cubicBezTo>
                  <a:pt x="176" y="647"/>
                  <a:pt x="157" y="649"/>
                  <a:pt x="144" y="639"/>
                </a:cubicBezTo>
                <a:cubicBezTo>
                  <a:pt x="134" y="631"/>
                  <a:pt x="140" y="613"/>
                  <a:pt x="132" y="603"/>
                </a:cubicBezTo>
                <a:cubicBezTo>
                  <a:pt x="123" y="592"/>
                  <a:pt x="108" y="587"/>
                  <a:pt x="96" y="579"/>
                </a:cubicBezTo>
                <a:cubicBezTo>
                  <a:pt x="88" y="555"/>
                  <a:pt x="80" y="531"/>
                  <a:pt x="72" y="507"/>
                </a:cubicBezTo>
                <a:cubicBezTo>
                  <a:pt x="68" y="495"/>
                  <a:pt x="60" y="471"/>
                  <a:pt x="60" y="471"/>
                </a:cubicBezTo>
                <a:cubicBezTo>
                  <a:pt x="70" y="336"/>
                  <a:pt x="86" y="213"/>
                  <a:pt x="60" y="75"/>
                </a:cubicBezTo>
                <a:cubicBezTo>
                  <a:pt x="46" y="0"/>
                  <a:pt x="36" y="3"/>
                  <a:pt x="0" y="3"/>
                </a:cubicBezTo>
              </a:path>
            </a:pathLst>
          </a:custGeom>
          <a:noFill/>
          <a:ln w="442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未知"/>
          <p:cNvSpPr/>
          <p:nvPr/>
        </p:nvSpPr>
        <p:spPr>
          <a:xfrm>
            <a:off x="2286000" y="3886200"/>
            <a:ext cx="647640" cy="528480"/>
          </a:xfrm>
          <a:custGeom>
            <a:avLst/>
            <a:gdLst/>
            <a:ahLst/>
            <a:rect l="l" t="t" r="r" b="b"/>
            <a:pathLst>
              <a:path w="408" h="333">
                <a:moveTo>
                  <a:pt x="408" y="252"/>
                </a:moveTo>
                <a:cubicBezTo>
                  <a:pt x="354" y="333"/>
                  <a:pt x="337" y="311"/>
                  <a:pt x="228" y="300"/>
                </a:cubicBezTo>
                <a:cubicBezTo>
                  <a:pt x="204" y="284"/>
                  <a:pt x="180" y="268"/>
                  <a:pt x="156" y="252"/>
                </a:cubicBezTo>
                <a:cubicBezTo>
                  <a:pt x="132" y="236"/>
                  <a:pt x="124" y="204"/>
                  <a:pt x="108" y="180"/>
                </a:cubicBezTo>
                <a:cubicBezTo>
                  <a:pt x="100" y="168"/>
                  <a:pt x="96" y="153"/>
                  <a:pt x="84" y="144"/>
                </a:cubicBezTo>
                <a:cubicBezTo>
                  <a:pt x="28" y="102"/>
                  <a:pt x="0" y="72"/>
                  <a:pt x="0" y="0"/>
                </a:cubicBezTo>
              </a:path>
            </a:pathLst>
          </a:custGeom>
          <a:noFill/>
          <a:ln w="442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未知"/>
          <p:cNvSpPr/>
          <p:nvPr/>
        </p:nvSpPr>
        <p:spPr>
          <a:xfrm>
            <a:off x="3600360" y="3657600"/>
            <a:ext cx="2876760" cy="933480"/>
          </a:xfrm>
          <a:custGeom>
            <a:avLst/>
            <a:gdLst/>
            <a:ahLst/>
            <a:rect l="l" t="t" r="r" b="b"/>
            <a:pathLst>
              <a:path w="1812" h="588">
                <a:moveTo>
                  <a:pt x="0" y="588"/>
                </a:moveTo>
                <a:cubicBezTo>
                  <a:pt x="16" y="584"/>
                  <a:pt x="34" y="585"/>
                  <a:pt x="48" y="576"/>
                </a:cubicBezTo>
                <a:cubicBezTo>
                  <a:pt x="60" y="568"/>
                  <a:pt x="62" y="550"/>
                  <a:pt x="72" y="540"/>
                </a:cubicBezTo>
                <a:cubicBezTo>
                  <a:pt x="82" y="530"/>
                  <a:pt x="96" y="524"/>
                  <a:pt x="108" y="516"/>
                </a:cubicBezTo>
                <a:cubicBezTo>
                  <a:pt x="152" y="449"/>
                  <a:pt x="107" y="502"/>
                  <a:pt x="168" y="468"/>
                </a:cubicBezTo>
                <a:cubicBezTo>
                  <a:pt x="193" y="454"/>
                  <a:pt x="216" y="436"/>
                  <a:pt x="240" y="420"/>
                </a:cubicBezTo>
                <a:cubicBezTo>
                  <a:pt x="261" y="406"/>
                  <a:pt x="291" y="410"/>
                  <a:pt x="312" y="396"/>
                </a:cubicBezTo>
                <a:cubicBezTo>
                  <a:pt x="324" y="388"/>
                  <a:pt x="334" y="377"/>
                  <a:pt x="348" y="372"/>
                </a:cubicBezTo>
                <a:cubicBezTo>
                  <a:pt x="406" y="351"/>
                  <a:pt x="469" y="344"/>
                  <a:pt x="528" y="324"/>
                </a:cubicBezTo>
                <a:cubicBezTo>
                  <a:pt x="536" y="312"/>
                  <a:pt x="541" y="297"/>
                  <a:pt x="552" y="288"/>
                </a:cubicBezTo>
                <a:cubicBezTo>
                  <a:pt x="562" y="280"/>
                  <a:pt x="579" y="285"/>
                  <a:pt x="588" y="276"/>
                </a:cubicBezTo>
                <a:cubicBezTo>
                  <a:pt x="652" y="212"/>
                  <a:pt x="540" y="260"/>
                  <a:pt x="636" y="228"/>
                </a:cubicBezTo>
                <a:cubicBezTo>
                  <a:pt x="668" y="132"/>
                  <a:pt x="620" y="244"/>
                  <a:pt x="684" y="180"/>
                </a:cubicBezTo>
                <a:cubicBezTo>
                  <a:pt x="707" y="157"/>
                  <a:pt x="688" y="110"/>
                  <a:pt x="708" y="84"/>
                </a:cubicBezTo>
                <a:cubicBezTo>
                  <a:pt x="740" y="42"/>
                  <a:pt x="819" y="23"/>
                  <a:pt x="864" y="0"/>
                </a:cubicBezTo>
                <a:cubicBezTo>
                  <a:pt x="992" y="4"/>
                  <a:pt x="1120" y="1"/>
                  <a:pt x="1248" y="12"/>
                </a:cubicBezTo>
                <a:cubicBezTo>
                  <a:pt x="1299" y="16"/>
                  <a:pt x="1288" y="82"/>
                  <a:pt x="1320" y="108"/>
                </a:cubicBezTo>
                <a:cubicBezTo>
                  <a:pt x="1330" y="116"/>
                  <a:pt x="1345" y="114"/>
                  <a:pt x="1356" y="120"/>
                </a:cubicBezTo>
                <a:cubicBezTo>
                  <a:pt x="1416" y="150"/>
                  <a:pt x="1442" y="168"/>
                  <a:pt x="1512" y="180"/>
                </a:cubicBezTo>
                <a:cubicBezTo>
                  <a:pt x="1560" y="212"/>
                  <a:pt x="1553" y="229"/>
                  <a:pt x="1584" y="276"/>
                </a:cubicBezTo>
                <a:cubicBezTo>
                  <a:pt x="1588" y="296"/>
                  <a:pt x="1580" y="324"/>
                  <a:pt x="1596" y="336"/>
                </a:cubicBezTo>
                <a:cubicBezTo>
                  <a:pt x="1619" y="353"/>
                  <a:pt x="1652" y="343"/>
                  <a:pt x="1680" y="348"/>
                </a:cubicBezTo>
                <a:cubicBezTo>
                  <a:pt x="1713" y="354"/>
                  <a:pt x="1733" y="362"/>
                  <a:pt x="1764" y="372"/>
                </a:cubicBezTo>
                <a:cubicBezTo>
                  <a:pt x="1788" y="408"/>
                  <a:pt x="1812" y="446"/>
                  <a:pt x="1812" y="492"/>
                </a:cubicBezTo>
              </a:path>
            </a:pathLst>
          </a:custGeom>
          <a:noFill/>
          <a:ln w="442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未知"/>
          <p:cNvSpPr/>
          <p:nvPr/>
        </p:nvSpPr>
        <p:spPr>
          <a:xfrm>
            <a:off x="2841480" y="4267080"/>
            <a:ext cx="1920960" cy="1447920"/>
          </a:xfrm>
          <a:custGeom>
            <a:avLst/>
            <a:gdLst/>
            <a:ahLst/>
            <a:rect l="l" t="t" r="r" b="b"/>
            <a:pathLst>
              <a:path w="1210" h="912">
                <a:moveTo>
                  <a:pt x="910" y="0"/>
                </a:moveTo>
                <a:cubicBezTo>
                  <a:pt x="948" y="113"/>
                  <a:pt x="958" y="93"/>
                  <a:pt x="1078" y="108"/>
                </a:cubicBezTo>
                <a:cubicBezTo>
                  <a:pt x="1141" y="150"/>
                  <a:pt x="1111" y="118"/>
                  <a:pt x="1138" y="228"/>
                </a:cubicBezTo>
                <a:cubicBezTo>
                  <a:pt x="1149" y="272"/>
                  <a:pt x="1185" y="334"/>
                  <a:pt x="1210" y="372"/>
                </a:cubicBezTo>
                <a:cubicBezTo>
                  <a:pt x="1169" y="399"/>
                  <a:pt x="1138" y="408"/>
                  <a:pt x="1090" y="420"/>
                </a:cubicBezTo>
                <a:cubicBezTo>
                  <a:pt x="1098" y="444"/>
                  <a:pt x="1106" y="468"/>
                  <a:pt x="1114" y="492"/>
                </a:cubicBezTo>
                <a:cubicBezTo>
                  <a:pt x="1118" y="504"/>
                  <a:pt x="1126" y="528"/>
                  <a:pt x="1126" y="528"/>
                </a:cubicBezTo>
                <a:cubicBezTo>
                  <a:pt x="1106" y="588"/>
                  <a:pt x="1080" y="576"/>
                  <a:pt x="1018" y="588"/>
                </a:cubicBezTo>
                <a:cubicBezTo>
                  <a:pt x="951" y="622"/>
                  <a:pt x="903" y="626"/>
                  <a:pt x="826" y="636"/>
                </a:cubicBezTo>
                <a:cubicBezTo>
                  <a:pt x="802" y="644"/>
                  <a:pt x="768" y="639"/>
                  <a:pt x="754" y="660"/>
                </a:cubicBezTo>
                <a:cubicBezTo>
                  <a:pt x="738" y="684"/>
                  <a:pt x="733" y="723"/>
                  <a:pt x="706" y="732"/>
                </a:cubicBezTo>
                <a:cubicBezTo>
                  <a:pt x="647" y="752"/>
                  <a:pt x="598" y="768"/>
                  <a:pt x="538" y="780"/>
                </a:cubicBezTo>
                <a:cubicBezTo>
                  <a:pt x="415" y="862"/>
                  <a:pt x="386" y="891"/>
                  <a:pt x="238" y="912"/>
                </a:cubicBezTo>
                <a:cubicBezTo>
                  <a:pt x="222" y="908"/>
                  <a:pt x="205" y="906"/>
                  <a:pt x="190" y="900"/>
                </a:cubicBezTo>
                <a:cubicBezTo>
                  <a:pt x="177" y="894"/>
                  <a:pt x="168" y="879"/>
                  <a:pt x="154" y="876"/>
                </a:cubicBezTo>
                <a:cubicBezTo>
                  <a:pt x="111" y="867"/>
                  <a:pt x="66" y="868"/>
                  <a:pt x="22" y="864"/>
                </a:cubicBezTo>
                <a:cubicBezTo>
                  <a:pt x="0" y="798"/>
                  <a:pt x="10" y="841"/>
                  <a:pt x="10" y="732"/>
                </a:cubicBezTo>
              </a:path>
            </a:pathLst>
          </a:custGeom>
          <a:noFill/>
          <a:ln w="442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未知"/>
          <p:cNvSpPr/>
          <p:nvPr/>
        </p:nvSpPr>
        <p:spPr>
          <a:xfrm>
            <a:off x="6415200" y="2908440"/>
            <a:ext cx="2728800" cy="1504800"/>
          </a:xfrm>
          <a:custGeom>
            <a:avLst/>
            <a:gdLst/>
            <a:ahLst/>
            <a:rect l="l" t="t" r="r" b="b"/>
            <a:pathLst>
              <a:path w="1719" h="948">
                <a:moveTo>
                  <a:pt x="1719" y="52"/>
                </a:moveTo>
                <a:cubicBezTo>
                  <a:pt x="1627" y="83"/>
                  <a:pt x="1524" y="82"/>
                  <a:pt x="1443" y="28"/>
                </a:cubicBezTo>
                <a:cubicBezTo>
                  <a:pt x="1363" y="32"/>
                  <a:pt x="1273" y="0"/>
                  <a:pt x="1203" y="40"/>
                </a:cubicBezTo>
                <a:cubicBezTo>
                  <a:pt x="1165" y="62"/>
                  <a:pt x="1199" y="128"/>
                  <a:pt x="1191" y="172"/>
                </a:cubicBezTo>
                <a:cubicBezTo>
                  <a:pt x="1191" y="172"/>
                  <a:pt x="1161" y="262"/>
                  <a:pt x="1155" y="280"/>
                </a:cubicBezTo>
                <a:cubicBezTo>
                  <a:pt x="1134" y="343"/>
                  <a:pt x="1154" y="309"/>
                  <a:pt x="1071" y="364"/>
                </a:cubicBezTo>
                <a:cubicBezTo>
                  <a:pt x="1059" y="372"/>
                  <a:pt x="1035" y="388"/>
                  <a:pt x="1035" y="388"/>
                </a:cubicBezTo>
                <a:cubicBezTo>
                  <a:pt x="1031" y="420"/>
                  <a:pt x="1048" y="464"/>
                  <a:pt x="1023" y="484"/>
                </a:cubicBezTo>
                <a:cubicBezTo>
                  <a:pt x="992" y="509"/>
                  <a:pt x="943" y="491"/>
                  <a:pt x="903" y="496"/>
                </a:cubicBezTo>
                <a:cubicBezTo>
                  <a:pt x="879" y="499"/>
                  <a:pt x="855" y="504"/>
                  <a:pt x="831" y="508"/>
                </a:cubicBezTo>
                <a:cubicBezTo>
                  <a:pt x="858" y="549"/>
                  <a:pt x="891" y="600"/>
                  <a:pt x="855" y="652"/>
                </a:cubicBezTo>
                <a:cubicBezTo>
                  <a:pt x="838" y="676"/>
                  <a:pt x="783" y="700"/>
                  <a:pt x="783" y="700"/>
                </a:cubicBezTo>
                <a:cubicBezTo>
                  <a:pt x="754" y="786"/>
                  <a:pt x="736" y="779"/>
                  <a:pt x="651" y="796"/>
                </a:cubicBezTo>
                <a:cubicBezTo>
                  <a:pt x="627" y="792"/>
                  <a:pt x="602" y="792"/>
                  <a:pt x="579" y="784"/>
                </a:cubicBezTo>
                <a:cubicBezTo>
                  <a:pt x="513" y="762"/>
                  <a:pt x="564" y="766"/>
                  <a:pt x="531" y="724"/>
                </a:cubicBezTo>
                <a:cubicBezTo>
                  <a:pt x="522" y="713"/>
                  <a:pt x="507" y="708"/>
                  <a:pt x="495" y="700"/>
                </a:cubicBezTo>
                <a:cubicBezTo>
                  <a:pt x="479" y="652"/>
                  <a:pt x="465" y="632"/>
                  <a:pt x="423" y="604"/>
                </a:cubicBezTo>
                <a:cubicBezTo>
                  <a:pt x="375" y="532"/>
                  <a:pt x="340" y="557"/>
                  <a:pt x="255" y="568"/>
                </a:cubicBezTo>
                <a:cubicBezTo>
                  <a:pt x="251" y="580"/>
                  <a:pt x="251" y="594"/>
                  <a:pt x="243" y="604"/>
                </a:cubicBezTo>
                <a:cubicBezTo>
                  <a:pt x="234" y="615"/>
                  <a:pt x="213" y="615"/>
                  <a:pt x="207" y="628"/>
                </a:cubicBezTo>
                <a:cubicBezTo>
                  <a:pt x="196" y="650"/>
                  <a:pt x="203" y="677"/>
                  <a:pt x="195" y="700"/>
                </a:cubicBezTo>
                <a:cubicBezTo>
                  <a:pt x="183" y="737"/>
                  <a:pt x="155" y="775"/>
                  <a:pt x="123" y="796"/>
                </a:cubicBezTo>
                <a:cubicBezTo>
                  <a:pt x="119" y="808"/>
                  <a:pt x="120" y="823"/>
                  <a:pt x="111" y="832"/>
                </a:cubicBezTo>
                <a:cubicBezTo>
                  <a:pt x="102" y="841"/>
                  <a:pt x="82" y="834"/>
                  <a:pt x="75" y="844"/>
                </a:cubicBezTo>
                <a:cubicBezTo>
                  <a:pt x="0" y="948"/>
                  <a:pt x="90" y="896"/>
                  <a:pt x="27" y="928"/>
                </a:cubicBezTo>
              </a:path>
            </a:pathLst>
          </a:custGeom>
          <a:noFill/>
          <a:ln w="442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未知"/>
          <p:cNvSpPr/>
          <p:nvPr/>
        </p:nvSpPr>
        <p:spPr>
          <a:xfrm>
            <a:off x="5918040" y="4305240"/>
            <a:ext cx="546120" cy="399960"/>
          </a:xfrm>
          <a:custGeom>
            <a:avLst/>
            <a:gdLst/>
            <a:ahLst/>
            <a:rect l="l" t="t" r="r" b="b"/>
            <a:pathLst>
              <a:path w="344" h="252">
                <a:moveTo>
                  <a:pt x="280" y="0"/>
                </a:moveTo>
                <a:cubicBezTo>
                  <a:pt x="276" y="12"/>
                  <a:pt x="274" y="25"/>
                  <a:pt x="268" y="36"/>
                </a:cubicBezTo>
                <a:cubicBezTo>
                  <a:pt x="254" y="61"/>
                  <a:pt x="220" y="108"/>
                  <a:pt x="220" y="108"/>
                </a:cubicBezTo>
                <a:cubicBezTo>
                  <a:pt x="234" y="117"/>
                  <a:pt x="280" y="137"/>
                  <a:pt x="268" y="168"/>
                </a:cubicBezTo>
                <a:cubicBezTo>
                  <a:pt x="263" y="181"/>
                  <a:pt x="244" y="184"/>
                  <a:pt x="232" y="192"/>
                </a:cubicBezTo>
                <a:cubicBezTo>
                  <a:pt x="172" y="172"/>
                  <a:pt x="196" y="152"/>
                  <a:pt x="136" y="132"/>
                </a:cubicBezTo>
                <a:cubicBezTo>
                  <a:pt x="119" y="183"/>
                  <a:pt x="123" y="210"/>
                  <a:pt x="28" y="156"/>
                </a:cubicBezTo>
                <a:cubicBezTo>
                  <a:pt x="17" y="150"/>
                  <a:pt x="53" y="120"/>
                  <a:pt x="40" y="120"/>
                </a:cubicBezTo>
                <a:cubicBezTo>
                  <a:pt x="24" y="120"/>
                  <a:pt x="7" y="183"/>
                  <a:pt x="4" y="192"/>
                </a:cubicBezTo>
                <a:cubicBezTo>
                  <a:pt x="8" y="208"/>
                  <a:pt x="0" y="235"/>
                  <a:pt x="16" y="240"/>
                </a:cubicBezTo>
                <a:cubicBezTo>
                  <a:pt x="50" y="251"/>
                  <a:pt x="111" y="228"/>
                  <a:pt x="148" y="216"/>
                </a:cubicBezTo>
                <a:cubicBezTo>
                  <a:pt x="176" y="220"/>
                  <a:pt x="204" y="222"/>
                  <a:pt x="232" y="228"/>
                </a:cubicBezTo>
                <a:cubicBezTo>
                  <a:pt x="257" y="234"/>
                  <a:pt x="304" y="252"/>
                  <a:pt x="304" y="252"/>
                </a:cubicBezTo>
                <a:cubicBezTo>
                  <a:pt x="344" y="193"/>
                  <a:pt x="325" y="160"/>
                  <a:pt x="304" y="96"/>
                </a:cubicBezTo>
                <a:cubicBezTo>
                  <a:pt x="342" y="39"/>
                  <a:pt x="337" y="71"/>
                  <a:pt x="280" y="0"/>
                </a:cubicBezTo>
                <a:close/>
              </a:path>
            </a:pathLst>
          </a:custGeom>
          <a:solidFill>
            <a:srgbClr val="33ccff"/>
          </a:solidFill>
          <a:ln w="442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未知"/>
          <p:cNvSpPr/>
          <p:nvPr/>
        </p:nvSpPr>
        <p:spPr>
          <a:xfrm>
            <a:off x="7429680" y="4181400"/>
            <a:ext cx="323640" cy="582840"/>
          </a:xfrm>
          <a:custGeom>
            <a:avLst/>
            <a:gdLst/>
            <a:ahLst/>
            <a:rect l="l" t="t" r="r" b="b"/>
            <a:pathLst>
              <a:path w="204" h="367">
                <a:moveTo>
                  <a:pt x="48" y="42"/>
                </a:moveTo>
                <a:cubicBezTo>
                  <a:pt x="32" y="90"/>
                  <a:pt x="28" y="132"/>
                  <a:pt x="0" y="174"/>
                </a:cubicBezTo>
                <a:cubicBezTo>
                  <a:pt x="4" y="190"/>
                  <a:pt x="2" y="209"/>
                  <a:pt x="12" y="222"/>
                </a:cubicBezTo>
                <a:cubicBezTo>
                  <a:pt x="20" y="232"/>
                  <a:pt x="38" y="226"/>
                  <a:pt x="48" y="234"/>
                </a:cubicBezTo>
                <a:cubicBezTo>
                  <a:pt x="59" y="243"/>
                  <a:pt x="64" y="258"/>
                  <a:pt x="72" y="270"/>
                </a:cubicBezTo>
                <a:cubicBezTo>
                  <a:pt x="85" y="336"/>
                  <a:pt x="81" y="367"/>
                  <a:pt x="156" y="342"/>
                </a:cubicBezTo>
                <a:cubicBezTo>
                  <a:pt x="174" y="287"/>
                  <a:pt x="171" y="235"/>
                  <a:pt x="204" y="186"/>
                </a:cubicBezTo>
                <a:cubicBezTo>
                  <a:pt x="162" y="165"/>
                  <a:pt x="123" y="152"/>
                  <a:pt x="84" y="126"/>
                </a:cubicBezTo>
                <a:cubicBezTo>
                  <a:pt x="80" y="98"/>
                  <a:pt x="78" y="70"/>
                  <a:pt x="72" y="42"/>
                </a:cubicBezTo>
                <a:cubicBezTo>
                  <a:pt x="70" y="30"/>
                  <a:pt x="71" y="0"/>
                  <a:pt x="60" y="6"/>
                </a:cubicBezTo>
                <a:cubicBezTo>
                  <a:pt x="45" y="13"/>
                  <a:pt x="53" y="38"/>
                  <a:pt x="48" y="54"/>
                </a:cubicBezTo>
                <a:cubicBezTo>
                  <a:pt x="45" y="66"/>
                  <a:pt x="36" y="103"/>
                  <a:pt x="36" y="90"/>
                </a:cubicBezTo>
                <a:cubicBezTo>
                  <a:pt x="36" y="74"/>
                  <a:pt x="44" y="58"/>
                  <a:pt x="48" y="42"/>
                </a:cubicBezTo>
                <a:close/>
              </a:path>
            </a:pathLst>
          </a:custGeom>
          <a:solidFill>
            <a:srgbClr val="33ccff"/>
          </a:solidFill>
          <a:ln w="442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未知"/>
          <p:cNvSpPr/>
          <p:nvPr/>
        </p:nvSpPr>
        <p:spPr>
          <a:xfrm>
            <a:off x="7167600" y="4743360"/>
            <a:ext cx="414360" cy="685800"/>
          </a:xfrm>
          <a:custGeom>
            <a:avLst/>
            <a:gdLst/>
            <a:ahLst/>
            <a:rect l="l" t="t" r="r" b="b"/>
            <a:pathLst>
              <a:path w="261" h="432">
                <a:moveTo>
                  <a:pt x="261" y="0"/>
                </a:moveTo>
                <a:cubicBezTo>
                  <a:pt x="253" y="12"/>
                  <a:pt x="248" y="27"/>
                  <a:pt x="237" y="36"/>
                </a:cubicBezTo>
                <a:cubicBezTo>
                  <a:pt x="227" y="44"/>
                  <a:pt x="212" y="42"/>
                  <a:pt x="201" y="48"/>
                </a:cubicBezTo>
                <a:cubicBezTo>
                  <a:pt x="108" y="95"/>
                  <a:pt x="219" y="54"/>
                  <a:pt x="129" y="84"/>
                </a:cubicBezTo>
                <a:cubicBezTo>
                  <a:pt x="85" y="215"/>
                  <a:pt x="155" y="16"/>
                  <a:pt x="93" y="156"/>
                </a:cubicBezTo>
                <a:cubicBezTo>
                  <a:pt x="0" y="366"/>
                  <a:pt x="125" y="107"/>
                  <a:pt x="57" y="288"/>
                </a:cubicBezTo>
                <a:cubicBezTo>
                  <a:pt x="52" y="302"/>
                  <a:pt x="39" y="311"/>
                  <a:pt x="33" y="324"/>
                </a:cubicBezTo>
                <a:cubicBezTo>
                  <a:pt x="13" y="363"/>
                  <a:pt x="21" y="385"/>
                  <a:pt x="21" y="432"/>
                </a:cubicBezTo>
              </a:path>
            </a:pathLst>
          </a:custGeom>
          <a:noFill/>
          <a:ln w="442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未知"/>
          <p:cNvSpPr/>
          <p:nvPr/>
        </p:nvSpPr>
        <p:spPr>
          <a:xfrm>
            <a:off x="209520" y="1981080"/>
            <a:ext cx="2914560" cy="3810240"/>
          </a:xfrm>
          <a:custGeom>
            <a:avLst/>
            <a:gdLst/>
            <a:ahLst/>
            <a:rect l="l" t="t" r="r" b="b"/>
            <a:pathLst>
              <a:path w="1836" h="2400">
                <a:moveTo>
                  <a:pt x="1836" y="1704"/>
                </a:moveTo>
                <a:cubicBezTo>
                  <a:pt x="1812" y="1708"/>
                  <a:pt x="1785" y="1704"/>
                  <a:pt x="1764" y="1716"/>
                </a:cubicBezTo>
                <a:cubicBezTo>
                  <a:pt x="1753" y="1722"/>
                  <a:pt x="1760" y="1742"/>
                  <a:pt x="1752" y="1752"/>
                </a:cubicBezTo>
                <a:cubicBezTo>
                  <a:pt x="1741" y="1766"/>
                  <a:pt x="1680" y="1794"/>
                  <a:pt x="1668" y="1800"/>
                </a:cubicBezTo>
                <a:cubicBezTo>
                  <a:pt x="1660" y="1824"/>
                  <a:pt x="1658" y="1851"/>
                  <a:pt x="1644" y="1872"/>
                </a:cubicBezTo>
                <a:cubicBezTo>
                  <a:pt x="1636" y="1884"/>
                  <a:pt x="1626" y="1895"/>
                  <a:pt x="1620" y="1908"/>
                </a:cubicBezTo>
                <a:cubicBezTo>
                  <a:pt x="1607" y="1934"/>
                  <a:pt x="1612" y="1968"/>
                  <a:pt x="1596" y="1992"/>
                </a:cubicBezTo>
                <a:cubicBezTo>
                  <a:pt x="1588" y="2004"/>
                  <a:pt x="1572" y="2008"/>
                  <a:pt x="1560" y="2016"/>
                </a:cubicBezTo>
                <a:cubicBezTo>
                  <a:pt x="1556" y="2028"/>
                  <a:pt x="1557" y="2043"/>
                  <a:pt x="1548" y="2052"/>
                </a:cubicBezTo>
                <a:cubicBezTo>
                  <a:pt x="1528" y="2072"/>
                  <a:pt x="1476" y="2100"/>
                  <a:pt x="1476" y="2100"/>
                </a:cubicBezTo>
                <a:cubicBezTo>
                  <a:pt x="1493" y="2170"/>
                  <a:pt x="1507" y="2204"/>
                  <a:pt x="1476" y="2292"/>
                </a:cubicBezTo>
                <a:cubicBezTo>
                  <a:pt x="1470" y="2309"/>
                  <a:pt x="1445" y="2309"/>
                  <a:pt x="1428" y="2316"/>
                </a:cubicBezTo>
                <a:cubicBezTo>
                  <a:pt x="1393" y="2330"/>
                  <a:pt x="1352" y="2331"/>
                  <a:pt x="1320" y="2352"/>
                </a:cubicBezTo>
                <a:cubicBezTo>
                  <a:pt x="1273" y="2383"/>
                  <a:pt x="1298" y="2371"/>
                  <a:pt x="1248" y="2388"/>
                </a:cubicBezTo>
                <a:cubicBezTo>
                  <a:pt x="1240" y="2376"/>
                  <a:pt x="1229" y="2366"/>
                  <a:pt x="1224" y="2352"/>
                </a:cubicBezTo>
                <a:cubicBezTo>
                  <a:pt x="1185" y="2234"/>
                  <a:pt x="1275" y="2275"/>
                  <a:pt x="1068" y="2292"/>
                </a:cubicBezTo>
                <a:cubicBezTo>
                  <a:pt x="1023" y="2337"/>
                  <a:pt x="979" y="2400"/>
                  <a:pt x="888" y="2316"/>
                </a:cubicBezTo>
                <a:cubicBezTo>
                  <a:pt x="856" y="2286"/>
                  <a:pt x="880" y="2228"/>
                  <a:pt x="876" y="2184"/>
                </a:cubicBezTo>
                <a:cubicBezTo>
                  <a:pt x="880" y="2148"/>
                  <a:pt x="877" y="2110"/>
                  <a:pt x="888" y="2076"/>
                </a:cubicBezTo>
                <a:cubicBezTo>
                  <a:pt x="897" y="2049"/>
                  <a:pt x="936" y="2004"/>
                  <a:pt x="936" y="2004"/>
                </a:cubicBezTo>
                <a:cubicBezTo>
                  <a:pt x="934" y="1992"/>
                  <a:pt x="932" y="1911"/>
                  <a:pt x="888" y="1920"/>
                </a:cubicBezTo>
                <a:cubicBezTo>
                  <a:pt x="874" y="1923"/>
                  <a:pt x="870" y="1943"/>
                  <a:pt x="864" y="1956"/>
                </a:cubicBezTo>
                <a:cubicBezTo>
                  <a:pt x="854" y="1979"/>
                  <a:pt x="848" y="2004"/>
                  <a:pt x="840" y="2028"/>
                </a:cubicBezTo>
                <a:cubicBezTo>
                  <a:pt x="828" y="2064"/>
                  <a:pt x="732" y="2064"/>
                  <a:pt x="732" y="2064"/>
                </a:cubicBezTo>
                <a:cubicBezTo>
                  <a:pt x="717" y="2020"/>
                  <a:pt x="687" y="2000"/>
                  <a:pt x="672" y="1956"/>
                </a:cubicBezTo>
                <a:cubicBezTo>
                  <a:pt x="684" y="1848"/>
                  <a:pt x="699" y="1738"/>
                  <a:pt x="636" y="1644"/>
                </a:cubicBezTo>
                <a:cubicBezTo>
                  <a:pt x="620" y="422"/>
                  <a:pt x="911" y="836"/>
                  <a:pt x="528" y="708"/>
                </a:cubicBezTo>
                <a:cubicBezTo>
                  <a:pt x="502" y="631"/>
                  <a:pt x="536" y="715"/>
                  <a:pt x="480" y="636"/>
                </a:cubicBezTo>
                <a:cubicBezTo>
                  <a:pt x="453" y="598"/>
                  <a:pt x="434" y="555"/>
                  <a:pt x="408" y="516"/>
                </a:cubicBezTo>
                <a:cubicBezTo>
                  <a:pt x="400" y="504"/>
                  <a:pt x="389" y="494"/>
                  <a:pt x="384" y="480"/>
                </a:cubicBezTo>
                <a:cubicBezTo>
                  <a:pt x="363" y="417"/>
                  <a:pt x="329" y="359"/>
                  <a:pt x="300" y="300"/>
                </a:cubicBezTo>
                <a:cubicBezTo>
                  <a:pt x="294" y="289"/>
                  <a:pt x="297" y="273"/>
                  <a:pt x="288" y="264"/>
                </a:cubicBezTo>
                <a:cubicBezTo>
                  <a:pt x="273" y="249"/>
                  <a:pt x="226" y="235"/>
                  <a:pt x="204" y="228"/>
                </a:cubicBezTo>
                <a:cubicBezTo>
                  <a:pt x="135" y="125"/>
                  <a:pt x="227" y="246"/>
                  <a:pt x="144" y="180"/>
                </a:cubicBezTo>
                <a:cubicBezTo>
                  <a:pt x="133" y="171"/>
                  <a:pt x="129" y="155"/>
                  <a:pt x="120" y="144"/>
                </a:cubicBezTo>
                <a:cubicBezTo>
                  <a:pt x="87" y="104"/>
                  <a:pt x="82" y="117"/>
                  <a:pt x="60" y="72"/>
                </a:cubicBezTo>
                <a:cubicBezTo>
                  <a:pt x="54" y="61"/>
                  <a:pt x="56" y="46"/>
                  <a:pt x="48" y="36"/>
                </a:cubicBezTo>
                <a:cubicBezTo>
                  <a:pt x="36" y="20"/>
                  <a:pt x="14" y="14"/>
                  <a:pt x="0" y="0"/>
                </a:cubicBezTo>
              </a:path>
            </a:pathLst>
          </a:custGeom>
          <a:noFill/>
          <a:ln w="442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4" name=""/>
          <p:cNvGrpSpPr/>
          <p:nvPr/>
        </p:nvGrpSpPr>
        <p:grpSpPr>
          <a:xfrm>
            <a:off x="4724280" y="4495680"/>
            <a:ext cx="152280" cy="762120"/>
            <a:chOff x="4724280" y="4495680"/>
            <a:chExt cx="152280" cy="762120"/>
          </a:xfrm>
        </p:grpSpPr>
        <p:sp>
          <p:nvSpPr>
            <p:cNvPr id="1035" name=""/>
            <p:cNvSpPr txBox="1"/>
            <p:nvPr/>
          </p:nvSpPr>
          <p:spPr>
            <a:xfrm>
              <a:off x="4724280" y="4495680"/>
              <a:ext cx="152280" cy="15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ln w="0">
                    <a:solidFill>
                      <a:srgbClr val="0000ff"/>
                    </a:solidFill>
                  </a:ln>
                  <a:solidFill>
                    <a:srgbClr val="0000ff"/>
                  </a:solidFill>
                  <a:latin typeface="宋体"/>
                </a:rPr>
                <a:t>乌</a:t>
              </a:r>
              <a:endParaRPr b="0" lang="en-US" sz="2400" spc="-1" strike="noStrike">
                <a:ln w="0">
                  <a:solidFill>
                    <a:srgbClr val="0000ff"/>
                  </a:solidFill>
                </a:ln>
                <a:solidFill>
                  <a:srgbClr val="0000ff"/>
                </a:solidFill>
                <a:latin typeface="宋体"/>
                <a:ea typeface="宋体"/>
              </a:endParaRPr>
            </a:p>
          </p:txBody>
        </p:sp>
        <p:sp>
          <p:nvSpPr>
            <p:cNvPr id="1036" name=""/>
            <p:cNvSpPr txBox="1"/>
            <p:nvPr/>
          </p:nvSpPr>
          <p:spPr>
            <a:xfrm>
              <a:off x="4724280" y="5105160"/>
              <a:ext cx="152280" cy="152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ln w="0">
                    <a:solidFill>
                      <a:srgbClr val="0000ff"/>
                    </a:solidFill>
                  </a:ln>
                  <a:solidFill>
                    <a:srgbClr val="0000ff"/>
                  </a:solidFill>
                  <a:latin typeface="宋体"/>
                </a:rPr>
                <a:t>江</a:t>
              </a:r>
              <a:endParaRPr b="0" lang="en-US" sz="2400" spc="-1" strike="noStrike">
                <a:ln w="0">
                  <a:solidFill>
                    <a:srgbClr val="0000ff"/>
                  </a:solidFill>
                </a:ln>
                <a:solidFill>
                  <a:srgbClr val="0000ff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1037" name=""/>
          <p:cNvGrpSpPr/>
          <p:nvPr/>
        </p:nvGrpSpPr>
        <p:grpSpPr>
          <a:xfrm>
            <a:off x="5791320" y="5257800"/>
            <a:ext cx="990000" cy="838080"/>
            <a:chOff x="5791320" y="5257800"/>
            <a:chExt cx="990000" cy="838080"/>
          </a:xfrm>
        </p:grpSpPr>
        <p:sp>
          <p:nvSpPr>
            <p:cNvPr id="1038" name=""/>
            <p:cNvSpPr txBox="1"/>
            <p:nvPr/>
          </p:nvSpPr>
          <p:spPr>
            <a:xfrm>
              <a:off x="6534000" y="5257800"/>
              <a:ext cx="247320" cy="15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ln w="0">
                    <a:solidFill>
                      <a:srgbClr val="0000ff"/>
                    </a:solidFill>
                  </a:ln>
                  <a:solidFill>
                    <a:srgbClr val="0000ff"/>
                  </a:solidFill>
                  <a:latin typeface="宋体"/>
                </a:rPr>
                <a:t>湘</a:t>
              </a:r>
              <a:endParaRPr b="0" lang="en-US" sz="2400" spc="-1" strike="noStrike">
                <a:ln w="0">
                  <a:solidFill>
                    <a:srgbClr val="0000ff"/>
                  </a:solidFill>
                </a:ln>
                <a:solidFill>
                  <a:srgbClr val="0000ff"/>
                </a:solidFill>
                <a:latin typeface="宋体"/>
                <a:ea typeface="宋体"/>
              </a:endParaRPr>
            </a:p>
          </p:txBody>
        </p:sp>
        <p:sp>
          <p:nvSpPr>
            <p:cNvPr id="1039" name=""/>
            <p:cNvSpPr txBox="1"/>
            <p:nvPr/>
          </p:nvSpPr>
          <p:spPr>
            <a:xfrm>
              <a:off x="5791320" y="5943600"/>
              <a:ext cx="247320" cy="15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ln w="0">
                    <a:solidFill>
                      <a:srgbClr val="0000ff"/>
                    </a:solidFill>
                  </a:ln>
                  <a:solidFill>
                    <a:srgbClr val="0000ff"/>
                  </a:solidFill>
                  <a:latin typeface="宋体"/>
                </a:rPr>
                <a:t>江</a:t>
              </a:r>
              <a:endParaRPr b="0" lang="en-US" sz="2400" spc="-1" strike="noStrike">
                <a:ln w="0">
                  <a:solidFill>
                    <a:srgbClr val="0000ff"/>
                  </a:solidFill>
                </a:ln>
                <a:solidFill>
                  <a:srgbClr val="0000ff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1040" name=""/>
          <p:cNvGrpSpPr/>
          <p:nvPr/>
        </p:nvGrpSpPr>
        <p:grpSpPr>
          <a:xfrm>
            <a:off x="3505320" y="4648320"/>
            <a:ext cx="608400" cy="609480"/>
            <a:chOff x="3505320" y="4648320"/>
            <a:chExt cx="608400" cy="609480"/>
          </a:xfrm>
        </p:grpSpPr>
        <p:sp>
          <p:nvSpPr>
            <p:cNvPr id="1041" name=""/>
            <p:cNvSpPr txBox="1"/>
            <p:nvPr/>
          </p:nvSpPr>
          <p:spPr>
            <a:xfrm>
              <a:off x="3708360" y="4648320"/>
              <a:ext cx="405360" cy="15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ln w="0">
                    <a:solidFill>
                      <a:srgbClr val="0000ff"/>
                    </a:solidFill>
                  </a:ln>
                  <a:solidFill>
                    <a:srgbClr val="0000ff"/>
                  </a:solidFill>
                  <a:latin typeface="宋体"/>
                </a:rPr>
                <a:t>赤</a:t>
              </a:r>
              <a:endParaRPr b="0" lang="en-US" sz="2400" spc="-1" strike="noStrike">
                <a:ln w="0">
                  <a:solidFill>
                    <a:srgbClr val="0000ff"/>
                  </a:solidFill>
                </a:ln>
                <a:solidFill>
                  <a:srgbClr val="0000ff"/>
                </a:solidFill>
                <a:latin typeface="宋体"/>
                <a:ea typeface="宋体"/>
              </a:endParaRPr>
            </a:p>
          </p:txBody>
        </p:sp>
        <p:sp>
          <p:nvSpPr>
            <p:cNvPr id="1042" name=""/>
            <p:cNvSpPr txBox="1"/>
            <p:nvPr/>
          </p:nvSpPr>
          <p:spPr>
            <a:xfrm>
              <a:off x="3708360" y="4876920"/>
              <a:ext cx="405360" cy="15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ln w="0">
                    <a:solidFill>
                      <a:srgbClr val="0000ff"/>
                    </a:solidFill>
                  </a:ln>
                  <a:solidFill>
                    <a:srgbClr val="0000ff"/>
                  </a:solidFill>
                  <a:latin typeface="宋体"/>
                </a:rPr>
                <a:t>水</a:t>
              </a:r>
              <a:endParaRPr b="0" lang="en-US" sz="2400" spc="-1" strike="noStrike">
                <a:ln w="0">
                  <a:solidFill>
                    <a:srgbClr val="0000ff"/>
                  </a:solidFill>
                </a:ln>
                <a:solidFill>
                  <a:srgbClr val="0000ff"/>
                </a:solidFill>
                <a:latin typeface="宋体"/>
                <a:ea typeface="宋体"/>
              </a:endParaRPr>
            </a:p>
          </p:txBody>
        </p:sp>
        <p:sp>
          <p:nvSpPr>
            <p:cNvPr id="1043" name=""/>
            <p:cNvSpPr txBox="1"/>
            <p:nvPr/>
          </p:nvSpPr>
          <p:spPr>
            <a:xfrm>
              <a:off x="3505320" y="5105520"/>
              <a:ext cx="405360" cy="15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ln w="0">
                    <a:solidFill>
                      <a:srgbClr val="0000ff"/>
                    </a:solidFill>
                  </a:ln>
                  <a:solidFill>
                    <a:srgbClr val="0000ff"/>
                  </a:solidFill>
                  <a:latin typeface="宋体"/>
                </a:rPr>
                <a:t>河</a:t>
              </a:r>
              <a:endParaRPr b="0" lang="en-US" sz="2400" spc="-1" strike="noStrike">
                <a:ln w="0">
                  <a:solidFill>
                    <a:srgbClr val="0000ff"/>
                  </a:solidFill>
                </a:ln>
                <a:solidFill>
                  <a:srgbClr val="0000ff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1044" name=""/>
          <p:cNvGrpSpPr/>
          <p:nvPr/>
        </p:nvGrpSpPr>
        <p:grpSpPr>
          <a:xfrm>
            <a:off x="2209680" y="3962520"/>
            <a:ext cx="837720" cy="457200"/>
            <a:chOff x="2209680" y="3962520"/>
            <a:chExt cx="837720" cy="457200"/>
          </a:xfrm>
        </p:grpSpPr>
        <p:sp>
          <p:nvSpPr>
            <p:cNvPr id="1045" name=""/>
            <p:cNvSpPr txBox="1"/>
            <p:nvPr/>
          </p:nvSpPr>
          <p:spPr>
            <a:xfrm>
              <a:off x="2523960" y="4114800"/>
              <a:ext cx="209160" cy="152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ln w="0">
                    <a:solidFill>
                      <a:srgbClr val="0000ff"/>
                    </a:solidFill>
                  </a:ln>
                  <a:solidFill>
                    <a:srgbClr val="0000ff"/>
                  </a:solidFill>
                  <a:latin typeface="宋体"/>
                </a:rPr>
                <a:t>渡</a:t>
              </a:r>
              <a:endParaRPr b="0" lang="en-US" sz="2400" spc="-1" strike="noStrike">
                <a:ln w="0">
                  <a:solidFill>
                    <a:srgbClr val="0000ff"/>
                  </a:solidFill>
                </a:ln>
                <a:solidFill>
                  <a:srgbClr val="0000ff"/>
                </a:solidFill>
                <a:latin typeface="宋体"/>
                <a:ea typeface="宋体"/>
              </a:endParaRPr>
            </a:p>
          </p:txBody>
        </p:sp>
        <p:sp>
          <p:nvSpPr>
            <p:cNvPr id="1046" name=""/>
            <p:cNvSpPr txBox="1"/>
            <p:nvPr/>
          </p:nvSpPr>
          <p:spPr>
            <a:xfrm>
              <a:off x="2838240" y="4267440"/>
              <a:ext cx="209160" cy="15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ln w="0">
                    <a:solidFill>
                      <a:srgbClr val="0000ff"/>
                    </a:solidFill>
                  </a:ln>
                  <a:solidFill>
                    <a:srgbClr val="0000ff"/>
                  </a:solidFill>
                  <a:latin typeface="宋体"/>
                </a:rPr>
                <a:t>河</a:t>
              </a:r>
              <a:endParaRPr b="0" lang="en-US" sz="2400" spc="-1" strike="noStrike">
                <a:ln w="0">
                  <a:solidFill>
                    <a:srgbClr val="0000ff"/>
                  </a:solidFill>
                </a:ln>
                <a:solidFill>
                  <a:srgbClr val="0000ff"/>
                </a:solidFill>
                <a:latin typeface="宋体"/>
                <a:ea typeface="宋体"/>
              </a:endParaRPr>
            </a:p>
          </p:txBody>
        </p:sp>
        <p:sp>
          <p:nvSpPr>
            <p:cNvPr id="1047" name=""/>
            <p:cNvSpPr txBox="1"/>
            <p:nvPr/>
          </p:nvSpPr>
          <p:spPr>
            <a:xfrm>
              <a:off x="2209680" y="3962520"/>
              <a:ext cx="209160" cy="15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ln w="0">
                    <a:solidFill>
                      <a:srgbClr val="0000ff"/>
                    </a:solidFill>
                  </a:ln>
                  <a:solidFill>
                    <a:srgbClr val="0000ff"/>
                  </a:solidFill>
                  <a:latin typeface="宋体"/>
                </a:rPr>
                <a:t>大</a:t>
              </a:r>
              <a:endParaRPr b="0" lang="en-US" sz="2400" spc="-1" strike="noStrike">
                <a:ln w="0">
                  <a:solidFill>
                    <a:srgbClr val="0000ff"/>
                  </a:solidFill>
                </a:ln>
                <a:solidFill>
                  <a:srgbClr val="0000ff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1048" name=""/>
          <p:cNvGrpSpPr/>
          <p:nvPr/>
        </p:nvGrpSpPr>
        <p:grpSpPr>
          <a:xfrm>
            <a:off x="2438280" y="3505320"/>
            <a:ext cx="304920" cy="380880"/>
            <a:chOff x="2438280" y="3505320"/>
            <a:chExt cx="304920" cy="380880"/>
          </a:xfrm>
        </p:grpSpPr>
        <p:grpSp>
          <p:nvGrpSpPr>
            <p:cNvPr id="1049" name=""/>
            <p:cNvGrpSpPr/>
            <p:nvPr/>
          </p:nvGrpSpPr>
          <p:grpSpPr>
            <a:xfrm>
              <a:off x="2438280" y="3581640"/>
              <a:ext cx="228240" cy="228240"/>
              <a:chOff x="2438280" y="3581640"/>
              <a:chExt cx="228240" cy="228240"/>
            </a:xfrm>
          </p:grpSpPr>
          <p:sp>
            <p:nvSpPr>
              <p:cNvPr id="1050" name="未知"/>
              <p:cNvSpPr/>
              <p:nvPr/>
            </p:nvSpPr>
            <p:spPr>
              <a:xfrm>
                <a:off x="2438280" y="3581640"/>
                <a:ext cx="202320" cy="126720"/>
              </a:xfrm>
              <a:custGeom>
                <a:avLst/>
                <a:gdLst/>
                <a:ahLst/>
                <a:rect l="l" t="t" r="r" b="b"/>
                <a:pathLst>
                  <a:path w="170" h="131">
                    <a:moveTo>
                      <a:pt x="0" y="79"/>
                    </a:moveTo>
                    <a:cubicBezTo>
                      <a:pt x="84" y="51"/>
                      <a:pt x="2" y="90"/>
                      <a:pt x="53" y="26"/>
                    </a:cubicBezTo>
                    <a:cubicBezTo>
                      <a:pt x="63" y="14"/>
                      <a:pt x="79" y="9"/>
                      <a:pt x="92" y="0"/>
                    </a:cubicBezTo>
                    <a:cubicBezTo>
                      <a:pt x="105" y="4"/>
                      <a:pt x="123" y="2"/>
                      <a:pt x="131" y="13"/>
                    </a:cubicBezTo>
                    <a:cubicBezTo>
                      <a:pt x="157" y="52"/>
                      <a:pt x="135" y="96"/>
                      <a:pt x="170" y="131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未知"/>
              <p:cNvSpPr/>
              <p:nvPr/>
            </p:nvSpPr>
            <p:spPr>
              <a:xfrm>
                <a:off x="2464200" y="3636720"/>
                <a:ext cx="202320" cy="126720"/>
              </a:xfrm>
              <a:custGeom>
                <a:avLst/>
                <a:gdLst/>
                <a:ahLst/>
                <a:rect l="l" t="t" r="r" b="b"/>
                <a:pathLst>
                  <a:path w="170" h="131">
                    <a:moveTo>
                      <a:pt x="0" y="79"/>
                    </a:moveTo>
                    <a:cubicBezTo>
                      <a:pt x="84" y="51"/>
                      <a:pt x="2" y="90"/>
                      <a:pt x="53" y="26"/>
                    </a:cubicBezTo>
                    <a:cubicBezTo>
                      <a:pt x="63" y="14"/>
                      <a:pt x="79" y="9"/>
                      <a:pt x="92" y="0"/>
                    </a:cubicBezTo>
                    <a:cubicBezTo>
                      <a:pt x="105" y="4"/>
                      <a:pt x="123" y="2"/>
                      <a:pt x="131" y="13"/>
                    </a:cubicBezTo>
                    <a:cubicBezTo>
                      <a:pt x="157" y="52"/>
                      <a:pt x="135" y="96"/>
                      <a:pt x="170" y="131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未知"/>
              <p:cNvSpPr/>
              <p:nvPr/>
            </p:nvSpPr>
            <p:spPr>
              <a:xfrm>
                <a:off x="2464200" y="3683160"/>
                <a:ext cx="202320" cy="126720"/>
              </a:xfrm>
              <a:custGeom>
                <a:avLst/>
                <a:gdLst/>
                <a:ahLst/>
                <a:rect l="l" t="t" r="r" b="b"/>
                <a:pathLst>
                  <a:path w="170" h="131">
                    <a:moveTo>
                      <a:pt x="0" y="79"/>
                    </a:moveTo>
                    <a:cubicBezTo>
                      <a:pt x="84" y="51"/>
                      <a:pt x="2" y="90"/>
                      <a:pt x="53" y="26"/>
                    </a:cubicBezTo>
                    <a:cubicBezTo>
                      <a:pt x="63" y="14"/>
                      <a:pt x="79" y="9"/>
                      <a:pt x="92" y="0"/>
                    </a:cubicBezTo>
                    <a:cubicBezTo>
                      <a:pt x="105" y="4"/>
                      <a:pt x="123" y="2"/>
                      <a:pt x="131" y="13"/>
                    </a:cubicBezTo>
                    <a:cubicBezTo>
                      <a:pt x="157" y="52"/>
                      <a:pt x="135" y="96"/>
                      <a:pt x="170" y="131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3" name=""/>
            <p:cNvSpPr txBox="1"/>
            <p:nvPr/>
          </p:nvSpPr>
          <p:spPr>
            <a:xfrm rot="5400000">
              <a:off x="2514600" y="3657600"/>
              <a:ext cx="380880" cy="76320"/>
            </a:xfrm>
            <a:prstGeom prst="rect">
              <a:avLst/>
            </a:prstGeom>
          </p:spPr>
          <p:txBody>
            <a:bodyPr wrap="none" lIns="90000" rIns="90000" tIns="29520" bIns="2952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ln w="0">
                    <a:solidFill>
                      <a:srgbClr val="0000ff"/>
                    </a:solidFill>
                  </a:ln>
                  <a:solidFill>
                    <a:srgbClr val="000000"/>
                  </a:solidFill>
                  <a:latin typeface="宋体"/>
                </a:rPr>
                <a:t>夹金山</a:t>
              </a:r>
              <a:endParaRPr b="0" lang="en-US" sz="2400" spc="-1" strike="noStrike">
                <a:ln w="0">
                  <a:solidFill>
                    <a:srgbClr val="0000ff"/>
                  </a:solidFill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</p:grpSp>
      <p:sp>
        <p:nvSpPr>
          <p:cNvPr id="1054" name=""/>
          <p:cNvSpPr/>
          <p:nvPr/>
        </p:nvSpPr>
        <p:spPr>
          <a:xfrm>
            <a:off x="4800600" y="990720"/>
            <a:ext cx="15228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3124080" y="1295280"/>
            <a:ext cx="152640" cy="152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6" name=""/>
          <p:cNvGrpSpPr/>
          <p:nvPr/>
        </p:nvGrpSpPr>
        <p:grpSpPr>
          <a:xfrm>
            <a:off x="380880" y="1143000"/>
            <a:ext cx="228600" cy="76320"/>
            <a:chOff x="380880" y="1143000"/>
            <a:chExt cx="228600" cy="76320"/>
          </a:xfrm>
        </p:grpSpPr>
        <p:sp>
          <p:nvSpPr>
            <p:cNvPr id="1057" name="未知"/>
            <p:cNvSpPr/>
            <p:nvPr/>
          </p:nvSpPr>
          <p:spPr>
            <a:xfrm>
              <a:off x="380880" y="1143000"/>
              <a:ext cx="79560" cy="72360"/>
            </a:xfrm>
            <a:custGeom>
              <a:avLst/>
              <a:gdLst/>
              <a:ahLst/>
              <a:rect l="l" t="t" r="r" b="b"/>
              <a:pathLst>
                <a:path w="264" h="444">
                  <a:moveTo>
                    <a:pt x="0" y="0"/>
                  </a:moveTo>
                  <a:cubicBezTo>
                    <a:pt x="34" y="69"/>
                    <a:pt x="63" y="66"/>
                    <a:pt x="108" y="120"/>
                  </a:cubicBezTo>
                  <a:cubicBezTo>
                    <a:pt x="130" y="146"/>
                    <a:pt x="147" y="176"/>
                    <a:pt x="168" y="204"/>
                  </a:cubicBezTo>
                  <a:cubicBezTo>
                    <a:pt x="172" y="220"/>
                    <a:pt x="173" y="237"/>
                    <a:pt x="180" y="252"/>
                  </a:cubicBezTo>
                  <a:cubicBezTo>
                    <a:pt x="189" y="270"/>
                    <a:pt x="209" y="281"/>
                    <a:pt x="216" y="300"/>
                  </a:cubicBezTo>
                  <a:cubicBezTo>
                    <a:pt x="225" y="323"/>
                    <a:pt x="223" y="348"/>
                    <a:pt x="228" y="372"/>
                  </a:cubicBezTo>
                  <a:cubicBezTo>
                    <a:pt x="231" y="384"/>
                    <a:pt x="234" y="397"/>
                    <a:pt x="240" y="408"/>
                  </a:cubicBezTo>
                  <a:cubicBezTo>
                    <a:pt x="246" y="421"/>
                    <a:pt x="264" y="444"/>
                    <a:pt x="264" y="444"/>
                  </a:cubicBezTo>
                </a:path>
              </a:pathLst>
            </a:custGeom>
            <a:noFill/>
            <a:ln w="93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未知"/>
            <p:cNvSpPr/>
            <p:nvPr/>
          </p:nvSpPr>
          <p:spPr>
            <a:xfrm>
              <a:off x="499320" y="1152720"/>
              <a:ext cx="110160" cy="66600"/>
            </a:xfrm>
            <a:custGeom>
              <a:avLst/>
              <a:gdLst/>
              <a:ahLst/>
              <a:rect l="l" t="t" r="r" b="b"/>
              <a:pathLst>
                <a:path w="364" h="408">
                  <a:moveTo>
                    <a:pt x="16" y="408"/>
                  </a:moveTo>
                  <a:cubicBezTo>
                    <a:pt x="27" y="241"/>
                    <a:pt x="0" y="165"/>
                    <a:pt x="160" y="108"/>
                  </a:cubicBezTo>
                  <a:cubicBezTo>
                    <a:pt x="187" y="98"/>
                    <a:pt x="216" y="92"/>
                    <a:pt x="244" y="84"/>
                  </a:cubicBezTo>
                  <a:cubicBezTo>
                    <a:pt x="282" y="58"/>
                    <a:pt x="330" y="34"/>
                    <a:pt x="364" y="0"/>
                  </a:cubicBezTo>
                </a:path>
              </a:pathLst>
            </a:custGeom>
            <a:noFill/>
            <a:ln w="93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未知"/>
            <p:cNvSpPr/>
            <p:nvPr/>
          </p:nvSpPr>
          <p:spPr>
            <a:xfrm>
              <a:off x="478800" y="1158480"/>
              <a:ext cx="7200" cy="54720"/>
            </a:xfrm>
            <a:custGeom>
              <a:avLst/>
              <a:gdLst/>
              <a:ahLst/>
              <a:rect l="l" t="t" r="r" b="b"/>
              <a:pathLst>
                <a:path w="24" h="336">
                  <a:moveTo>
                    <a:pt x="0" y="336"/>
                  </a:moveTo>
                  <a:cubicBezTo>
                    <a:pt x="4" y="288"/>
                    <a:pt x="6" y="240"/>
                    <a:pt x="12" y="192"/>
                  </a:cubicBezTo>
                  <a:cubicBezTo>
                    <a:pt x="14" y="179"/>
                    <a:pt x="24" y="169"/>
                    <a:pt x="24" y="156"/>
                  </a:cubicBezTo>
                  <a:cubicBezTo>
                    <a:pt x="24" y="104"/>
                    <a:pt x="12" y="52"/>
                    <a:pt x="12" y="0"/>
                  </a:cubicBezTo>
                </a:path>
              </a:pathLst>
            </a:custGeom>
            <a:noFill/>
            <a:ln w="93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0" name=""/>
          <p:cNvGrpSpPr/>
          <p:nvPr/>
        </p:nvGrpSpPr>
        <p:grpSpPr>
          <a:xfrm>
            <a:off x="1600200" y="1981080"/>
            <a:ext cx="1981080" cy="685800"/>
            <a:chOff x="1600200" y="1981080"/>
            <a:chExt cx="1981080" cy="685800"/>
          </a:xfrm>
        </p:grpSpPr>
        <p:grpSp>
          <p:nvGrpSpPr>
            <p:cNvPr id="1061" name=""/>
            <p:cNvGrpSpPr/>
            <p:nvPr/>
          </p:nvGrpSpPr>
          <p:grpSpPr>
            <a:xfrm>
              <a:off x="1600200" y="2286000"/>
              <a:ext cx="1143000" cy="380880"/>
              <a:chOff x="1600200" y="2286000"/>
              <a:chExt cx="1143000" cy="380880"/>
            </a:xfrm>
          </p:grpSpPr>
          <p:grpSp>
            <p:nvGrpSpPr>
              <p:cNvPr id="1062" name=""/>
              <p:cNvGrpSpPr/>
              <p:nvPr/>
            </p:nvGrpSpPr>
            <p:grpSpPr>
              <a:xfrm>
                <a:off x="1828800" y="2590920"/>
                <a:ext cx="533520" cy="75960"/>
                <a:chOff x="1828800" y="2590920"/>
                <a:chExt cx="533520" cy="75960"/>
              </a:xfrm>
            </p:grpSpPr>
            <p:grpSp>
              <p:nvGrpSpPr>
                <p:cNvPr id="1063" name=""/>
                <p:cNvGrpSpPr/>
                <p:nvPr/>
              </p:nvGrpSpPr>
              <p:grpSpPr>
                <a:xfrm>
                  <a:off x="1981080" y="2590920"/>
                  <a:ext cx="228600" cy="75960"/>
                  <a:chOff x="1981080" y="2590920"/>
                  <a:chExt cx="228600" cy="75960"/>
                </a:xfrm>
              </p:grpSpPr>
              <p:sp>
                <p:nvSpPr>
                  <p:cNvPr id="1064" name="未知"/>
                  <p:cNvSpPr/>
                  <p:nvPr/>
                </p:nvSpPr>
                <p:spPr>
                  <a:xfrm>
                    <a:off x="1981080" y="2590920"/>
                    <a:ext cx="79560" cy="72360"/>
                  </a:xfrm>
                  <a:custGeom>
                    <a:avLst/>
                    <a:gdLst/>
                    <a:ahLst/>
                    <a:rect l="l" t="t" r="r" b="b"/>
                    <a:pathLst>
                      <a:path w="264" h="444">
                        <a:moveTo>
                          <a:pt x="0" y="0"/>
                        </a:moveTo>
                        <a:cubicBezTo>
                          <a:pt x="34" y="69"/>
                          <a:pt x="63" y="66"/>
                          <a:pt x="108" y="120"/>
                        </a:cubicBezTo>
                        <a:cubicBezTo>
                          <a:pt x="130" y="146"/>
                          <a:pt x="147" y="176"/>
                          <a:pt x="168" y="204"/>
                        </a:cubicBezTo>
                        <a:cubicBezTo>
                          <a:pt x="172" y="220"/>
                          <a:pt x="173" y="237"/>
                          <a:pt x="180" y="252"/>
                        </a:cubicBezTo>
                        <a:cubicBezTo>
                          <a:pt x="189" y="270"/>
                          <a:pt x="209" y="281"/>
                          <a:pt x="216" y="300"/>
                        </a:cubicBezTo>
                        <a:cubicBezTo>
                          <a:pt x="225" y="323"/>
                          <a:pt x="223" y="348"/>
                          <a:pt x="228" y="372"/>
                        </a:cubicBezTo>
                        <a:cubicBezTo>
                          <a:pt x="231" y="384"/>
                          <a:pt x="234" y="397"/>
                          <a:pt x="240" y="408"/>
                        </a:cubicBezTo>
                        <a:cubicBezTo>
                          <a:pt x="246" y="421"/>
                          <a:pt x="264" y="444"/>
                          <a:pt x="264" y="444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未知"/>
                  <p:cNvSpPr/>
                  <p:nvPr/>
                </p:nvSpPr>
                <p:spPr>
                  <a:xfrm>
                    <a:off x="2099520" y="2600640"/>
                    <a:ext cx="11016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364" h="408">
                        <a:moveTo>
                          <a:pt x="16" y="408"/>
                        </a:moveTo>
                        <a:cubicBezTo>
                          <a:pt x="27" y="241"/>
                          <a:pt x="0" y="165"/>
                          <a:pt x="160" y="108"/>
                        </a:cubicBezTo>
                        <a:cubicBezTo>
                          <a:pt x="187" y="98"/>
                          <a:pt x="216" y="92"/>
                          <a:pt x="244" y="84"/>
                        </a:cubicBezTo>
                        <a:cubicBezTo>
                          <a:pt x="282" y="58"/>
                          <a:pt x="330" y="34"/>
                          <a:pt x="364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6" name="未知"/>
                  <p:cNvSpPr/>
                  <p:nvPr/>
                </p:nvSpPr>
                <p:spPr>
                  <a:xfrm>
                    <a:off x="2079000" y="2606400"/>
                    <a:ext cx="720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36">
                        <a:moveTo>
                          <a:pt x="0" y="336"/>
                        </a:moveTo>
                        <a:cubicBezTo>
                          <a:pt x="4" y="288"/>
                          <a:pt x="6" y="240"/>
                          <a:pt x="12" y="192"/>
                        </a:cubicBezTo>
                        <a:cubicBezTo>
                          <a:pt x="14" y="179"/>
                          <a:pt x="24" y="169"/>
                          <a:pt x="24" y="156"/>
                        </a:cubicBezTo>
                        <a:cubicBezTo>
                          <a:pt x="24" y="104"/>
                          <a:pt x="12" y="52"/>
                          <a:pt x="12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7" name=""/>
                <p:cNvGrpSpPr/>
                <p:nvPr/>
              </p:nvGrpSpPr>
              <p:grpSpPr>
                <a:xfrm>
                  <a:off x="2133720" y="2590920"/>
                  <a:ext cx="228600" cy="75960"/>
                  <a:chOff x="2133720" y="2590920"/>
                  <a:chExt cx="228600" cy="75960"/>
                </a:xfrm>
              </p:grpSpPr>
              <p:sp>
                <p:nvSpPr>
                  <p:cNvPr id="1068" name="未知"/>
                  <p:cNvSpPr/>
                  <p:nvPr/>
                </p:nvSpPr>
                <p:spPr>
                  <a:xfrm>
                    <a:off x="2133720" y="2590920"/>
                    <a:ext cx="79560" cy="72360"/>
                  </a:xfrm>
                  <a:custGeom>
                    <a:avLst/>
                    <a:gdLst/>
                    <a:ahLst/>
                    <a:rect l="l" t="t" r="r" b="b"/>
                    <a:pathLst>
                      <a:path w="264" h="444">
                        <a:moveTo>
                          <a:pt x="0" y="0"/>
                        </a:moveTo>
                        <a:cubicBezTo>
                          <a:pt x="34" y="69"/>
                          <a:pt x="63" y="66"/>
                          <a:pt x="108" y="120"/>
                        </a:cubicBezTo>
                        <a:cubicBezTo>
                          <a:pt x="130" y="146"/>
                          <a:pt x="147" y="176"/>
                          <a:pt x="168" y="204"/>
                        </a:cubicBezTo>
                        <a:cubicBezTo>
                          <a:pt x="172" y="220"/>
                          <a:pt x="173" y="237"/>
                          <a:pt x="180" y="252"/>
                        </a:cubicBezTo>
                        <a:cubicBezTo>
                          <a:pt x="189" y="270"/>
                          <a:pt x="209" y="281"/>
                          <a:pt x="216" y="300"/>
                        </a:cubicBezTo>
                        <a:cubicBezTo>
                          <a:pt x="225" y="323"/>
                          <a:pt x="223" y="348"/>
                          <a:pt x="228" y="372"/>
                        </a:cubicBezTo>
                        <a:cubicBezTo>
                          <a:pt x="231" y="384"/>
                          <a:pt x="234" y="397"/>
                          <a:pt x="240" y="408"/>
                        </a:cubicBezTo>
                        <a:cubicBezTo>
                          <a:pt x="246" y="421"/>
                          <a:pt x="264" y="444"/>
                          <a:pt x="264" y="444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9" name="未知"/>
                  <p:cNvSpPr/>
                  <p:nvPr/>
                </p:nvSpPr>
                <p:spPr>
                  <a:xfrm>
                    <a:off x="2252160" y="2600640"/>
                    <a:ext cx="11016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364" h="408">
                        <a:moveTo>
                          <a:pt x="16" y="408"/>
                        </a:moveTo>
                        <a:cubicBezTo>
                          <a:pt x="27" y="241"/>
                          <a:pt x="0" y="165"/>
                          <a:pt x="160" y="108"/>
                        </a:cubicBezTo>
                        <a:cubicBezTo>
                          <a:pt x="187" y="98"/>
                          <a:pt x="216" y="92"/>
                          <a:pt x="244" y="84"/>
                        </a:cubicBezTo>
                        <a:cubicBezTo>
                          <a:pt x="282" y="58"/>
                          <a:pt x="330" y="34"/>
                          <a:pt x="364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0" name="未知"/>
                  <p:cNvSpPr/>
                  <p:nvPr/>
                </p:nvSpPr>
                <p:spPr>
                  <a:xfrm>
                    <a:off x="2231640" y="2606400"/>
                    <a:ext cx="720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36">
                        <a:moveTo>
                          <a:pt x="0" y="336"/>
                        </a:moveTo>
                        <a:cubicBezTo>
                          <a:pt x="4" y="288"/>
                          <a:pt x="6" y="240"/>
                          <a:pt x="12" y="192"/>
                        </a:cubicBezTo>
                        <a:cubicBezTo>
                          <a:pt x="14" y="179"/>
                          <a:pt x="24" y="169"/>
                          <a:pt x="24" y="156"/>
                        </a:cubicBezTo>
                        <a:cubicBezTo>
                          <a:pt x="24" y="104"/>
                          <a:pt x="12" y="52"/>
                          <a:pt x="12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1" name=""/>
                <p:cNvGrpSpPr/>
                <p:nvPr/>
              </p:nvGrpSpPr>
              <p:grpSpPr>
                <a:xfrm>
                  <a:off x="1828800" y="2590920"/>
                  <a:ext cx="228600" cy="75960"/>
                  <a:chOff x="1828800" y="2590920"/>
                  <a:chExt cx="228600" cy="75960"/>
                </a:xfrm>
              </p:grpSpPr>
              <p:sp>
                <p:nvSpPr>
                  <p:cNvPr id="1072" name="未知"/>
                  <p:cNvSpPr/>
                  <p:nvPr/>
                </p:nvSpPr>
                <p:spPr>
                  <a:xfrm>
                    <a:off x="1828800" y="2590920"/>
                    <a:ext cx="79560" cy="72360"/>
                  </a:xfrm>
                  <a:custGeom>
                    <a:avLst/>
                    <a:gdLst/>
                    <a:ahLst/>
                    <a:rect l="l" t="t" r="r" b="b"/>
                    <a:pathLst>
                      <a:path w="264" h="444">
                        <a:moveTo>
                          <a:pt x="0" y="0"/>
                        </a:moveTo>
                        <a:cubicBezTo>
                          <a:pt x="34" y="69"/>
                          <a:pt x="63" y="66"/>
                          <a:pt x="108" y="120"/>
                        </a:cubicBezTo>
                        <a:cubicBezTo>
                          <a:pt x="130" y="146"/>
                          <a:pt x="147" y="176"/>
                          <a:pt x="168" y="204"/>
                        </a:cubicBezTo>
                        <a:cubicBezTo>
                          <a:pt x="172" y="220"/>
                          <a:pt x="173" y="237"/>
                          <a:pt x="180" y="252"/>
                        </a:cubicBezTo>
                        <a:cubicBezTo>
                          <a:pt x="189" y="270"/>
                          <a:pt x="209" y="281"/>
                          <a:pt x="216" y="300"/>
                        </a:cubicBezTo>
                        <a:cubicBezTo>
                          <a:pt x="225" y="323"/>
                          <a:pt x="223" y="348"/>
                          <a:pt x="228" y="372"/>
                        </a:cubicBezTo>
                        <a:cubicBezTo>
                          <a:pt x="231" y="384"/>
                          <a:pt x="234" y="397"/>
                          <a:pt x="240" y="408"/>
                        </a:cubicBezTo>
                        <a:cubicBezTo>
                          <a:pt x="246" y="421"/>
                          <a:pt x="264" y="444"/>
                          <a:pt x="264" y="444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未知"/>
                  <p:cNvSpPr/>
                  <p:nvPr/>
                </p:nvSpPr>
                <p:spPr>
                  <a:xfrm>
                    <a:off x="1947240" y="2600640"/>
                    <a:ext cx="11016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364" h="408">
                        <a:moveTo>
                          <a:pt x="16" y="408"/>
                        </a:moveTo>
                        <a:cubicBezTo>
                          <a:pt x="27" y="241"/>
                          <a:pt x="0" y="165"/>
                          <a:pt x="160" y="108"/>
                        </a:cubicBezTo>
                        <a:cubicBezTo>
                          <a:pt x="187" y="98"/>
                          <a:pt x="216" y="92"/>
                          <a:pt x="244" y="84"/>
                        </a:cubicBezTo>
                        <a:cubicBezTo>
                          <a:pt x="282" y="58"/>
                          <a:pt x="330" y="34"/>
                          <a:pt x="364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4" name="未知"/>
                  <p:cNvSpPr/>
                  <p:nvPr/>
                </p:nvSpPr>
                <p:spPr>
                  <a:xfrm>
                    <a:off x="1926720" y="2606400"/>
                    <a:ext cx="720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36">
                        <a:moveTo>
                          <a:pt x="0" y="336"/>
                        </a:moveTo>
                        <a:cubicBezTo>
                          <a:pt x="4" y="288"/>
                          <a:pt x="6" y="240"/>
                          <a:pt x="12" y="192"/>
                        </a:cubicBezTo>
                        <a:cubicBezTo>
                          <a:pt x="14" y="179"/>
                          <a:pt x="24" y="169"/>
                          <a:pt x="24" y="156"/>
                        </a:cubicBezTo>
                        <a:cubicBezTo>
                          <a:pt x="24" y="104"/>
                          <a:pt x="12" y="52"/>
                          <a:pt x="12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75" name=""/>
              <p:cNvGrpSpPr/>
              <p:nvPr/>
            </p:nvGrpSpPr>
            <p:grpSpPr>
              <a:xfrm>
                <a:off x="2133720" y="2286000"/>
                <a:ext cx="228600" cy="76320"/>
                <a:chOff x="2133720" y="2286000"/>
                <a:chExt cx="228600" cy="76320"/>
              </a:xfrm>
            </p:grpSpPr>
            <p:sp>
              <p:nvSpPr>
                <p:cNvPr id="1076" name="未知"/>
                <p:cNvSpPr/>
                <p:nvPr/>
              </p:nvSpPr>
              <p:spPr>
                <a:xfrm>
                  <a:off x="2133720" y="2286000"/>
                  <a:ext cx="79560" cy="72360"/>
                </a:xfrm>
                <a:custGeom>
                  <a:avLst/>
                  <a:gdLst/>
                  <a:ahLst/>
                  <a:rect l="l" t="t" r="r" b="b"/>
                  <a:pathLst>
                    <a:path w="264" h="444">
                      <a:moveTo>
                        <a:pt x="0" y="0"/>
                      </a:moveTo>
                      <a:cubicBezTo>
                        <a:pt x="34" y="69"/>
                        <a:pt x="63" y="66"/>
                        <a:pt x="108" y="120"/>
                      </a:cubicBezTo>
                      <a:cubicBezTo>
                        <a:pt x="130" y="146"/>
                        <a:pt x="147" y="176"/>
                        <a:pt x="168" y="204"/>
                      </a:cubicBezTo>
                      <a:cubicBezTo>
                        <a:pt x="172" y="220"/>
                        <a:pt x="173" y="237"/>
                        <a:pt x="180" y="252"/>
                      </a:cubicBezTo>
                      <a:cubicBezTo>
                        <a:pt x="189" y="270"/>
                        <a:pt x="209" y="281"/>
                        <a:pt x="216" y="300"/>
                      </a:cubicBezTo>
                      <a:cubicBezTo>
                        <a:pt x="225" y="323"/>
                        <a:pt x="223" y="348"/>
                        <a:pt x="228" y="372"/>
                      </a:cubicBezTo>
                      <a:cubicBezTo>
                        <a:pt x="231" y="384"/>
                        <a:pt x="234" y="397"/>
                        <a:pt x="240" y="408"/>
                      </a:cubicBezTo>
                      <a:cubicBezTo>
                        <a:pt x="246" y="421"/>
                        <a:pt x="264" y="444"/>
                        <a:pt x="264" y="444"/>
                      </a:cubicBezTo>
                    </a:path>
                  </a:pathLst>
                </a:custGeom>
                <a:noFill/>
                <a:ln w="9360">
                  <a:solidFill>
                    <a:srgbClr val="33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未知"/>
                <p:cNvSpPr/>
                <p:nvPr/>
              </p:nvSpPr>
              <p:spPr>
                <a:xfrm>
                  <a:off x="2252160" y="2295720"/>
                  <a:ext cx="110160" cy="66600"/>
                </a:xfrm>
                <a:custGeom>
                  <a:avLst/>
                  <a:gdLst/>
                  <a:ahLst/>
                  <a:rect l="l" t="t" r="r" b="b"/>
                  <a:pathLst>
                    <a:path w="364" h="408">
                      <a:moveTo>
                        <a:pt x="16" y="408"/>
                      </a:moveTo>
                      <a:cubicBezTo>
                        <a:pt x="27" y="241"/>
                        <a:pt x="0" y="165"/>
                        <a:pt x="160" y="108"/>
                      </a:cubicBezTo>
                      <a:cubicBezTo>
                        <a:pt x="187" y="98"/>
                        <a:pt x="216" y="92"/>
                        <a:pt x="244" y="84"/>
                      </a:cubicBezTo>
                      <a:cubicBezTo>
                        <a:pt x="282" y="58"/>
                        <a:pt x="330" y="34"/>
                        <a:pt x="364" y="0"/>
                      </a:cubicBezTo>
                    </a:path>
                  </a:pathLst>
                </a:custGeom>
                <a:noFill/>
                <a:ln w="9360">
                  <a:solidFill>
                    <a:srgbClr val="33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未知"/>
                <p:cNvSpPr/>
                <p:nvPr/>
              </p:nvSpPr>
              <p:spPr>
                <a:xfrm>
                  <a:off x="2231640" y="2301480"/>
                  <a:ext cx="7200" cy="54720"/>
                </a:xfrm>
                <a:custGeom>
                  <a:avLst/>
                  <a:gdLst/>
                  <a:ahLst/>
                  <a:rect l="l" t="t" r="r" b="b"/>
                  <a:pathLst>
                    <a:path w="24" h="336">
                      <a:moveTo>
                        <a:pt x="0" y="336"/>
                      </a:moveTo>
                      <a:cubicBezTo>
                        <a:pt x="4" y="288"/>
                        <a:pt x="6" y="240"/>
                        <a:pt x="12" y="192"/>
                      </a:cubicBezTo>
                      <a:cubicBezTo>
                        <a:pt x="14" y="179"/>
                        <a:pt x="24" y="169"/>
                        <a:pt x="24" y="156"/>
                      </a:cubicBezTo>
                      <a:cubicBezTo>
                        <a:pt x="24" y="104"/>
                        <a:pt x="12" y="52"/>
                        <a:pt x="12" y="0"/>
                      </a:cubicBezTo>
                    </a:path>
                  </a:pathLst>
                </a:custGeom>
                <a:noFill/>
                <a:ln w="9360">
                  <a:solidFill>
                    <a:srgbClr val="33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9" name=""/>
              <p:cNvGrpSpPr/>
              <p:nvPr/>
            </p:nvGrpSpPr>
            <p:grpSpPr>
              <a:xfrm>
                <a:off x="2133720" y="2438280"/>
                <a:ext cx="532800" cy="76320"/>
                <a:chOff x="2133720" y="2438280"/>
                <a:chExt cx="532800" cy="76320"/>
              </a:xfrm>
            </p:grpSpPr>
            <p:grpSp>
              <p:nvGrpSpPr>
                <p:cNvPr id="1080" name=""/>
                <p:cNvGrpSpPr/>
                <p:nvPr/>
              </p:nvGrpSpPr>
              <p:grpSpPr>
                <a:xfrm>
                  <a:off x="2285640" y="2438280"/>
                  <a:ext cx="228240" cy="76320"/>
                  <a:chOff x="2285640" y="2438280"/>
                  <a:chExt cx="228240" cy="76320"/>
                </a:xfrm>
              </p:grpSpPr>
              <p:sp>
                <p:nvSpPr>
                  <p:cNvPr id="1081" name="未知"/>
                  <p:cNvSpPr/>
                  <p:nvPr/>
                </p:nvSpPr>
                <p:spPr>
                  <a:xfrm>
                    <a:off x="2285640" y="2438280"/>
                    <a:ext cx="79560" cy="72360"/>
                  </a:xfrm>
                  <a:custGeom>
                    <a:avLst/>
                    <a:gdLst/>
                    <a:ahLst/>
                    <a:rect l="l" t="t" r="r" b="b"/>
                    <a:pathLst>
                      <a:path w="264" h="444">
                        <a:moveTo>
                          <a:pt x="0" y="0"/>
                        </a:moveTo>
                        <a:cubicBezTo>
                          <a:pt x="34" y="69"/>
                          <a:pt x="63" y="66"/>
                          <a:pt x="108" y="120"/>
                        </a:cubicBezTo>
                        <a:cubicBezTo>
                          <a:pt x="130" y="146"/>
                          <a:pt x="147" y="176"/>
                          <a:pt x="168" y="204"/>
                        </a:cubicBezTo>
                        <a:cubicBezTo>
                          <a:pt x="172" y="220"/>
                          <a:pt x="173" y="237"/>
                          <a:pt x="180" y="252"/>
                        </a:cubicBezTo>
                        <a:cubicBezTo>
                          <a:pt x="189" y="270"/>
                          <a:pt x="209" y="281"/>
                          <a:pt x="216" y="300"/>
                        </a:cubicBezTo>
                        <a:cubicBezTo>
                          <a:pt x="225" y="323"/>
                          <a:pt x="223" y="348"/>
                          <a:pt x="228" y="372"/>
                        </a:cubicBezTo>
                        <a:cubicBezTo>
                          <a:pt x="231" y="384"/>
                          <a:pt x="234" y="397"/>
                          <a:pt x="240" y="408"/>
                        </a:cubicBezTo>
                        <a:cubicBezTo>
                          <a:pt x="246" y="421"/>
                          <a:pt x="264" y="444"/>
                          <a:pt x="264" y="444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2" name="未知"/>
                  <p:cNvSpPr/>
                  <p:nvPr/>
                </p:nvSpPr>
                <p:spPr>
                  <a:xfrm>
                    <a:off x="2404080" y="2448000"/>
                    <a:ext cx="10980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364" h="408">
                        <a:moveTo>
                          <a:pt x="16" y="408"/>
                        </a:moveTo>
                        <a:cubicBezTo>
                          <a:pt x="27" y="241"/>
                          <a:pt x="0" y="165"/>
                          <a:pt x="160" y="108"/>
                        </a:cubicBezTo>
                        <a:cubicBezTo>
                          <a:pt x="187" y="98"/>
                          <a:pt x="216" y="92"/>
                          <a:pt x="244" y="84"/>
                        </a:cubicBezTo>
                        <a:cubicBezTo>
                          <a:pt x="282" y="58"/>
                          <a:pt x="330" y="34"/>
                          <a:pt x="364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3" name="未知"/>
                  <p:cNvSpPr/>
                  <p:nvPr/>
                </p:nvSpPr>
                <p:spPr>
                  <a:xfrm>
                    <a:off x="2383560" y="2453760"/>
                    <a:ext cx="720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36">
                        <a:moveTo>
                          <a:pt x="0" y="336"/>
                        </a:moveTo>
                        <a:cubicBezTo>
                          <a:pt x="4" y="288"/>
                          <a:pt x="6" y="240"/>
                          <a:pt x="12" y="192"/>
                        </a:cubicBezTo>
                        <a:cubicBezTo>
                          <a:pt x="14" y="179"/>
                          <a:pt x="24" y="169"/>
                          <a:pt x="24" y="156"/>
                        </a:cubicBezTo>
                        <a:cubicBezTo>
                          <a:pt x="24" y="104"/>
                          <a:pt x="12" y="52"/>
                          <a:pt x="12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84" name=""/>
                <p:cNvGrpSpPr/>
                <p:nvPr/>
              </p:nvGrpSpPr>
              <p:grpSpPr>
                <a:xfrm>
                  <a:off x="2438280" y="2438280"/>
                  <a:ext cx="228240" cy="76320"/>
                  <a:chOff x="2438280" y="2438280"/>
                  <a:chExt cx="228240" cy="76320"/>
                </a:xfrm>
              </p:grpSpPr>
              <p:sp>
                <p:nvSpPr>
                  <p:cNvPr id="1085" name="未知"/>
                  <p:cNvSpPr/>
                  <p:nvPr/>
                </p:nvSpPr>
                <p:spPr>
                  <a:xfrm>
                    <a:off x="2438280" y="2438280"/>
                    <a:ext cx="79560" cy="72360"/>
                  </a:xfrm>
                  <a:custGeom>
                    <a:avLst/>
                    <a:gdLst/>
                    <a:ahLst/>
                    <a:rect l="l" t="t" r="r" b="b"/>
                    <a:pathLst>
                      <a:path w="264" h="444">
                        <a:moveTo>
                          <a:pt x="0" y="0"/>
                        </a:moveTo>
                        <a:cubicBezTo>
                          <a:pt x="34" y="69"/>
                          <a:pt x="63" y="66"/>
                          <a:pt x="108" y="120"/>
                        </a:cubicBezTo>
                        <a:cubicBezTo>
                          <a:pt x="130" y="146"/>
                          <a:pt x="147" y="176"/>
                          <a:pt x="168" y="204"/>
                        </a:cubicBezTo>
                        <a:cubicBezTo>
                          <a:pt x="172" y="220"/>
                          <a:pt x="173" y="237"/>
                          <a:pt x="180" y="252"/>
                        </a:cubicBezTo>
                        <a:cubicBezTo>
                          <a:pt x="189" y="270"/>
                          <a:pt x="209" y="281"/>
                          <a:pt x="216" y="300"/>
                        </a:cubicBezTo>
                        <a:cubicBezTo>
                          <a:pt x="225" y="323"/>
                          <a:pt x="223" y="348"/>
                          <a:pt x="228" y="372"/>
                        </a:cubicBezTo>
                        <a:cubicBezTo>
                          <a:pt x="231" y="384"/>
                          <a:pt x="234" y="397"/>
                          <a:pt x="240" y="408"/>
                        </a:cubicBezTo>
                        <a:cubicBezTo>
                          <a:pt x="246" y="421"/>
                          <a:pt x="264" y="444"/>
                          <a:pt x="264" y="444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未知"/>
                  <p:cNvSpPr/>
                  <p:nvPr/>
                </p:nvSpPr>
                <p:spPr>
                  <a:xfrm>
                    <a:off x="2556720" y="2448000"/>
                    <a:ext cx="10980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364" h="408">
                        <a:moveTo>
                          <a:pt x="16" y="408"/>
                        </a:moveTo>
                        <a:cubicBezTo>
                          <a:pt x="27" y="241"/>
                          <a:pt x="0" y="165"/>
                          <a:pt x="160" y="108"/>
                        </a:cubicBezTo>
                        <a:cubicBezTo>
                          <a:pt x="187" y="98"/>
                          <a:pt x="216" y="92"/>
                          <a:pt x="244" y="84"/>
                        </a:cubicBezTo>
                        <a:cubicBezTo>
                          <a:pt x="282" y="58"/>
                          <a:pt x="330" y="34"/>
                          <a:pt x="364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未知"/>
                  <p:cNvSpPr/>
                  <p:nvPr/>
                </p:nvSpPr>
                <p:spPr>
                  <a:xfrm>
                    <a:off x="2536200" y="2453760"/>
                    <a:ext cx="720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36">
                        <a:moveTo>
                          <a:pt x="0" y="336"/>
                        </a:moveTo>
                        <a:cubicBezTo>
                          <a:pt x="4" y="288"/>
                          <a:pt x="6" y="240"/>
                          <a:pt x="12" y="192"/>
                        </a:cubicBezTo>
                        <a:cubicBezTo>
                          <a:pt x="14" y="179"/>
                          <a:pt x="24" y="169"/>
                          <a:pt x="24" y="156"/>
                        </a:cubicBezTo>
                        <a:cubicBezTo>
                          <a:pt x="24" y="104"/>
                          <a:pt x="12" y="52"/>
                          <a:pt x="12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88" name=""/>
                <p:cNvGrpSpPr/>
                <p:nvPr/>
              </p:nvGrpSpPr>
              <p:grpSpPr>
                <a:xfrm>
                  <a:off x="2133720" y="2438280"/>
                  <a:ext cx="228240" cy="76320"/>
                  <a:chOff x="2133720" y="2438280"/>
                  <a:chExt cx="228240" cy="76320"/>
                </a:xfrm>
              </p:grpSpPr>
              <p:sp>
                <p:nvSpPr>
                  <p:cNvPr id="1089" name="未知"/>
                  <p:cNvSpPr/>
                  <p:nvPr/>
                </p:nvSpPr>
                <p:spPr>
                  <a:xfrm>
                    <a:off x="2133720" y="2438280"/>
                    <a:ext cx="79560" cy="72360"/>
                  </a:xfrm>
                  <a:custGeom>
                    <a:avLst/>
                    <a:gdLst/>
                    <a:ahLst/>
                    <a:rect l="l" t="t" r="r" b="b"/>
                    <a:pathLst>
                      <a:path w="264" h="444">
                        <a:moveTo>
                          <a:pt x="0" y="0"/>
                        </a:moveTo>
                        <a:cubicBezTo>
                          <a:pt x="34" y="69"/>
                          <a:pt x="63" y="66"/>
                          <a:pt x="108" y="120"/>
                        </a:cubicBezTo>
                        <a:cubicBezTo>
                          <a:pt x="130" y="146"/>
                          <a:pt x="147" y="176"/>
                          <a:pt x="168" y="204"/>
                        </a:cubicBezTo>
                        <a:cubicBezTo>
                          <a:pt x="172" y="220"/>
                          <a:pt x="173" y="237"/>
                          <a:pt x="180" y="252"/>
                        </a:cubicBezTo>
                        <a:cubicBezTo>
                          <a:pt x="189" y="270"/>
                          <a:pt x="209" y="281"/>
                          <a:pt x="216" y="300"/>
                        </a:cubicBezTo>
                        <a:cubicBezTo>
                          <a:pt x="225" y="323"/>
                          <a:pt x="223" y="348"/>
                          <a:pt x="228" y="372"/>
                        </a:cubicBezTo>
                        <a:cubicBezTo>
                          <a:pt x="231" y="384"/>
                          <a:pt x="234" y="397"/>
                          <a:pt x="240" y="408"/>
                        </a:cubicBezTo>
                        <a:cubicBezTo>
                          <a:pt x="246" y="421"/>
                          <a:pt x="264" y="444"/>
                          <a:pt x="264" y="444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0" name="未知"/>
                  <p:cNvSpPr/>
                  <p:nvPr/>
                </p:nvSpPr>
                <p:spPr>
                  <a:xfrm>
                    <a:off x="2252160" y="2448000"/>
                    <a:ext cx="10980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364" h="408">
                        <a:moveTo>
                          <a:pt x="16" y="408"/>
                        </a:moveTo>
                        <a:cubicBezTo>
                          <a:pt x="27" y="241"/>
                          <a:pt x="0" y="165"/>
                          <a:pt x="160" y="108"/>
                        </a:cubicBezTo>
                        <a:cubicBezTo>
                          <a:pt x="187" y="98"/>
                          <a:pt x="216" y="92"/>
                          <a:pt x="244" y="84"/>
                        </a:cubicBezTo>
                        <a:cubicBezTo>
                          <a:pt x="282" y="58"/>
                          <a:pt x="330" y="34"/>
                          <a:pt x="364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未知"/>
                  <p:cNvSpPr/>
                  <p:nvPr/>
                </p:nvSpPr>
                <p:spPr>
                  <a:xfrm>
                    <a:off x="2231640" y="2453760"/>
                    <a:ext cx="720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36">
                        <a:moveTo>
                          <a:pt x="0" y="336"/>
                        </a:moveTo>
                        <a:cubicBezTo>
                          <a:pt x="4" y="288"/>
                          <a:pt x="6" y="240"/>
                          <a:pt x="12" y="192"/>
                        </a:cubicBezTo>
                        <a:cubicBezTo>
                          <a:pt x="14" y="179"/>
                          <a:pt x="24" y="169"/>
                          <a:pt x="24" y="156"/>
                        </a:cubicBezTo>
                        <a:cubicBezTo>
                          <a:pt x="24" y="104"/>
                          <a:pt x="12" y="52"/>
                          <a:pt x="12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2" name=""/>
              <p:cNvGrpSpPr/>
              <p:nvPr/>
            </p:nvGrpSpPr>
            <p:grpSpPr>
              <a:xfrm>
                <a:off x="1600200" y="2438280"/>
                <a:ext cx="533520" cy="76320"/>
                <a:chOff x="1600200" y="2438280"/>
                <a:chExt cx="533520" cy="76320"/>
              </a:xfrm>
            </p:grpSpPr>
            <p:grpSp>
              <p:nvGrpSpPr>
                <p:cNvPr id="1093" name=""/>
                <p:cNvGrpSpPr/>
                <p:nvPr/>
              </p:nvGrpSpPr>
              <p:grpSpPr>
                <a:xfrm>
                  <a:off x="1752480" y="2438280"/>
                  <a:ext cx="228600" cy="76320"/>
                  <a:chOff x="1752480" y="2438280"/>
                  <a:chExt cx="228600" cy="76320"/>
                </a:xfrm>
              </p:grpSpPr>
              <p:sp>
                <p:nvSpPr>
                  <p:cNvPr id="1094" name="未知"/>
                  <p:cNvSpPr/>
                  <p:nvPr/>
                </p:nvSpPr>
                <p:spPr>
                  <a:xfrm>
                    <a:off x="1752480" y="2438280"/>
                    <a:ext cx="79560" cy="72360"/>
                  </a:xfrm>
                  <a:custGeom>
                    <a:avLst/>
                    <a:gdLst/>
                    <a:ahLst/>
                    <a:rect l="l" t="t" r="r" b="b"/>
                    <a:pathLst>
                      <a:path w="264" h="444">
                        <a:moveTo>
                          <a:pt x="0" y="0"/>
                        </a:moveTo>
                        <a:cubicBezTo>
                          <a:pt x="34" y="69"/>
                          <a:pt x="63" y="66"/>
                          <a:pt x="108" y="120"/>
                        </a:cubicBezTo>
                        <a:cubicBezTo>
                          <a:pt x="130" y="146"/>
                          <a:pt x="147" y="176"/>
                          <a:pt x="168" y="204"/>
                        </a:cubicBezTo>
                        <a:cubicBezTo>
                          <a:pt x="172" y="220"/>
                          <a:pt x="173" y="237"/>
                          <a:pt x="180" y="252"/>
                        </a:cubicBezTo>
                        <a:cubicBezTo>
                          <a:pt x="189" y="270"/>
                          <a:pt x="209" y="281"/>
                          <a:pt x="216" y="300"/>
                        </a:cubicBezTo>
                        <a:cubicBezTo>
                          <a:pt x="225" y="323"/>
                          <a:pt x="223" y="348"/>
                          <a:pt x="228" y="372"/>
                        </a:cubicBezTo>
                        <a:cubicBezTo>
                          <a:pt x="231" y="384"/>
                          <a:pt x="234" y="397"/>
                          <a:pt x="240" y="408"/>
                        </a:cubicBezTo>
                        <a:cubicBezTo>
                          <a:pt x="246" y="421"/>
                          <a:pt x="264" y="444"/>
                          <a:pt x="264" y="444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" name="未知"/>
                  <p:cNvSpPr/>
                  <p:nvPr/>
                </p:nvSpPr>
                <p:spPr>
                  <a:xfrm>
                    <a:off x="1870920" y="2448000"/>
                    <a:ext cx="11016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364" h="408">
                        <a:moveTo>
                          <a:pt x="16" y="408"/>
                        </a:moveTo>
                        <a:cubicBezTo>
                          <a:pt x="27" y="241"/>
                          <a:pt x="0" y="165"/>
                          <a:pt x="160" y="108"/>
                        </a:cubicBezTo>
                        <a:cubicBezTo>
                          <a:pt x="187" y="98"/>
                          <a:pt x="216" y="92"/>
                          <a:pt x="244" y="84"/>
                        </a:cubicBezTo>
                        <a:cubicBezTo>
                          <a:pt x="282" y="58"/>
                          <a:pt x="330" y="34"/>
                          <a:pt x="364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6" name="未知"/>
                  <p:cNvSpPr/>
                  <p:nvPr/>
                </p:nvSpPr>
                <p:spPr>
                  <a:xfrm>
                    <a:off x="1850400" y="2453760"/>
                    <a:ext cx="720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36">
                        <a:moveTo>
                          <a:pt x="0" y="336"/>
                        </a:moveTo>
                        <a:cubicBezTo>
                          <a:pt x="4" y="288"/>
                          <a:pt x="6" y="240"/>
                          <a:pt x="12" y="192"/>
                        </a:cubicBezTo>
                        <a:cubicBezTo>
                          <a:pt x="14" y="179"/>
                          <a:pt x="24" y="169"/>
                          <a:pt x="24" y="156"/>
                        </a:cubicBezTo>
                        <a:cubicBezTo>
                          <a:pt x="24" y="104"/>
                          <a:pt x="12" y="52"/>
                          <a:pt x="12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97" name=""/>
                <p:cNvGrpSpPr/>
                <p:nvPr/>
              </p:nvGrpSpPr>
              <p:grpSpPr>
                <a:xfrm>
                  <a:off x="1905120" y="2438280"/>
                  <a:ext cx="228600" cy="76320"/>
                  <a:chOff x="1905120" y="2438280"/>
                  <a:chExt cx="228600" cy="76320"/>
                </a:xfrm>
              </p:grpSpPr>
              <p:sp>
                <p:nvSpPr>
                  <p:cNvPr id="1098" name="未知"/>
                  <p:cNvSpPr/>
                  <p:nvPr/>
                </p:nvSpPr>
                <p:spPr>
                  <a:xfrm>
                    <a:off x="1905120" y="2438280"/>
                    <a:ext cx="79560" cy="72360"/>
                  </a:xfrm>
                  <a:custGeom>
                    <a:avLst/>
                    <a:gdLst/>
                    <a:ahLst/>
                    <a:rect l="l" t="t" r="r" b="b"/>
                    <a:pathLst>
                      <a:path w="264" h="444">
                        <a:moveTo>
                          <a:pt x="0" y="0"/>
                        </a:moveTo>
                        <a:cubicBezTo>
                          <a:pt x="34" y="69"/>
                          <a:pt x="63" y="66"/>
                          <a:pt x="108" y="120"/>
                        </a:cubicBezTo>
                        <a:cubicBezTo>
                          <a:pt x="130" y="146"/>
                          <a:pt x="147" y="176"/>
                          <a:pt x="168" y="204"/>
                        </a:cubicBezTo>
                        <a:cubicBezTo>
                          <a:pt x="172" y="220"/>
                          <a:pt x="173" y="237"/>
                          <a:pt x="180" y="252"/>
                        </a:cubicBezTo>
                        <a:cubicBezTo>
                          <a:pt x="189" y="270"/>
                          <a:pt x="209" y="281"/>
                          <a:pt x="216" y="300"/>
                        </a:cubicBezTo>
                        <a:cubicBezTo>
                          <a:pt x="225" y="323"/>
                          <a:pt x="223" y="348"/>
                          <a:pt x="228" y="372"/>
                        </a:cubicBezTo>
                        <a:cubicBezTo>
                          <a:pt x="231" y="384"/>
                          <a:pt x="234" y="397"/>
                          <a:pt x="240" y="408"/>
                        </a:cubicBezTo>
                        <a:cubicBezTo>
                          <a:pt x="246" y="421"/>
                          <a:pt x="264" y="444"/>
                          <a:pt x="264" y="444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9" name="未知"/>
                  <p:cNvSpPr/>
                  <p:nvPr/>
                </p:nvSpPr>
                <p:spPr>
                  <a:xfrm>
                    <a:off x="2023560" y="2448000"/>
                    <a:ext cx="11016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364" h="408">
                        <a:moveTo>
                          <a:pt x="16" y="408"/>
                        </a:moveTo>
                        <a:cubicBezTo>
                          <a:pt x="27" y="241"/>
                          <a:pt x="0" y="165"/>
                          <a:pt x="160" y="108"/>
                        </a:cubicBezTo>
                        <a:cubicBezTo>
                          <a:pt x="187" y="98"/>
                          <a:pt x="216" y="92"/>
                          <a:pt x="244" y="84"/>
                        </a:cubicBezTo>
                        <a:cubicBezTo>
                          <a:pt x="282" y="58"/>
                          <a:pt x="330" y="34"/>
                          <a:pt x="364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0" name="未知"/>
                  <p:cNvSpPr/>
                  <p:nvPr/>
                </p:nvSpPr>
                <p:spPr>
                  <a:xfrm>
                    <a:off x="2003040" y="2453760"/>
                    <a:ext cx="720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36">
                        <a:moveTo>
                          <a:pt x="0" y="336"/>
                        </a:moveTo>
                        <a:cubicBezTo>
                          <a:pt x="4" y="288"/>
                          <a:pt x="6" y="240"/>
                          <a:pt x="12" y="192"/>
                        </a:cubicBezTo>
                        <a:cubicBezTo>
                          <a:pt x="14" y="179"/>
                          <a:pt x="24" y="169"/>
                          <a:pt x="24" y="156"/>
                        </a:cubicBezTo>
                        <a:cubicBezTo>
                          <a:pt x="24" y="104"/>
                          <a:pt x="12" y="52"/>
                          <a:pt x="12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1" name=""/>
                <p:cNvGrpSpPr/>
                <p:nvPr/>
              </p:nvGrpSpPr>
              <p:grpSpPr>
                <a:xfrm>
                  <a:off x="1600200" y="2438280"/>
                  <a:ext cx="228600" cy="76320"/>
                  <a:chOff x="1600200" y="2438280"/>
                  <a:chExt cx="228600" cy="76320"/>
                </a:xfrm>
              </p:grpSpPr>
              <p:sp>
                <p:nvSpPr>
                  <p:cNvPr id="1102" name="未知"/>
                  <p:cNvSpPr/>
                  <p:nvPr/>
                </p:nvSpPr>
                <p:spPr>
                  <a:xfrm>
                    <a:off x="1600200" y="2438280"/>
                    <a:ext cx="79560" cy="72360"/>
                  </a:xfrm>
                  <a:custGeom>
                    <a:avLst/>
                    <a:gdLst/>
                    <a:ahLst/>
                    <a:rect l="l" t="t" r="r" b="b"/>
                    <a:pathLst>
                      <a:path w="264" h="444">
                        <a:moveTo>
                          <a:pt x="0" y="0"/>
                        </a:moveTo>
                        <a:cubicBezTo>
                          <a:pt x="34" y="69"/>
                          <a:pt x="63" y="66"/>
                          <a:pt x="108" y="120"/>
                        </a:cubicBezTo>
                        <a:cubicBezTo>
                          <a:pt x="130" y="146"/>
                          <a:pt x="147" y="176"/>
                          <a:pt x="168" y="204"/>
                        </a:cubicBezTo>
                        <a:cubicBezTo>
                          <a:pt x="172" y="220"/>
                          <a:pt x="173" y="237"/>
                          <a:pt x="180" y="252"/>
                        </a:cubicBezTo>
                        <a:cubicBezTo>
                          <a:pt x="189" y="270"/>
                          <a:pt x="209" y="281"/>
                          <a:pt x="216" y="300"/>
                        </a:cubicBezTo>
                        <a:cubicBezTo>
                          <a:pt x="225" y="323"/>
                          <a:pt x="223" y="348"/>
                          <a:pt x="228" y="372"/>
                        </a:cubicBezTo>
                        <a:cubicBezTo>
                          <a:pt x="231" y="384"/>
                          <a:pt x="234" y="397"/>
                          <a:pt x="240" y="408"/>
                        </a:cubicBezTo>
                        <a:cubicBezTo>
                          <a:pt x="246" y="421"/>
                          <a:pt x="264" y="444"/>
                          <a:pt x="264" y="444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3" name="未知"/>
                  <p:cNvSpPr/>
                  <p:nvPr/>
                </p:nvSpPr>
                <p:spPr>
                  <a:xfrm>
                    <a:off x="1718640" y="2448000"/>
                    <a:ext cx="11016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364" h="408">
                        <a:moveTo>
                          <a:pt x="16" y="408"/>
                        </a:moveTo>
                        <a:cubicBezTo>
                          <a:pt x="27" y="241"/>
                          <a:pt x="0" y="165"/>
                          <a:pt x="160" y="108"/>
                        </a:cubicBezTo>
                        <a:cubicBezTo>
                          <a:pt x="187" y="98"/>
                          <a:pt x="216" y="92"/>
                          <a:pt x="244" y="84"/>
                        </a:cubicBezTo>
                        <a:cubicBezTo>
                          <a:pt x="282" y="58"/>
                          <a:pt x="330" y="34"/>
                          <a:pt x="364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4" name="未知"/>
                  <p:cNvSpPr/>
                  <p:nvPr/>
                </p:nvSpPr>
                <p:spPr>
                  <a:xfrm>
                    <a:off x="1698120" y="2453760"/>
                    <a:ext cx="720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36">
                        <a:moveTo>
                          <a:pt x="0" y="336"/>
                        </a:moveTo>
                        <a:cubicBezTo>
                          <a:pt x="4" y="288"/>
                          <a:pt x="6" y="240"/>
                          <a:pt x="12" y="192"/>
                        </a:cubicBezTo>
                        <a:cubicBezTo>
                          <a:pt x="14" y="179"/>
                          <a:pt x="24" y="169"/>
                          <a:pt x="24" y="156"/>
                        </a:cubicBezTo>
                        <a:cubicBezTo>
                          <a:pt x="24" y="104"/>
                          <a:pt x="12" y="52"/>
                          <a:pt x="12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05" name=""/>
              <p:cNvGrpSpPr/>
              <p:nvPr/>
            </p:nvGrpSpPr>
            <p:grpSpPr>
              <a:xfrm>
                <a:off x="2209680" y="2514600"/>
                <a:ext cx="533520" cy="76320"/>
                <a:chOff x="2209680" y="2514600"/>
                <a:chExt cx="533520" cy="76320"/>
              </a:xfrm>
            </p:grpSpPr>
            <p:grpSp>
              <p:nvGrpSpPr>
                <p:cNvPr id="1106" name=""/>
                <p:cNvGrpSpPr/>
                <p:nvPr/>
              </p:nvGrpSpPr>
              <p:grpSpPr>
                <a:xfrm>
                  <a:off x="2361960" y="2514600"/>
                  <a:ext cx="228600" cy="76320"/>
                  <a:chOff x="2361960" y="2514600"/>
                  <a:chExt cx="228600" cy="76320"/>
                </a:xfrm>
              </p:grpSpPr>
              <p:sp>
                <p:nvSpPr>
                  <p:cNvPr id="1107" name="未知"/>
                  <p:cNvSpPr/>
                  <p:nvPr/>
                </p:nvSpPr>
                <p:spPr>
                  <a:xfrm>
                    <a:off x="2361960" y="2514600"/>
                    <a:ext cx="79560" cy="72360"/>
                  </a:xfrm>
                  <a:custGeom>
                    <a:avLst/>
                    <a:gdLst/>
                    <a:ahLst/>
                    <a:rect l="l" t="t" r="r" b="b"/>
                    <a:pathLst>
                      <a:path w="264" h="444">
                        <a:moveTo>
                          <a:pt x="0" y="0"/>
                        </a:moveTo>
                        <a:cubicBezTo>
                          <a:pt x="34" y="69"/>
                          <a:pt x="63" y="66"/>
                          <a:pt x="108" y="120"/>
                        </a:cubicBezTo>
                        <a:cubicBezTo>
                          <a:pt x="130" y="146"/>
                          <a:pt x="147" y="176"/>
                          <a:pt x="168" y="204"/>
                        </a:cubicBezTo>
                        <a:cubicBezTo>
                          <a:pt x="172" y="220"/>
                          <a:pt x="173" y="237"/>
                          <a:pt x="180" y="252"/>
                        </a:cubicBezTo>
                        <a:cubicBezTo>
                          <a:pt x="189" y="270"/>
                          <a:pt x="209" y="281"/>
                          <a:pt x="216" y="300"/>
                        </a:cubicBezTo>
                        <a:cubicBezTo>
                          <a:pt x="225" y="323"/>
                          <a:pt x="223" y="348"/>
                          <a:pt x="228" y="372"/>
                        </a:cubicBezTo>
                        <a:cubicBezTo>
                          <a:pt x="231" y="384"/>
                          <a:pt x="234" y="397"/>
                          <a:pt x="240" y="408"/>
                        </a:cubicBezTo>
                        <a:cubicBezTo>
                          <a:pt x="246" y="421"/>
                          <a:pt x="264" y="444"/>
                          <a:pt x="264" y="444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未知"/>
                  <p:cNvSpPr/>
                  <p:nvPr/>
                </p:nvSpPr>
                <p:spPr>
                  <a:xfrm>
                    <a:off x="2480400" y="2524320"/>
                    <a:ext cx="11016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364" h="408">
                        <a:moveTo>
                          <a:pt x="16" y="408"/>
                        </a:moveTo>
                        <a:cubicBezTo>
                          <a:pt x="27" y="241"/>
                          <a:pt x="0" y="165"/>
                          <a:pt x="160" y="108"/>
                        </a:cubicBezTo>
                        <a:cubicBezTo>
                          <a:pt x="187" y="98"/>
                          <a:pt x="216" y="92"/>
                          <a:pt x="244" y="84"/>
                        </a:cubicBezTo>
                        <a:cubicBezTo>
                          <a:pt x="282" y="58"/>
                          <a:pt x="330" y="34"/>
                          <a:pt x="364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未知"/>
                  <p:cNvSpPr/>
                  <p:nvPr/>
                </p:nvSpPr>
                <p:spPr>
                  <a:xfrm>
                    <a:off x="2459880" y="2530080"/>
                    <a:ext cx="720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36">
                        <a:moveTo>
                          <a:pt x="0" y="336"/>
                        </a:moveTo>
                        <a:cubicBezTo>
                          <a:pt x="4" y="288"/>
                          <a:pt x="6" y="240"/>
                          <a:pt x="12" y="192"/>
                        </a:cubicBezTo>
                        <a:cubicBezTo>
                          <a:pt x="14" y="179"/>
                          <a:pt x="24" y="169"/>
                          <a:pt x="24" y="156"/>
                        </a:cubicBezTo>
                        <a:cubicBezTo>
                          <a:pt x="24" y="104"/>
                          <a:pt x="12" y="52"/>
                          <a:pt x="12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10" name=""/>
                <p:cNvGrpSpPr/>
                <p:nvPr/>
              </p:nvGrpSpPr>
              <p:grpSpPr>
                <a:xfrm>
                  <a:off x="2514600" y="2514600"/>
                  <a:ext cx="228600" cy="76320"/>
                  <a:chOff x="2514600" y="2514600"/>
                  <a:chExt cx="228600" cy="76320"/>
                </a:xfrm>
              </p:grpSpPr>
              <p:sp>
                <p:nvSpPr>
                  <p:cNvPr id="1111" name="未知"/>
                  <p:cNvSpPr/>
                  <p:nvPr/>
                </p:nvSpPr>
                <p:spPr>
                  <a:xfrm>
                    <a:off x="2514600" y="2514600"/>
                    <a:ext cx="79560" cy="72360"/>
                  </a:xfrm>
                  <a:custGeom>
                    <a:avLst/>
                    <a:gdLst/>
                    <a:ahLst/>
                    <a:rect l="l" t="t" r="r" b="b"/>
                    <a:pathLst>
                      <a:path w="264" h="444">
                        <a:moveTo>
                          <a:pt x="0" y="0"/>
                        </a:moveTo>
                        <a:cubicBezTo>
                          <a:pt x="34" y="69"/>
                          <a:pt x="63" y="66"/>
                          <a:pt x="108" y="120"/>
                        </a:cubicBezTo>
                        <a:cubicBezTo>
                          <a:pt x="130" y="146"/>
                          <a:pt x="147" y="176"/>
                          <a:pt x="168" y="204"/>
                        </a:cubicBezTo>
                        <a:cubicBezTo>
                          <a:pt x="172" y="220"/>
                          <a:pt x="173" y="237"/>
                          <a:pt x="180" y="252"/>
                        </a:cubicBezTo>
                        <a:cubicBezTo>
                          <a:pt x="189" y="270"/>
                          <a:pt x="209" y="281"/>
                          <a:pt x="216" y="300"/>
                        </a:cubicBezTo>
                        <a:cubicBezTo>
                          <a:pt x="225" y="323"/>
                          <a:pt x="223" y="348"/>
                          <a:pt x="228" y="372"/>
                        </a:cubicBezTo>
                        <a:cubicBezTo>
                          <a:pt x="231" y="384"/>
                          <a:pt x="234" y="397"/>
                          <a:pt x="240" y="408"/>
                        </a:cubicBezTo>
                        <a:cubicBezTo>
                          <a:pt x="246" y="421"/>
                          <a:pt x="264" y="444"/>
                          <a:pt x="264" y="444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2" name="未知"/>
                  <p:cNvSpPr/>
                  <p:nvPr/>
                </p:nvSpPr>
                <p:spPr>
                  <a:xfrm>
                    <a:off x="2633040" y="2524320"/>
                    <a:ext cx="11016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364" h="408">
                        <a:moveTo>
                          <a:pt x="16" y="408"/>
                        </a:moveTo>
                        <a:cubicBezTo>
                          <a:pt x="27" y="241"/>
                          <a:pt x="0" y="165"/>
                          <a:pt x="160" y="108"/>
                        </a:cubicBezTo>
                        <a:cubicBezTo>
                          <a:pt x="187" y="98"/>
                          <a:pt x="216" y="92"/>
                          <a:pt x="244" y="84"/>
                        </a:cubicBezTo>
                        <a:cubicBezTo>
                          <a:pt x="282" y="58"/>
                          <a:pt x="330" y="34"/>
                          <a:pt x="364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" name="未知"/>
                  <p:cNvSpPr/>
                  <p:nvPr/>
                </p:nvSpPr>
                <p:spPr>
                  <a:xfrm>
                    <a:off x="2612520" y="2530080"/>
                    <a:ext cx="720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36">
                        <a:moveTo>
                          <a:pt x="0" y="336"/>
                        </a:moveTo>
                        <a:cubicBezTo>
                          <a:pt x="4" y="288"/>
                          <a:pt x="6" y="240"/>
                          <a:pt x="12" y="192"/>
                        </a:cubicBezTo>
                        <a:cubicBezTo>
                          <a:pt x="14" y="179"/>
                          <a:pt x="24" y="169"/>
                          <a:pt x="24" y="156"/>
                        </a:cubicBezTo>
                        <a:cubicBezTo>
                          <a:pt x="24" y="104"/>
                          <a:pt x="12" y="52"/>
                          <a:pt x="12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14" name=""/>
                <p:cNvGrpSpPr/>
                <p:nvPr/>
              </p:nvGrpSpPr>
              <p:grpSpPr>
                <a:xfrm>
                  <a:off x="2209680" y="2514600"/>
                  <a:ext cx="228600" cy="76320"/>
                  <a:chOff x="2209680" y="2514600"/>
                  <a:chExt cx="228600" cy="76320"/>
                </a:xfrm>
              </p:grpSpPr>
              <p:sp>
                <p:nvSpPr>
                  <p:cNvPr id="1115" name="未知"/>
                  <p:cNvSpPr/>
                  <p:nvPr/>
                </p:nvSpPr>
                <p:spPr>
                  <a:xfrm>
                    <a:off x="2209680" y="2514600"/>
                    <a:ext cx="79560" cy="72360"/>
                  </a:xfrm>
                  <a:custGeom>
                    <a:avLst/>
                    <a:gdLst/>
                    <a:ahLst/>
                    <a:rect l="l" t="t" r="r" b="b"/>
                    <a:pathLst>
                      <a:path w="264" h="444">
                        <a:moveTo>
                          <a:pt x="0" y="0"/>
                        </a:moveTo>
                        <a:cubicBezTo>
                          <a:pt x="34" y="69"/>
                          <a:pt x="63" y="66"/>
                          <a:pt x="108" y="120"/>
                        </a:cubicBezTo>
                        <a:cubicBezTo>
                          <a:pt x="130" y="146"/>
                          <a:pt x="147" y="176"/>
                          <a:pt x="168" y="204"/>
                        </a:cubicBezTo>
                        <a:cubicBezTo>
                          <a:pt x="172" y="220"/>
                          <a:pt x="173" y="237"/>
                          <a:pt x="180" y="252"/>
                        </a:cubicBezTo>
                        <a:cubicBezTo>
                          <a:pt x="189" y="270"/>
                          <a:pt x="209" y="281"/>
                          <a:pt x="216" y="300"/>
                        </a:cubicBezTo>
                        <a:cubicBezTo>
                          <a:pt x="225" y="323"/>
                          <a:pt x="223" y="348"/>
                          <a:pt x="228" y="372"/>
                        </a:cubicBezTo>
                        <a:cubicBezTo>
                          <a:pt x="231" y="384"/>
                          <a:pt x="234" y="397"/>
                          <a:pt x="240" y="408"/>
                        </a:cubicBezTo>
                        <a:cubicBezTo>
                          <a:pt x="246" y="421"/>
                          <a:pt x="264" y="444"/>
                          <a:pt x="264" y="444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未知"/>
                  <p:cNvSpPr/>
                  <p:nvPr/>
                </p:nvSpPr>
                <p:spPr>
                  <a:xfrm>
                    <a:off x="2328120" y="2524320"/>
                    <a:ext cx="11016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364" h="408">
                        <a:moveTo>
                          <a:pt x="16" y="408"/>
                        </a:moveTo>
                        <a:cubicBezTo>
                          <a:pt x="27" y="241"/>
                          <a:pt x="0" y="165"/>
                          <a:pt x="160" y="108"/>
                        </a:cubicBezTo>
                        <a:cubicBezTo>
                          <a:pt x="187" y="98"/>
                          <a:pt x="216" y="92"/>
                          <a:pt x="244" y="84"/>
                        </a:cubicBezTo>
                        <a:cubicBezTo>
                          <a:pt x="282" y="58"/>
                          <a:pt x="330" y="34"/>
                          <a:pt x="364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未知"/>
                  <p:cNvSpPr/>
                  <p:nvPr/>
                </p:nvSpPr>
                <p:spPr>
                  <a:xfrm>
                    <a:off x="2307600" y="2530080"/>
                    <a:ext cx="720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36">
                        <a:moveTo>
                          <a:pt x="0" y="336"/>
                        </a:moveTo>
                        <a:cubicBezTo>
                          <a:pt x="4" y="288"/>
                          <a:pt x="6" y="240"/>
                          <a:pt x="12" y="192"/>
                        </a:cubicBezTo>
                        <a:cubicBezTo>
                          <a:pt x="14" y="179"/>
                          <a:pt x="24" y="169"/>
                          <a:pt x="24" y="156"/>
                        </a:cubicBezTo>
                        <a:cubicBezTo>
                          <a:pt x="24" y="104"/>
                          <a:pt x="12" y="52"/>
                          <a:pt x="12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118" name=""/>
            <p:cNvGrpSpPr/>
            <p:nvPr/>
          </p:nvGrpSpPr>
          <p:grpSpPr>
            <a:xfrm>
              <a:off x="2438280" y="2209680"/>
              <a:ext cx="1143000" cy="380880"/>
              <a:chOff x="2438280" y="2209680"/>
              <a:chExt cx="1143000" cy="380880"/>
            </a:xfrm>
          </p:grpSpPr>
          <p:grpSp>
            <p:nvGrpSpPr>
              <p:cNvPr id="1119" name=""/>
              <p:cNvGrpSpPr/>
              <p:nvPr/>
            </p:nvGrpSpPr>
            <p:grpSpPr>
              <a:xfrm>
                <a:off x="2666880" y="2514600"/>
                <a:ext cx="533520" cy="75960"/>
                <a:chOff x="2666880" y="2514600"/>
                <a:chExt cx="533520" cy="75960"/>
              </a:xfrm>
            </p:grpSpPr>
            <p:grpSp>
              <p:nvGrpSpPr>
                <p:cNvPr id="1120" name=""/>
                <p:cNvGrpSpPr/>
                <p:nvPr/>
              </p:nvGrpSpPr>
              <p:grpSpPr>
                <a:xfrm>
                  <a:off x="2819160" y="2514600"/>
                  <a:ext cx="228600" cy="75960"/>
                  <a:chOff x="2819160" y="2514600"/>
                  <a:chExt cx="228600" cy="75960"/>
                </a:xfrm>
              </p:grpSpPr>
              <p:sp>
                <p:nvSpPr>
                  <p:cNvPr id="1121" name="未知"/>
                  <p:cNvSpPr/>
                  <p:nvPr/>
                </p:nvSpPr>
                <p:spPr>
                  <a:xfrm>
                    <a:off x="2819160" y="2514600"/>
                    <a:ext cx="79560" cy="72360"/>
                  </a:xfrm>
                  <a:custGeom>
                    <a:avLst/>
                    <a:gdLst/>
                    <a:ahLst/>
                    <a:rect l="l" t="t" r="r" b="b"/>
                    <a:pathLst>
                      <a:path w="264" h="444">
                        <a:moveTo>
                          <a:pt x="0" y="0"/>
                        </a:moveTo>
                        <a:cubicBezTo>
                          <a:pt x="34" y="69"/>
                          <a:pt x="63" y="66"/>
                          <a:pt x="108" y="120"/>
                        </a:cubicBezTo>
                        <a:cubicBezTo>
                          <a:pt x="130" y="146"/>
                          <a:pt x="147" y="176"/>
                          <a:pt x="168" y="204"/>
                        </a:cubicBezTo>
                        <a:cubicBezTo>
                          <a:pt x="172" y="220"/>
                          <a:pt x="173" y="237"/>
                          <a:pt x="180" y="252"/>
                        </a:cubicBezTo>
                        <a:cubicBezTo>
                          <a:pt x="189" y="270"/>
                          <a:pt x="209" y="281"/>
                          <a:pt x="216" y="300"/>
                        </a:cubicBezTo>
                        <a:cubicBezTo>
                          <a:pt x="225" y="323"/>
                          <a:pt x="223" y="348"/>
                          <a:pt x="228" y="372"/>
                        </a:cubicBezTo>
                        <a:cubicBezTo>
                          <a:pt x="231" y="384"/>
                          <a:pt x="234" y="397"/>
                          <a:pt x="240" y="408"/>
                        </a:cubicBezTo>
                        <a:cubicBezTo>
                          <a:pt x="246" y="421"/>
                          <a:pt x="264" y="444"/>
                          <a:pt x="264" y="444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未知"/>
                  <p:cNvSpPr/>
                  <p:nvPr/>
                </p:nvSpPr>
                <p:spPr>
                  <a:xfrm>
                    <a:off x="2937600" y="2524320"/>
                    <a:ext cx="11016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364" h="408">
                        <a:moveTo>
                          <a:pt x="16" y="408"/>
                        </a:moveTo>
                        <a:cubicBezTo>
                          <a:pt x="27" y="241"/>
                          <a:pt x="0" y="165"/>
                          <a:pt x="160" y="108"/>
                        </a:cubicBezTo>
                        <a:cubicBezTo>
                          <a:pt x="187" y="98"/>
                          <a:pt x="216" y="92"/>
                          <a:pt x="244" y="84"/>
                        </a:cubicBezTo>
                        <a:cubicBezTo>
                          <a:pt x="282" y="58"/>
                          <a:pt x="330" y="34"/>
                          <a:pt x="364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3" name="未知"/>
                  <p:cNvSpPr/>
                  <p:nvPr/>
                </p:nvSpPr>
                <p:spPr>
                  <a:xfrm>
                    <a:off x="2917080" y="2530080"/>
                    <a:ext cx="720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36">
                        <a:moveTo>
                          <a:pt x="0" y="336"/>
                        </a:moveTo>
                        <a:cubicBezTo>
                          <a:pt x="4" y="288"/>
                          <a:pt x="6" y="240"/>
                          <a:pt x="12" y="192"/>
                        </a:cubicBezTo>
                        <a:cubicBezTo>
                          <a:pt x="14" y="179"/>
                          <a:pt x="24" y="169"/>
                          <a:pt x="24" y="156"/>
                        </a:cubicBezTo>
                        <a:cubicBezTo>
                          <a:pt x="24" y="104"/>
                          <a:pt x="12" y="52"/>
                          <a:pt x="12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24" name=""/>
                <p:cNvGrpSpPr/>
                <p:nvPr/>
              </p:nvGrpSpPr>
              <p:grpSpPr>
                <a:xfrm>
                  <a:off x="2971800" y="2514600"/>
                  <a:ext cx="228600" cy="75960"/>
                  <a:chOff x="2971800" y="2514600"/>
                  <a:chExt cx="228600" cy="75960"/>
                </a:xfrm>
              </p:grpSpPr>
              <p:sp>
                <p:nvSpPr>
                  <p:cNvPr id="1125" name="未知"/>
                  <p:cNvSpPr/>
                  <p:nvPr/>
                </p:nvSpPr>
                <p:spPr>
                  <a:xfrm>
                    <a:off x="2971800" y="2514600"/>
                    <a:ext cx="79560" cy="72360"/>
                  </a:xfrm>
                  <a:custGeom>
                    <a:avLst/>
                    <a:gdLst/>
                    <a:ahLst/>
                    <a:rect l="l" t="t" r="r" b="b"/>
                    <a:pathLst>
                      <a:path w="264" h="444">
                        <a:moveTo>
                          <a:pt x="0" y="0"/>
                        </a:moveTo>
                        <a:cubicBezTo>
                          <a:pt x="34" y="69"/>
                          <a:pt x="63" y="66"/>
                          <a:pt x="108" y="120"/>
                        </a:cubicBezTo>
                        <a:cubicBezTo>
                          <a:pt x="130" y="146"/>
                          <a:pt x="147" y="176"/>
                          <a:pt x="168" y="204"/>
                        </a:cubicBezTo>
                        <a:cubicBezTo>
                          <a:pt x="172" y="220"/>
                          <a:pt x="173" y="237"/>
                          <a:pt x="180" y="252"/>
                        </a:cubicBezTo>
                        <a:cubicBezTo>
                          <a:pt x="189" y="270"/>
                          <a:pt x="209" y="281"/>
                          <a:pt x="216" y="300"/>
                        </a:cubicBezTo>
                        <a:cubicBezTo>
                          <a:pt x="225" y="323"/>
                          <a:pt x="223" y="348"/>
                          <a:pt x="228" y="372"/>
                        </a:cubicBezTo>
                        <a:cubicBezTo>
                          <a:pt x="231" y="384"/>
                          <a:pt x="234" y="397"/>
                          <a:pt x="240" y="408"/>
                        </a:cubicBezTo>
                        <a:cubicBezTo>
                          <a:pt x="246" y="421"/>
                          <a:pt x="264" y="444"/>
                          <a:pt x="264" y="444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6" name="未知"/>
                  <p:cNvSpPr/>
                  <p:nvPr/>
                </p:nvSpPr>
                <p:spPr>
                  <a:xfrm>
                    <a:off x="3090240" y="2524320"/>
                    <a:ext cx="11016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364" h="408">
                        <a:moveTo>
                          <a:pt x="16" y="408"/>
                        </a:moveTo>
                        <a:cubicBezTo>
                          <a:pt x="27" y="241"/>
                          <a:pt x="0" y="165"/>
                          <a:pt x="160" y="108"/>
                        </a:cubicBezTo>
                        <a:cubicBezTo>
                          <a:pt x="187" y="98"/>
                          <a:pt x="216" y="92"/>
                          <a:pt x="244" y="84"/>
                        </a:cubicBezTo>
                        <a:cubicBezTo>
                          <a:pt x="282" y="58"/>
                          <a:pt x="330" y="34"/>
                          <a:pt x="364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7" name="未知"/>
                  <p:cNvSpPr/>
                  <p:nvPr/>
                </p:nvSpPr>
                <p:spPr>
                  <a:xfrm>
                    <a:off x="3069720" y="2530080"/>
                    <a:ext cx="720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36">
                        <a:moveTo>
                          <a:pt x="0" y="336"/>
                        </a:moveTo>
                        <a:cubicBezTo>
                          <a:pt x="4" y="288"/>
                          <a:pt x="6" y="240"/>
                          <a:pt x="12" y="192"/>
                        </a:cubicBezTo>
                        <a:cubicBezTo>
                          <a:pt x="14" y="179"/>
                          <a:pt x="24" y="169"/>
                          <a:pt x="24" y="156"/>
                        </a:cubicBezTo>
                        <a:cubicBezTo>
                          <a:pt x="24" y="104"/>
                          <a:pt x="12" y="52"/>
                          <a:pt x="12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28" name=""/>
                <p:cNvGrpSpPr/>
                <p:nvPr/>
              </p:nvGrpSpPr>
              <p:grpSpPr>
                <a:xfrm>
                  <a:off x="2666880" y="2514600"/>
                  <a:ext cx="228600" cy="75960"/>
                  <a:chOff x="2666880" y="2514600"/>
                  <a:chExt cx="228600" cy="75960"/>
                </a:xfrm>
              </p:grpSpPr>
              <p:sp>
                <p:nvSpPr>
                  <p:cNvPr id="1129" name="未知"/>
                  <p:cNvSpPr/>
                  <p:nvPr/>
                </p:nvSpPr>
                <p:spPr>
                  <a:xfrm>
                    <a:off x="2666880" y="2514600"/>
                    <a:ext cx="79560" cy="72360"/>
                  </a:xfrm>
                  <a:custGeom>
                    <a:avLst/>
                    <a:gdLst/>
                    <a:ahLst/>
                    <a:rect l="l" t="t" r="r" b="b"/>
                    <a:pathLst>
                      <a:path w="264" h="444">
                        <a:moveTo>
                          <a:pt x="0" y="0"/>
                        </a:moveTo>
                        <a:cubicBezTo>
                          <a:pt x="34" y="69"/>
                          <a:pt x="63" y="66"/>
                          <a:pt x="108" y="120"/>
                        </a:cubicBezTo>
                        <a:cubicBezTo>
                          <a:pt x="130" y="146"/>
                          <a:pt x="147" y="176"/>
                          <a:pt x="168" y="204"/>
                        </a:cubicBezTo>
                        <a:cubicBezTo>
                          <a:pt x="172" y="220"/>
                          <a:pt x="173" y="237"/>
                          <a:pt x="180" y="252"/>
                        </a:cubicBezTo>
                        <a:cubicBezTo>
                          <a:pt x="189" y="270"/>
                          <a:pt x="209" y="281"/>
                          <a:pt x="216" y="300"/>
                        </a:cubicBezTo>
                        <a:cubicBezTo>
                          <a:pt x="225" y="323"/>
                          <a:pt x="223" y="348"/>
                          <a:pt x="228" y="372"/>
                        </a:cubicBezTo>
                        <a:cubicBezTo>
                          <a:pt x="231" y="384"/>
                          <a:pt x="234" y="397"/>
                          <a:pt x="240" y="408"/>
                        </a:cubicBezTo>
                        <a:cubicBezTo>
                          <a:pt x="246" y="421"/>
                          <a:pt x="264" y="444"/>
                          <a:pt x="264" y="444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" name="未知"/>
                  <p:cNvSpPr/>
                  <p:nvPr/>
                </p:nvSpPr>
                <p:spPr>
                  <a:xfrm>
                    <a:off x="2785320" y="2524320"/>
                    <a:ext cx="11016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364" h="408">
                        <a:moveTo>
                          <a:pt x="16" y="408"/>
                        </a:moveTo>
                        <a:cubicBezTo>
                          <a:pt x="27" y="241"/>
                          <a:pt x="0" y="165"/>
                          <a:pt x="160" y="108"/>
                        </a:cubicBezTo>
                        <a:cubicBezTo>
                          <a:pt x="187" y="98"/>
                          <a:pt x="216" y="92"/>
                          <a:pt x="244" y="84"/>
                        </a:cubicBezTo>
                        <a:cubicBezTo>
                          <a:pt x="282" y="58"/>
                          <a:pt x="330" y="34"/>
                          <a:pt x="364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" name="未知"/>
                  <p:cNvSpPr/>
                  <p:nvPr/>
                </p:nvSpPr>
                <p:spPr>
                  <a:xfrm>
                    <a:off x="2764800" y="2530080"/>
                    <a:ext cx="720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36">
                        <a:moveTo>
                          <a:pt x="0" y="336"/>
                        </a:moveTo>
                        <a:cubicBezTo>
                          <a:pt x="4" y="288"/>
                          <a:pt x="6" y="240"/>
                          <a:pt x="12" y="192"/>
                        </a:cubicBezTo>
                        <a:cubicBezTo>
                          <a:pt x="14" y="179"/>
                          <a:pt x="24" y="169"/>
                          <a:pt x="24" y="156"/>
                        </a:cubicBezTo>
                        <a:cubicBezTo>
                          <a:pt x="24" y="104"/>
                          <a:pt x="12" y="52"/>
                          <a:pt x="12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32" name=""/>
              <p:cNvGrpSpPr/>
              <p:nvPr/>
            </p:nvGrpSpPr>
            <p:grpSpPr>
              <a:xfrm>
                <a:off x="2971800" y="2209680"/>
                <a:ext cx="228600" cy="76320"/>
                <a:chOff x="2971800" y="2209680"/>
                <a:chExt cx="228600" cy="76320"/>
              </a:xfrm>
            </p:grpSpPr>
            <p:sp>
              <p:nvSpPr>
                <p:cNvPr id="1133" name="未知"/>
                <p:cNvSpPr/>
                <p:nvPr/>
              </p:nvSpPr>
              <p:spPr>
                <a:xfrm>
                  <a:off x="2971800" y="2209680"/>
                  <a:ext cx="79560" cy="72360"/>
                </a:xfrm>
                <a:custGeom>
                  <a:avLst/>
                  <a:gdLst/>
                  <a:ahLst/>
                  <a:rect l="l" t="t" r="r" b="b"/>
                  <a:pathLst>
                    <a:path w="264" h="444">
                      <a:moveTo>
                        <a:pt x="0" y="0"/>
                      </a:moveTo>
                      <a:cubicBezTo>
                        <a:pt x="34" y="69"/>
                        <a:pt x="63" y="66"/>
                        <a:pt x="108" y="120"/>
                      </a:cubicBezTo>
                      <a:cubicBezTo>
                        <a:pt x="130" y="146"/>
                        <a:pt x="147" y="176"/>
                        <a:pt x="168" y="204"/>
                      </a:cubicBezTo>
                      <a:cubicBezTo>
                        <a:pt x="172" y="220"/>
                        <a:pt x="173" y="237"/>
                        <a:pt x="180" y="252"/>
                      </a:cubicBezTo>
                      <a:cubicBezTo>
                        <a:pt x="189" y="270"/>
                        <a:pt x="209" y="281"/>
                        <a:pt x="216" y="300"/>
                      </a:cubicBezTo>
                      <a:cubicBezTo>
                        <a:pt x="225" y="323"/>
                        <a:pt x="223" y="348"/>
                        <a:pt x="228" y="372"/>
                      </a:cubicBezTo>
                      <a:cubicBezTo>
                        <a:pt x="231" y="384"/>
                        <a:pt x="234" y="397"/>
                        <a:pt x="240" y="408"/>
                      </a:cubicBezTo>
                      <a:cubicBezTo>
                        <a:pt x="246" y="421"/>
                        <a:pt x="264" y="444"/>
                        <a:pt x="264" y="444"/>
                      </a:cubicBezTo>
                    </a:path>
                  </a:pathLst>
                </a:custGeom>
                <a:noFill/>
                <a:ln w="9360">
                  <a:solidFill>
                    <a:srgbClr val="33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未知"/>
                <p:cNvSpPr/>
                <p:nvPr/>
              </p:nvSpPr>
              <p:spPr>
                <a:xfrm>
                  <a:off x="3090240" y="2219400"/>
                  <a:ext cx="110160" cy="66600"/>
                </a:xfrm>
                <a:custGeom>
                  <a:avLst/>
                  <a:gdLst/>
                  <a:ahLst/>
                  <a:rect l="l" t="t" r="r" b="b"/>
                  <a:pathLst>
                    <a:path w="364" h="408">
                      <a:moveTo>
                        <a:pt x="16" y="408"/>
                      </a:moveTo>
                      <a:cubicBezTo>
                        <a:pt x="27" y="241"/>
                        <a:pt x="0" y="165"/>
                        <a:pt x="160" y="108"/>
                      </a:cubicBezTo>
                      <a:cubicBezTo>
                        <a:pt x="187" y="98"/>
                        <a:pt x="216" y="92"/>
                        <a:pt x="244" y="84"/>
                      </a:cubicBezTo>
                      <a:cubicBezTo>
                        <a:pt x="282" y="58"/>
                        <a:pt x="330" y="34"/>
                        <a:pt x="364" y="0"/>
                      </a:cubicBezTo>
                    </a:path>
                  </a:pathLst>
                </a:custGeom>
                <a:noFill/>
                <a:ln w="9360">
                  <a:solidFill>
                    <a:srgbClr val="33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未知"/>
                <p:cNvSpPr/>
                <p:nvPr/>
              </p:nvSpPr>
              <p:spPr>
                <a:xfrm>
                  <a:off x="3069720" y="2225160"/>
                  <a:ext cx="7200" cy="54720"/>
                </a:xfrm>
                <a:custGeom>
                  <a:avLst/>
                  <a:gdLst/>
                  <a:ahLst/>
                  <a:rect l="l" t="t" r="r" b="b"/>
                  <a:pathLst>
                    <a:path w="24" h="336">
                      <a:moveTo>
                        <a:pt x="0" y="336"/>
                      </a:moveTo>
                      <a:cubicBezTo>
                        <a:pt x="4" y="288"/>
                        <a:pt x="6" y="240"/>
                        <a:pt x="12" y="192"/>
                      </a:cubicBezTo>
                      <a:cubicBezTo>
                        <a:pt x="14" y="179"/>
                        <a:pt x="24" y="169"/>
                        <a:pt x="24" y="156"/>
                      </a:cubicBezTo>
                      <a:cubicBezTo>
                        <a:pt x="24" y="104"/>
                        <a:pt x="12" y="52"/>
                        <a:pt x="12" y="0"/>
                      </a:cubicBezTo>
                    </a:path>
                  </a:pathLst>
                </a:custGeom>
                <a:noFill/>
                <a:ln w="9360">
                  <a:solidFill>
                    <a:srgbClr val="33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6" name=""/>
              <p:cNvGrpSpPr/>
              <p:nvPr/>
            </p:nvGrpSpPr>
            <p:grpSpPr>
              <a:xfrm>
                <a:off x="2971800" y="2361960"/>
                <a:ext cx="532800" cy="76320"/>
                <a:chOff x="2971800" y="2361960"/>
                <a:chExt cx="532800" cy="76320"/>
              </a:xfrm>
            </p:grpSpPr>
            <p:grpSp>
              <p:nvGrpSpPr>
                <p:cNvPr id="1137" name=""/>
                <p:cNvGrpSpPr/>
                <p:nvPr/>
              </p:nvGrpSpPr>
              <p:grpSpPr>
                <a:xfrm>
                  <a:off x="3123720" y="2361960"/>
                  <a:ext cx="228240" cy="76320"/>
                  <a:chOff x="3123720" y="2361960"/>
                  <a:chExt cx="228240" cy="76320"/>
                </a:xfrm>
              </p:grpSpPr>
              <p:sp>
                <p:nvSpPr>
                  <p:cNvPr id="1138" name="未知"/>
                  <p:cNvSpPr/>
                  <p:nvPr/>
                </p:nvSpPr>
                <p:spPr>
                  <a:xfrm>
                    <a:off x="3123720" y="2361960"/>
                    <a:ext cx="79560" cy="72360"/>
                  </a:xfrm>
                  <a:custGeom>
                    <a:avLst/>
                    <a:gdLst/>
                    <a:ahLst/>
                    <a:rect l="l" t="t" r="r" b="b"/>
                    <a:pathLst>
                      <a:path w="264" h="444">
                        <a:moveTo>
                          <a:pt x="0" y="0"/>
                        </a:moveTo>
                        <a:cubicBezTo>
                          <a:pt x="34" y="69"/>
                          <a:pt x="63" y="66"/>
                          <a:pt x="108" y="120"/>
                        </a:cubicBezTo>
                        <a:cubicBezTo>
                          <a:pt x="130" y="146"/>
                          <a:pt x="147" y="176"/>
                          <a:pt x="168" y="204"/>
                        </a:cubicBezTo>
                        <a:cubicBezTo>
                          <a:pt x="172" y="220"/>
                          <a:pt x="173" y="237"/>
                          <a:pt x="180" y="252"/>
                        </a:cubicBezTo>
                        <a:cubicBezTo>
                          <a:pt x="189" y="270"/>
                          <a:pt x="209" y="281"/>
                          <a:pt x="216" y="300"/>
                        </a:cubicBezTo>
                        <a:cubicBezTo>
                          <a:pt x="225" y="323"/>
                          <a:pt x="223" y="348"/>
                          <a:pt x="228" y="372"/>
                        </a:cubicBezTo>
                        <a:cubicBezTo>
                          <a:pt x="231" y="384"/>
                          <a:pt x="234" y="397"/>
                          <a:pt x="240" y="408"/>
                        </a:cubicBezTo>
                        <a:cubicBezTo>
                          <a:pt x="246" y="421"/>
                          <a:pt x="264" y="444"/>
                          <a:pt x="264" y="444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9" name="未知"/>
                  <p:cNvSpPr/>
                  <p:nvPr/>
                </p:nvSpPr>
                <p:spPr>
                  <a:xfrm>
                    <a:off x="3242160" y="2371680"/>
                    <a:ext cx="10980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364" h="408">
                        <a:moveTo>
                          <a:pt x="16" y="408"/>
                        </a:moveTo>
                        <a:cubicBezTo>
                          <a:pt x="27" y="241"/>
                          <a:pt x="0" y="165"/>
                          <a:pt x="160" y="108"/>
                        </a:cubicBezTo>
                        <a:cubicBezTo>
                          <a:pt x="187" y="98"/>
                          <a:pt x="216" y="92"/>
                          <a:pt x="244" y="84"/>
                        </a:cubicBezTo>
                        <a:cubicBezTo>
                          <a:pt x="282" y="58"/>
                          <a:pt x="330" y="34"/>
                          <a:pt x="364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0" name="未知"/>
                  <p:cNvSpPr/>
                  <p:nvPr/>
                </p:nvSpPr>
                <p:spPr>
                  <a:xfrm>
                    <a:off x="3221640" y="2377440"/>
                    <a:ext cx="720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36">
                        <a:moveTo>
                          <a:pt x="0" y="336"/>
                        </a:moveTo>
                        <a:cubicBezTo>
                          <a:pt x="4" y="288"/>
                          <a:pt x="6" y="240"/>
                          <a:pt x="12" y="192"/>
                        </a:cubicBezTo>
                        <a:cubicBezTo>
                          <a:pt x="14" y="179"/>
                          <a:pt x="24" y="169"/>
                          <a:pt x="24" y="156"/>
                        </a:cubicBezTo>
                        <a:cubicBezTo>
                          <a:pt x="24" y="104"/>
                          <a:pt x="12" y="52"/>
                          <a:pt x="12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41" name=""/>
                <p:cNvGrpSpPr/>
                <p:nvPr/>
              </p:nvGrpSpPr>
              <p:grpSpPr>
                <a:xfrm>
                  <a:off x="3276360" y="2361960"/>
                  <a:ext cx="228240" cy="76320"/>
                  <a:chOff x="3276360" y="2361960"/>
                  <a:chExt cx="228240" cy="76320"/>
                </a:xfrm>
              </p:grpSpPr>
              <p:sp>
                <p:nvSpPr>
                  <p:cNvPr id="1142" name="未知"/>
                  <p:cNvSpPr/>
                  <p:nvPr/>
                </p:nvSpPr>
                <p:spPr>
                  <a:xfrm>
                    <a:off x="3276360" y="2361960"/>
                    <a:ext cx="79560" cy="72360"/>
                  </a:xfrm>
                  <a:custGeom>
                    <a:avLst/>
                    <a:gdLst/>
                    <a:ahLst/>
                    <a:rect l="l" t="t" r="r" b="b"/>
                    <a:pathLst>
                      <a:path w="264" h="444">
                        <a:moveTo>
                          <a:pt x="0" y="0"/>
                        </a:moveTo>
                        <a:cubicBezTo>
                          <a:pt x="34" y="69"/>
                          <a:pt x="63" y="66"/>
                          <a:pt x="108" y="120"/>
                        </a:cubicBezTo>
                        <a:cubicBezTo>
                          <a:pt x="130" y="146"/>
                          <a:pt x="147" y="176"/>
                          <a:pt x="168" y="204"/>
                        </a:cubicBezTo>
                        <a:cubicBezTo>
                          <a:pt x="172" y="220"/>
                          <a:pt x="173" y="237"/>
                          <a:pt x="180" y="252"/>
                        </a:cubicBezTo>
                        <a:cubicBezTo>
                          <a:pt x="189" y="270"/>
                          <a:pt x="209" y="281"/>
                          <a:pt x="216" y="300"/>
                        </a:cubicBezTo>
                        <a:cubicBezTo>
                          <a:pt x="225" y="323"/>
                          <a:pt x="223" y="348"/>
                          <a:pt x="228" y="372"/>
                        </a:cubicBezTo>
                        <a:cubicBezTo>
                          <a:pt x="231" y="384"/>
                          <a:pt x="234" y="397"/>
                          <a:pt x="240" y="408"/>
                        </a:cubicBezTo>
                        <a:cubicBezTo>
                          <a:pt x="246" y="421"/>
                          <a:pt x="264" y="444"/>
                          <a:pt x="264" y="444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" name="未知"/>
                  <p:cNvSpPr/>
                  <p:nvPr/>
                </p:nvSpPr>
                <p:spPr>
                  <a:xfrm>
                    <a:off x="3394800" y="2371680"/>
                    <a:ext cx="10980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364" h="408">
                        <a:moveTo>
                          <a:pt x="16" y="408"/>
                        </a:moveTo>
                        <a:cubicBezTo>
                          <a:pt x="27" y="241"/>
                          <a:pt x="0" y="165"/>
                          <a:pt x="160" y="108"/>
                        </a:cubicBezTo>
                        <a:cubicBezTo>
                          <a:pt x="187" y="98"/>
                          <a:pt x="216" y="92"/>
                          <a:pt x="244" y="84"/>
                        </a:cubicBezTo>
                        <a:cubicBezTo>
                          <a:pt x="282" y="58"/>
                          <a:pt x="330" y="34"/>
                          <a:pt x="364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" name="未知"/>
                  <p:cNvSpPr/>
                  <p:nvPr/>
                </p:nvSpPr>
                <p:spPr>
                  <a:xfrm>
                    <a:off x="3374280" y="2377440"/>
                    <a:ext cx="720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36">
                        <a:moveTo>
                          <a:pt x="0" y="336"/>
                        </a:moveTo>
                        <a:cubicBezTo>
                          <a:pt x="4" y="288"/>
                          <a:pt x="6" y="240"/>
                          <a:pt x="12" y="192"/>
                        </a:cubicBezTo>
                        <a:cubicBezTo>
                          <a:pt x="14" y="179"/>
                          <a:pt x="24" y="169"/>
                          <a:pt x="24" y="156"/>
                        </a:cubicBezTo>
                        <a:cubicBezTo>
                          <a:pt x="24" y="104"/>
                          <a:pt x="12" y="52"/>
                          <a:pt x="12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45" name=""/>
                <p:cNvGrpSpPr/>
                <p:nvPr/>
              </p:nvGrpSpPr>
              <p:grpSpPr>
                <a:xfrm>
                  <a:off x="2971800" y="2361960"/>
                  <a:ext cx="228240" cy="76320"/>
                  <a:chOff x="2971800" y="2361960"/>
                  <a:chExt cx="228240" cy="76320"/>
                </a:xfrm>
              </p:grpSpPr>
              <p:sp>
                <p:nvSpPr>
                  <p:cNvPr id="1146" name="未知"/>
                  <p:cNvSpPr/>
                  <p:nvPr/>
                </p:nvSpPr>
                <p:spPr>
                  <a:xfrm>
                    <a:off x="2971800" y="2361960"/>
                    <a:ext cx="79560" cy="72360"/>
                  </a:xfrm>
                  <a:custGeom>
                    <a:avLst/>
                    <a:gdLst/>
                    <a:ahLst/>
                    <a:rect l="l" t="t" r="r" b="b"/>
                    <a:pathLst>
                      <a:path w="264" h="444">
                        <a:moveTo>
                          <a:pt x="0" y="0"/>
                        </a:moveTo>
                        <a:cubicBezTo>
                          <a:pt x="34" y="69"/>
                          <a:pt x="63" y="66"/>
                          <a:pt x="108" y="120"/>
                        </a:cubicBezTo>
                        <a:cubicBezTo>
                          <a:pt x="130" y="146"/>
                          <a:pt x="147" y="176"/>
                          <a:pt x="168" y="204"/>
                        </a:cubicBezTo>
                        <a:cubicBezTo>
                          <a:pt x="172" y="220"/>
                          <a:pt x="173" y="237"/>
                          <a:pt x="180" y="252"/>
                        </a:cubicBezTo>
                        <a:cubicBezTo>
                          <a:pt x="189" y="270"/>
                          <a:pt x="209" y="281"/>
                          <a:pt x="216" y="300"/>
                        </a:cubicBezTo>
                        <a:cubicBezTo>
                          <a:pt x="225" y="323"/>
                          <a:pt x="223" y="348"/>
                          <a:pt x="228" y="372"/>
                        </a:cubicBezTo>
                        <a:cubicBezTo>
                          <a:pt x="231" y="384"/>
                          <a:pt x="234" y="397"/>
                          <a:pt x="240" y="408"/>
                        </a:cubicBezTo>
                        <a:cubicBezTo>
                          <a:pt x="246" y="421"/>
                          <a:pt x="264" y="444"/>
                          <a:pt x="264" y="444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" name="未知"/>
                  <p:cNvSpPr/>
                  <p:nvPr/>
                </p:nvSpPr>
                <p:spPr>
                  <a:xfrm>
                    <a:off x="3090240" y="2371680"/>
                    <a:ext cx="10980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364" h="408">
                        <a:moveTo>
                          <a:pt x="16" y="408"/>
                        </a:moveTo>
                        <a:cubicBezTo>
                          <a:pt x="27" y="241"/>
                          <a:pt x="0" y="165"/>
                          <a:pt x="160" y="108"/>
                        </a:cubicBezTo>
                        <a:cubicBezTo>
                          <a:pt x="187" y="98"/>
                          <a:pt x="216" y="92"/>
                          <a:pt x="244" y="84"/>
                        </a:cubicBezTo>
                        <a:cubicBezTo>
                          <a:pt x="282" y="58"/>
                          <a:pt x="330" y="34"/>
                          <a:pt x="364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8" name="未知"/>
                  <p:cNvSpPr/>
                  <p:nvPr/>
                </p:nvSpPr>
                <p:spPr>
                  <a:xfrm>
                    <a:off x="3069720" y="2377440"/>
                    <a:ext cx="720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36">
                        <a:moveTo>
                          <a:pt x="0" y="336"/>
                        </a:moveTo>
                        <a:cubicBezTo>
                          <a:pt x="4" y="288"/>
                          <a:pt x="6" y="240"/>
                          <a:pt x="12" y="192"/>
                        </a:cubicBezTo>
                        <a:cubicBezTo>
                          <a:pt x="14" y="179"/>
                          <a:pt x="24" y="169"/>
                          <a:pt x="24" y="156"/>
                        </a:cubicBezTo>
                        <a:cubicBezTo>
                          <a:pt x="24" y="104"/>
                          <a:pt x="12" y="52"/>
                          <a:pt x="12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49" name=""/>
              <p:cNvGrpSpPr/>
              <p:nvPr/>
            </p:nvGrpSpPr>
            <p:grpSpPr>
              <a:xfrm>
                <a:off x="2438280" y="2361960"/>
                <a:ext cx="533520" cy="76320"/>
                <a:chOff x="2438280" y="2361960"/>
                <a:chExt cx="533520" cy="76320"/>
              </a:xfrm>
            </p:grpSpPr>
            <p:grpSp>
              <p:nvGrpSpPr>
                <p:cNvPr id="1150" name=""/>
                <p:cNvGrpSpPr/>
                <p:nvPr/>
              </p:nvGrpSpPr>
              <p:grpSpPr>
                <a:xfrm>
                  <a:off x="2590560" y="2361960"/>
                  <a:ext cx="228600" cy="76320"/>
                  <a:chOff x="2590560" y="2361960"/>
                  <a:chExt cx="228600" cy="76320"/>
                </a:xfrm>
              </p:grpSpPr>
              <p:sp>
                <p:nvSpPr>
                  <p:cNvPr id="1151" name="未知"/>
                  <p:cNvSpPr/>
                  <p:nvPr/>
                </p:nvSpPr>
                <p:spPr>
                  <a:xfrm>
                    <a:off x="2590560" y="2361960"/>
                    <a:ext cx="79560" cy="72360"/>
                  </a:xfrm>
                  <a:custGeom>
                    <a:avLst/>
                    <a:gdLst/>
                    <a:ahLst/>
                    <a:rect l="l" t="t" r="r" b="b"/>
                    <a:pathLst>
                      <a:path w="264" h="444">
                        <a:moveTo>
                          <a:pt x="0" y="0"/>
                        </a:moveTo>
                        <a:cubicBezTo>
                          <a:pt x="34" y="69"/>
                          <a:pt x="63" y="66"/>
                          <a:pt x="108" y="120"/>
                        </a:cubicBezTo>
                        <a:cubicBezTo>
                          <a:pt x="130" y="146"/>
                          <a:pt x="147" y="176"/>
                          <a:pt x="168" y="204"/>
                        </a:cubicBezTo>
                        <a:cubicBezTo>
                          <a:pt x="172" y="220"/>
                          <a:pt x="173" y="237"/>
                          <a:pt x="180" y="252"/>
                        </a:cubicBezTo>
                        <a:cubicBezTo>
                          <a:pt x="189" y="270"/>
                          <a:pt x="209" y="281"/>
                          <a:pt x="216" y="300"/>
                        </a:cubicBezTo>
                        <a:cubicBezTo>
                          <a:pt x="225" y="323"/>
                          <a:pt x="223" y="348"/>
                          <a:pt x="228" y="372"/>
                        </a:cubicBezTo>
                        <a:cubicBezTo>
                          <a:pt x="231" y="384"/>
                          <a:pt x="234" y="397"/>
                          <a:pt x="240" y="408"/>
                        </a:cubicBezTo>
                        <a:cubicBezTo>
                          <a:pt x="246" y="421"/>
                          <a:pt x="264" y="444"/>
                          <a:pt x="264" y="444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" name="未知"/>
                  <p:cNvSpPr/>
                  <p:nvPr/>
                </p:nvSpPr>
                <p:spPr>
                  <a:xfrm>
                    <a:off x="2709000" y="2371680"/>
                    <a:ext cx="11016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364" h="408">
                        <a:moveTo>
                          <a:pt x="16" y="408"/>
                        </a:moveTo>
                        <a:cubicBezTo>
                          <a:pt x="27" y="241"/>
                          <a:pt x="0" y="165"/>
                          <a:pt x="160" y="108"/>
                        </a:cubicBezTo>
                        <a:cubicBezTo>
                          <a:pt x="187" y="98"/>
                          <a:pt x="216" y="92"/>
                          <a:pt x="244" y="84"/>
                        </a:cubicBezTo>
                        <a:cubicBezTo>
                          <a:pt x="282" y="58"/>
                          <a:pt x="330" y="34"/>
                          <a:pt x="364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3" name="未知"/>
                  <p:cNvSpPr/>
                  <p:nvPr/>
                </p:nvSpPr>
                <p:spPr>
                  <a:xfrm>
                    <a:off x="2688480" y="2377440"/>
                    <a:ext cx="720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36">
                        <a:moveTo>
                          <a:pt x="0" y="336"/>
                        </a:moveTo>
                        <a:cubicBezTo>
                          <a:pt x="4" y="288"/>
                          <a:pt x="6" y="240"/>
                          <a:pt x="12" y="192"/>
                        </a:cubicBezTo>
                        <a:cubicBezTo>
                          <a:pt x="14" y="179"/>
                          <a:pt x="24" y="169"/>
                          <a:pt x="24" y="156"/>
                        </a:cubicBezTo>
                        <a:cubicBezTo>
                          <a:pt x="24" y="104"/>
                          <a:pt x="12" y="52"/>
                          <a:pt x="12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54" name=""/>
                <p:cNvGrpSpPr/>
                <p:nvPr/>
              </p:nvGrpSpPr>
              <p:grpSpPr>
                <a:xfrm>
                  <a:off x="2743200" y="2361960"/>
                  <a:ext cx="228600" cy="76320"/>
                  <a:chOff x="2743200" y="2361960"/>
                  <a:chExt cx="228600" cy="76320"/>
                </a:xfrm>
              </p:grpSpPr>
              <p:sp>
                <p:nvSpPr>
                  <p:cNvPr id="1155" name="未知"/>
                  <p:cNvSpPr/>
                  <p:nvPr/>
                </p:nvSpPr>
                <p:spPr>
                  <a:xfrm>
                    <a:off x="2743200" y="2361960"/>
                    <a:ext cx="79560" cy="72360"/>
                  </a:xfrm>
                  <a:custGeom>
                    <a:avLst/>
                    <a:gdLst/>
                    <a:ahLst/>
                    <a:rect l="l" t="t" r="r" b="b"/>
                    <a:pathLst>
                      <a:path w="264" h="444">
                        <a:moveTo>
                          <a:pt x="0" y="0"/>
                        </a:moveTo>
                        <a:cubicBezTo>
                          <a:pt x="34" y="69"/>
                          <a:pt x="63" y="66"/>
                          <a:pt x="108" y="120"/>
                        </a:cubicBezTo>
                        <a:cubicBezTo>
                          <a:pt x="130" y="146"/>
                          <a:pt x="147" y="176"/>
                          <a:pt x="168" y="204"/>
                        </a:cubicBezTo>
                        <a:cubicBezTo>
                          <a:pt x="172" y="220"/>
                          <a:pt x="173" y="237"/>
                          <a:pt x="180" y="252"/>
                        </a:cubicBezTo>
                        <a:cubicBezTo>
                          <a:pt x="189" y="270"/>
                          <a:pt x="209" y="281"/>
                          <a:pt x="216" y="300"/>
                        </a:cubicBezTo>
                        <a:cubicBezTo>
                          <a:pt x="225" y="323"/>
                          <a:pt x="223" y="348"/>
                          <a:pt x="228" y="372"/>
                        </a:cubicBezTo>
                        <a:cubicBezTo>
                          <a:pt x="231" y="384"/>
                          <a:pt x="234" y="397"/>
                          <a:pt x="240" y="408"/>
                        </a:cubicBezTo>
                        <a:cubicBezTo>
                          <a:pt x="246" y="421"/>
                          <a:pt x="264" y="444"/>
                          <a:pt x="264" y="444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6" name="未知"/>
                  <p:cNvSpPr/>
                  <p:nvPr/>
                </p:nvSpPr>
                <p:spPr>
                  <a:xfrm>
                    <a:off x="2861640" y="2371680"/>
                    <a:ext cx="11016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364" h="408">
                        <a:moveTo>
                          <a:pt x="16" y="408"/>
                        </a:moveTo>
                        <a:cubicBezTo>
                          <a:pt x="27" y="241"/>
                          <a:pt x="0" y="165"/>
                          <a:pt x="160" y="108"/>
                        </a:cubicBezTo>
                        <a:cubicBezTo>
                          <a:pt x="187" y="98"/>
                          <a:pt x="216" y="92"/>
                          <a:pt x="244" y="84"/>
                        </a:cubicBezTo>
                        <a:cubicBezTo>
                          <a:pt x="282" y="58"/>
                          <a:pt x="330" y="34"/>
                          <a:pt x="364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7" name="未知"/>
                  <p:cNvSpPr/>
                  <p:nvPr/>
                </p:nvSpPr>
                <p:spPr>
                  <a:xfrm>
                    <a:off x="2841120" y="2377440"/>
                    <a:ext cx="720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36">
                        <a:moveTo>
                          <a:pt x="0" y="336"/>
                        </a:moveTo>
                        <a:cubicBezTo>
                          <a:pt x="4" y="288"/>
                          <a:pt x="6" y="240"/>
                          <a:pt x="12" y="192"/>
                        </a:cubicBezTo>
                        <a:cubicBezTo>
                          <a:pt x="14" y="179"/>
                          <a:pt x="24" y="169"/>
                          <a:pt x="24" y="156"/>
                        </a:cubicBezTo>
                        <a:cubicBezTo>
                          <a:pt x="24" y="104"/>
                          <a:pt x="12" y="52"/>
                          <a:pt x="12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58" name=""/>
                <p:cNvGrpSpPr/>
                <p:nvPr/>
              </p:nvGrpSpPr>
              <p:grpSpPr>
                <a:xfrm>
                  <a:off x="2438280" y="2361960"/>
                  <a:ext cx="228600" cy="76320"/>
                  <a:chOff x="2438280" y="2361960"/>
                  <a:chExt cx="228600" cy="76320"/>
                </a:xfrm>
              </p:grpSpPr>
              <p:sp>
                <p:nvSpPr>
                  <p:cNvPr id="1159" name="未知"/>
                  <p:cNvSpPr/>
                  <p:nvPr/>
                </p:nvSpPr>
                <p:spPr>
                  <a:xfrm>
                    <a:off x="2438280" y="2361960"/>
                    <a:ext cx="79560" cy="72360"/>
                  </a:xfrm>
                  <a:custGeom>
                    <a:avLst/>
                    <a:gdLst/>
                    <a:ahLst/>
                    <a:rect l="l" t="t" r="r" b="b"/>
                    <a:pathLst>
                      <a:path w="264" h="444">
                        <a:moveTo>
                          <a:pt x="0" y="0"/>
                        </a:moveTo>
                        <a:cubicBezTo>
                          <a:pt x="34" y="69"/>
                          <a:pt x="63" y="66"/>
                          <a:pt x="108" y="120"/>
                        </a:cubicBezTo>
                        <a:cubicBezTo>
                          <a:pt x="130" y="146"/>
                          <a:pt x="147" y="176"/>
                          <a:pt x="168" y="204"/>
                        </a:cubicBezTo>
                        <a:cubicBezTo>
                          <a:pt x="172" y="220"/>
                          <a:pt x="173" y="237"/>
                          <a:pt x="180" y="252"/>
                        </a:cubicBezTo>
                        <a:cubicBezTo>
                          <a:pt x="189" y="270"/>
                          <a:pt x="209" y="281"/>
                          <a:pt x="216" y="300"/>
                        </a:cubicBezTo>
                        <a:cubicBezTo>
                          <a:pt x="225" y="323"/>
                          <a:pt x="223" y="348"/>
                          <a:pt x="228" y="372"/>
                        </a:cubicBezTo>
                        <a:cubicBezTo>
                          <a:pt x="231" y="384"/>
                          <a:pt x="234" y="397"/>
                          <a:pt x="240" y="408"/>
                        </a:cubicBezTo>
                        <a:cubicBezTo>
                          <a:pt x="246" y="421"/>
                          <a:pt x="264" y="444"/>
                          <a:pt x="264" y="444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" name="未知"/>
                  <p:cNvSpPr/>
                  <p:nvPr/>
                </p:nvSpPr>
                <p:spPr>
                  <a:xfrm>
                    <a:off x="2556720" y="2371680"/>
                    <a:ext cx="11016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364" h="408">
                        <a:moveTo>
                          <a:pt x="16" y="408"/>
                        </a:moveTo>
                        <a:cubicBezTo>
                          <a:pt x="27" y="241"/>
                          <a:pt x="0" y="165"/>
                          <a:pt x="160" y="108"/>
                        </a:cubicBezTo>
                        <a:cubicBezTo>
                          <a:pt x="187" y="98"/>
                          <a:pt x="216" y="92"/>
                          <a:pt x="244" y="84"/>
                        </a:cubicBezTo>
                        <a:cubicBezTo>
                          <a:pt x="282" y="58"/>
                          <a:pt x="330" y="34"/>
                          <a:pt x="364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未知"/>
                  <p:cNvSpPr/>
                  <p:nvPr/>
                </p:nvSpPr>
                <p:spPr>
                  <a:xfrm>
                    <a:off x="2536200" y="2377440"/>
                    <a:ext cx="720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36">
                        <a:moveTo>
                          <a:pt x="0" y="336"/>
                        </a:moveTo>
                        <a:cubicBezTo>
                          <a:pt x="4" y="288"/>
                          <a:pt x="6" y="240"/>
                          <a:pt x="12" y="192"/>
                        </a:cubicBezTo>
                        <a:cubicBezTo>
                          <a:pt x="14" y="179"/>
                          <a:pt x="24" y="169"/>
                          <a:pt x="24" y="156"/>
                        </a:cubicBezTo>
                        <a:cubicBezTo>
                          <a:pt x="24" y="104"/>
                          <a:pt x="12" y="52"/>
                          <a:pt x="12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62" name=""/>
              <p:cNvGrpSpPr/>
              <p:nvPr/>
            </p:nvGrpSpPr>
            <p:grpSpPr>
              <a:xfrm>
                <a:off x="3047760" y="2438280"/>
                <a:ext cx="533520" cy="76320"/>
                <a:chOff x="3047760" y="2438280"/>
                <a:chExt cx="533520" cy="76320"/>
              </a:xfrm>
            </p:grpSpPr>
            <p:grpSp>
              <p:nvGrpSpPr>
                <p:cNvPr id="1163" name=""/>
                <p:cNvGrpSpPr/>
                <p:nvPr/>
              </p:nvGrpSpPr>
              <p:grpSpPr>
                <a:xfrm>
                  <a:off x="3200040" y="2438280"/>
                  <a:ext cx="228600" cy="76320"/>
                  <a:chOff x="3200040" y="2438280"/>
                  <a:chExt cx="228600" cy="76320"/>
                </a:xfrm>
              </p:grpSpPr>
              <p:sp>
                <p:nvSpPr>
                  <p:cNvPr id="1164" name="未知"/>
                  <p:cNvSpPr/>
                  <p:nvPr/>
                </p:nvSpPr>
                <p:spPr>
                  <a:xfrm>
                    <a:off x="3200040" y="2438280"/>
                    <a:ext cx="79560" cy="72360"/>
                  </a:xfrm>
                  <a:custGeom>
                    <a:avLst/>
                    <a:gdLst/>
                    <a:ahLst/>
                    <a:rect l="l" t="t" r="r" b="b"/>
                    <a:pathLst>
                      <a:path w="264" h="444">
                        <a:moveTo>
                          <a:pt x="0" y="0"/>
                        </a:moveTo>
                        <a:cubicBezTo>
                          <a:pt x="34" y="69"/>
                          <a:pt x="63" y="66"/>
                          <a:pt x="108" y="120"/>
                        </a:cubicBezTo>
                        <a:cubicBezTo>
                          <a:pt x="130" y="146"/>
                          <a:pt x="147" y="176"/>
                          <a:pt x="168" y="204"/>
                        </a:cubicBezTo>
                        <a:cubicBezTo>
                          <a:pt x="172" y="220"/>
                          <a:pt x="173" y="237"/>
                          <a:pt x="180" y="252"/>
                        </a:cubicBezTo>
                        <a:cubicBezTo>
                          <a:pt x="189" y="270"/>
                          <a:pt x="209" y="281"/>
                          <a:pt x="216" y="300"/>
                        </a:cubicBezTo>
                        <a:cubicBezTo>
                          <a:pt x="225" y="323"/>
                          <a:pt x="223" y="348"/>
                          <a:pt x="228" y="372"/>
                        </a:cubicBezTo>
                        <a:cubicBezTo>
                          <a:pt x="231" y="384"/>
                          <a:pt x="234" y="397"/>
                          <a:pt x="240" y="408"/>
                        </a:cubicBezTo>
                        <a:cubicBezTo>
                          <a:pt x="246" y="421"/>
                          <a:pt x="264" y="444"/>
                          <a:pt x="264" y="444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5" name="未知"/>
                  <p:cNvSpPr/>
                  <p:nvPr/>
                </p:nvSpPr>
                <p:spPr>
                  <a:xfrm>
                    <a:off x="3318480" y="2448000"/>
                    <a:ext cx="11016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364" h="408">
                        <a:moveTo>
                          <a:pt x="16" y="408"/>
                        </a:moveTo>
                        <a:cubicBezTo>
                          <a:pt x="27" y="241"/>
                          <a:pt x="0" y="165"/>
                          <a:pt x="160" y="108"/>
                        </a:cubicBezTo>
                        <a:cubicBezTo>
                          <a:pt x="187" y="98"/>
                          <a:pt x="216" y="92"/>
                          <a:pt x="244" y="84"/>
                        </a:cubicBezTo>
                        <a:cubicBezTo>
                          <a:pt x="282" y="58"/>
                          <a:pt x="330" y="34"/>
                          <a:pt x="364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6" name="未知"/>
                  <p:cNvSpPr/>
                  <p:nvPr/>
                </p:nvSpPr>
                <p:spPr>
                  <a:xfrm>
                    <a:off x="3297960" y="2453760"/>
                    <a:ext cx="720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36">
                        <a:moveTo>
                          <a:pt x="0" y="336"/>
                        </a:moveTo>
                        <a:cubicBezTo>
                          <a:pt x="4" y="288"/>
                          <a:pt x="6" y="240"/>
                          <a:pt x="12" y="192"/>
                        </a:cubicBezTo>
                        <a:cubicBezTo>
                          <a:pt x="14" y="179"/>
                          <a:pt x="24" y="169"/>
                          <a:pt x="24" y="156"/>
                        </a:cubicBezTo>
                        <a:cubicBezTo>
                          <a:pt x="24" y="104"/>
                          <a:pt x="12" y="52"/>
                          <a:pt x="12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67" name=""/>
                <p:cNvGrpSpPr/>
                <p:nvPr/>
              </p:nvGrpSpPr>
              <p:grpSpPr>
                <a:xfrm>
                  <a:off x="3352680" y="2438280"/>
                  <a:ext cx="228600" cy="76320"/>
                  <a:chOff x="3352680" y="2438280"/>
                  <a:chExt cx="228600" cy="76320"/>
                </a:xfrm>
              </p:grpSpPr>
              <p:sp>
                <p:nvSpPr>
                  <p:cNvPr id="1168" name="未知"/>
                  <p:cNvSpPr/>
                  <p:nvPr/>
                </p:nvSpPr>
                <p:spPr>
                  <a:xfrm>
                    <a:off x="3352680" y="2438280"/>
                    <a:ext cx="79560" cy="72360"/>
                  </a:xfrm>
                  <a:custGeom>
                    <a:avLst/>
                    <a:gdLst/>
                    <a:ahLst/>
                    <a:rect l="l" t="t" r="r" b="b"/>
                    <a:pathLst>
                      <a:path w="264" h="444">
                        <a:moveTo>
                          <a:pt x="0" y="0"/>
                        </a:moveTo>
                        <a:cubicBezTo>
                          <a:pt x="34" y="69"/>
                          <a:pt x="63" y="66"/>
                          <a:pt x="108" y="120"/>
                        </a:cubicBezTo>
                        <a:cubicBezTo>
                          <a:pt x="130" y="146"/>
                          <a:pt x="147" y="176"/>
                          <a:pt x="168" y="204"/>
                        </a:cubicBezTo>
                        <a:cubicBezTo>
                          <a:pt x="172" y="220"/>
                          <a:pt x="173" y="237"/>
                          <a:pt x="180" y="252"/>
                        </a:cubicBezTo>
                        <a:cubicBezTo>
                          <a:pt x="189" y="270"/>
                          <a:pt x="209" y="281"/>
                          <a:pt x="216" y="300"/>
                        </a:cubicBezTo>
                        <a:cubicBezTo>
                          <a:pt x="225" y="323"/>
                          <a:pt x="223" y="348"/>
                          <a:pt x="228" y="372"/>
                        </a:cubicBezTo>
                        <a:cubicBezTo>
                          <a:pt x="231" y="384"/>
                          <a:pt x="234" y="397"/>
                          <a:pt x="240" y="408"/>
                        </a:cubicBezTo>
                        <a:cubicBezTo>
                          <a:pt x="246" y="421"/>
                          <a:pt x="264" y="444"/>
                          <a:pt x="264" y="444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" name="未知"/>
                  <p:cNvSpPr/>
                  <p:nvPr/>
                </p:nvSpPr>
                <p:spPr>
                  <a:xfrm>
                    <a:off x="3471120" y="2448000"/>
                    <a:ext cx="11016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364" h="408">
                        <a:moveTo>
                          <a:pt x="16" y="408"/>
                        </a:moveTo>
                        <a:cubicBezTo>
                          <a:pt x="27" y="241"/>
                          <a:pt x="0" y="165"/>
                          <a:pt x="160" y="108"/>
                        </a:cubicBezTo>
                        <a:cubicBezTo>
                          <a:pt x="187" y="98"/>
                          <a:pt x="216" y="92"/>
                          <a:pt x="244" y="84"/>
                        </a:cubicBezTo>
                        <a:cubicBezTo>
                          <a:pt x="282" y="58"/>
                          <a:pt x="330" y="34"/>
                          <a:pt x="364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0" name="未知"/>
                  <p:cNvSpPr/>
                  <p:nvPr/>
                </p:nvSpPr>
                <p:spPr>
                  <a:xfrm>
                    <a:off x="3450600" y="2453760"/>
                    <a:ext cx="720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36">
                        <a:moveTo>
                          <a:pt x="0" y="336"/>
                        </a:moveTo>
                        <a:cubicBezTo>
                          <a:pt x="4" y="288"/>
                          <a:pt x="6" y="240"/>
                          <a:pt x="12" y="192"/>
                        </a:cubicBezTo>
                        <a:cubicBezTo>
                          <a:pt x="14" y="179"/>
                          <a:pt x="24" y="169"/>
                          <a:pt x="24" y="156"/>
                        </a:cubicBezTo>
                        <a:cubicBezTo>
                          <a:pt x="24" y="104"/>
                          <a:pt x="12" y="52"/>
                          <a:pt x="12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71" name=""/>
                <p:cNvGrpSpPr/>
                <p:nvPr/>
              </p:nvGrpSpPr>
              <p:grpSpPr>
                <a:xfrm>
                  <a:off x="3047760" y="2438280"/>
                  <a:ext cx="228600" cy="76320"/>
                  <a:chOff x="3047760" y="2438280"/>
                  <a:chExt cx="228600" cy="76320"/>
                </a:xfrm>
              </p:grpSpPr>
              <p:sp>
                <p:nvSpPr>
                  <p:cNvPr id="1172" name="未知"/>
                  <p:cNvSpPr/>
                  <p:nvPr/>
                </p:nvSpPr>
                <p:spPr>
                  <a:xfrm>
                    <a:off x="3047760" y="2438280"/>
                    <a:ext cx="79560" cy="72360"/>
                  </a:xfrm>
                  <a:custGeom>
                    <a:avLst/>
                    <a:gdLst/>
                    <a:ahLst/>
                    <a:rect l="l" t="t" r="r" b="b"/>
                    <a:pathLst>
                      <a:path w="264" h="444">
                        <a:moveTo>
                          <a:pt x="0" y="0"/>
                        </a:moveTo>
                        <a:cubicBezTo>
                          <a:pt x="34" y="69"/>
                          <a:pt x="63" y="66"/>
                          <a:pt x="108" y="120"/>
                        </a:cubicBezTo>
                        <a:cubicBezTo>
                          <a:pt x="130" y="146"/>
                          <a:pt x="147" y="176"/>
                          <a:pt x="168" y="204"/>
                        </a:cubicBezTo>
                        <a:cubicBezTo>
                          <a:pt x="172" y="220"/>
                          <a:pt x="173" y="237"/>
                          <a:pt x="180" y="252"/>
                        </a:cubicBezTo>
                        <a:cubicBezTo>
                          <a:pt x="189" y="270"/>
                          <a:pt x="209" y="281"/>
                          <a:pt x="216" y="300"/>
                        </a:cubicBezTo>
                        <a:cubicBezTo>
                          <a:pt x="225" y="323"/>
                          <a:pt x="223" y="348"/>
                          <a:pt x="228" y="372"/>
                        </a:cubicBezTo>
                        <a:cubicBezTo>
                          <a:pt x="231" y="384"/>
                          <a:pt x="234" y="397"/>
                          <a:pt x="240" y="408"/>
                        </a:cubicBezTo>
                        <a:cubicBezTo>
                          <a:pt x="246" y="421"/>
                          <a:pt x="264" y="444"/>
                          <a:pt x="264" y="444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" name="未知"/>
                  <p:cNvSpPr/>
                  <p:nvPr/>
                </p:nvSpPr>
                <p:spPr>
                  <a:xfrm>
                    <a:off x="3166200" y="2448000"/>
                    <a:ext cx="11016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364" h="408">
                        <a:moveTo>
                          <a:pt x="16" y="408"/>
                        </a:moveTo>
                        <a:cubicBezTo>
                          <a:pt x="27" y="241"/>
                          <a:pt x="0" y="165"/>
                          <a:pt x="160" y="108"/>
                        </a:cubicBezTo>
                        <a:cubicBezTo>
                          <a:pt x="187" y="98"/>
                          <a:pt x="216" y="92"/>
                          <a:pt x="244" y="84"/>
                        </a:cubicBezTo>
                        <a:cubicBezTo>
                          <a:pt x="282" y="58"/>
                          <a:pt x="330" y="34"/>
                          <a:pt x="364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未知"/>
                  <p:cNvSpPr/>
                  <p:nvPr/>
                </p:nvSpPr>
                <p:spPr>
                  <a:xfrm>
                    <a:off x="3145680" y="2453760"/>
                    <a:ext cx="720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36">
                        <a:moveTo>
                          <a:pt x="0" y="336"/>
                        </a:moveTo>
                        <a:cubicBezTo>
                          <a:pt x="4" y="288"/>
                          <a:pt x="6" y="240"/>
                          <a:pt x="12" y="192"/>
                        </a:cubicBezTo>
                        <a:cubicBezTo>
                          <a:pt x="14" y="179"/>
                          <a:pt x="24" y="169"/>
                          <a:pt x="24" y="156"/>
                        </a:cubicBezTo>
                        <a:cubicBezTo>
                          <a:pt x="24" y="104"/>
                          <a:pt x="12" y="52"/>
                          <a:pt x="12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175" name=""/>
            <p:cNvGrpSpPr/>
            <p:nvPr/>
          </p:nvGrpSpPr>
          <p:grpSpPr>
            <a:xfrm>
              <a:off x="1981080" y="1981080"/>
              <a:ext cx="1143000" cy="380880"/>
              <a:chOff x="1981080" y="1981080"/>
              <a:chExt cx="1143000" cy="380880"/>
            </a:xfrm>
          </p:grpSpPr>
          <p:grpSp>
            <p:nvGrpSpPr>
              <p:cNvPr id="1176" name=""/>
              <p:cNvGrpSpPr/>
              <p:nvPr/>
            </p:nvGrpSpPr>
            <p:grpSpPr>
              <a:xfrm>
                <a:off x="2209680" y="2286000"/>
                <a:ext cx="533520" cy="75960"/>
                <a:chOff x="2209680" y="2286000"/>
                <a:chExt cx="533520" cy="75960"/>
              </a:xfrm>
            </p:grpSpPr>
            <p:grpSp>
              <p:nvGrpSpPr>
                <p:cNvPr id="1177" name=""/>
                <p:cNvGrpSpPr/>
                <p:nvPr/>
              </p:nvGrpSpPr>
              <p:grpSpPr>
                <a:xfrm>
                  <a:off x="2361960" y="2286000"/>
                  <a:ext cx="228600" cy="75960"/>
                  <a:chOff x="2361960" y="2286000"/>
                  <a:chExt cx="228600" cy="75960"/>
                </a:xfrm>
              </p:grpSpPr>
              <p:sp>
                <p:nvSpPr>
                  <p:cNvPr id="1178" name="未知"/>
                  <p:cNvSpPr/>
                  <p:nvPr/>
                </p:nvSpPr>
                <p:spPr>
                  <a:xfrm>
                    <a:off x="2361960" y="2286000"/>
                    <a:ext cx="79560" cy="72360"/>
                  </a:xfrm>
                  <a:custGeom>
                    <a:avLst/>
                    <a:gdLst/>
                    <a:ahLst/>
                    <a:rect l="l" t="t" r="r" b="b"/>
                    <a:pathLst>
                      <a:path w="264" h="444">
                        <a:moveTo>
                          <a:pt x="0" y="0"/>
                        </a:moveTo>
                        <a:cubicBezTo>
                          <a:pt x="34" y="69"/>
                          <a:pt x="63" y="66"/>
                          <a:pt x="108" y="120"/>
                        </a:cubicBezTo>
                        <a:cubicBezTo>
                          <a:pt x="130" y="146"/>
                          <a:pt x="147" y="176"/>
                          <a:pt x="168" y="204"/>
                        </a:cubicBezTo>
                        <a:cubicBezTo>
                          <a:pt x="172" y="220"/>
                          <a:pt x="173" y="237"/>
                          <a:pt x="180" y="252"/>
                        </a:cubicBezTo>
                        <a:cubicBezTo>
                          <a:pt x="189" y="270"/>
                          <a:pt x="209" y="281"/>
                          <a:pt x="216" y="300"/>
                        </a:cubicBezTo>
                        <a:cubicBezTo>
                          <a:pt x="225" y="323"/>
                          <a:pt x="223" y="348"/>
                          <a:pt x="228" y="372"/>
                        </a:cubicBezTo>
                        <a:cubicBezTo>
                          <a:pt x="231" y="384"/>
                          <a:pt x="234" y="397"/>
                          <a:pt x="240" y="408"/>
                        </a:cubicBezTo>
                        <a:cubicBezTo>
                          <a:pt x="246" y="421"/>
                          <a:pt x="264" y="444"/>
                          <a:pt x="264" y="444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未知"/>
                  <p:cNvSpPr/>
                  <p:nvPr/>
                </p:nvSpPr>
                <p:spPr>
                  <a:xfrm>
                    <a:off x="2480400" y="2295720"/>
                    <a:ext cx="11016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364" h="408">
                        <a:moveTo>
                          <a:pt x="16" y="408"/>
                        </a:moveTo>
                        <a:cubicBezTo>
                          <a:pt x="27" y="241"/>
                          <a:pt x="0" y="165"/>
                          <a:pt x="160" y="108"/>
                        </a:cubicBezTo>
                        <a:cubicBezTo>
                          <a:pt x="187" y="98"/>
                          <a:pt x="216" y="92"/>
                          <a:pt x="244" y="84"/>
                        </a:cubicBezTo>
                        <a:cubicBezTo>
                          <a:pt x="282" y="58"/>
                          <a:pt x="330" y="34"/>
                          <a:pt x="364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未知"/>
                  <p:cNvSpPr/>
                  <p:nvPr/>
                </p:nvSpPr>
                <p:spPr>
                  <a:xfrm>
                    <a:off x="2459880" y="2301480"/>
                    <a:ext cx="720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36">
                        <a:moveTo>
                          <a:pt x="0" y="336"/>
                        </a:moveTo>
                        <a:cubicBezTo>
                          <a:pt x="4" y="288"/>
                          <a:pt x="6" y="240"/>
                          <a:pt x="12" y="192"/>
                        </a:cubicBezTo>
                        <a:cubicBezTo>
                          <a:pt x="14" y="179"/>
                          <a:pt x="24" y="169"/>
                          <a:pt x="24" y="156"/>
                        </a:cubicBezTo>
                        <a:cubicBezTo>
                          <a:pt x="24" y="104"/>
                          <a:pt x="12" y="52"/>
                          <a:pt x="12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81" name=""/>
                <p:cNvGrpSpPr/>
                <p:nvPr/>
              </p:nvGrpSpPr>
              <p:grpSpPr>
                <a:xfrm>
                  <a:off x="2514600" y="2286000"/>
                  <a:ext cx="228600" cy="75960"/>
                  <a:chOff x="2514600" y="2286000"/>
                  <a:chExt cx="228600" cy="75960"/>
                </a:xfrm>
              </p:grpSpPr>
              <p:sp>
                <p:nvSpPr>
                  <p:cNvPr id="1182" name="未知"/>
                  <p:cNvSpPr/>
                  <p:nvPr/>
                </p:nvSpPr>
                <p:spPr>
                  <a:xfrm>
                    <a:off x="2514600" y="2286000"/>
                    <a:ext cx="79560" cy="72360"/>
                  </a:xfrm>
                  <a:custGeom>
                    <a:avLst/>
                    <a:gdLst/>
                    <a:ahLst/>
                    <a:rect l="l" t="t" r="r" b="b"/>
                    <a:pathLst>
                      <a:path w="264" h="444">
                        <a:moveTo>
                          <a:pt x="0" y="0"/>
                        </a:moveTo>
                        <a:cubicBezTo>
                          <a:pt x="34" y="69"/>
                          <a:pt x="63" y="66"/>
                          <a:pt x="108" y="120"/>
                        </a:cubicBezTo>
                        <a:cubicBezTo>
                          <a:pt x="130" y="146"/>
                          <a:pt x="147" y="176"/>
                          <a:pt x="168" y="204"/>
                        </a:cubicBezTo>
                        <a:cubicBezTo>
                          <a:pt x="172" y="220"/>
                          <a:pt x="173" y="237"/>
                          <a:pt x="180" y="252"/>
                        </a:cubicBezTo>
                        <a:cubicBezTo>
                          <a:pt x="189" y="270"/>
                          <a:pt x="209" y="281"/>
                          <a:pt x="216" y="300"/>
                        </a:cubicBezTo>
                        <a:cubicBezTo>
                          <a:pt x="225" y="323"/>
                          <a:pt x="223" y="348"/>
                          <a:pt x="228" y="372"/>
                        </a:cubicBezTo>
                        <a:cubicBezTo>
                          <a:pt x="231" y="384"/>
                          <a:pt x="234" y="397"/>
                          <a:pt x="240" y="408"/>
                        </a:cubicBezTo>
                        <a:cubicBezTo>
                          <a:pt x="246" y="421"/>
                          <a:pt x="264" y="444"/>
                          <a:pt x="264" y="444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3" name="未知"/>
                  <p:cNvSpPr/>
                  <p:nvPr/>
                </p:nvSpPr>
                <p:spPr>
                  <a:xfrm>
                    <a:off x="2633040" y="2295720"/>
                    <a:ext cx="11016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364" h="408">
                        <a:moveTo>
                          <a:pt x="16" y="408"/>
                        </a:moveTo>
                        <a:cubicBezTo>
                          <a:pt x="27" y="241"/>
                          <a:pt x="0" y="165"/>
                          <a:pt x="160" y="108"/>
                        </a:cubicBezTo>
                        <a:cubicBezTo>
                          <a:pt x="187" y="98"/>
                          <a:pt x="216" y="92"/>
                          <a:pt x="244" y="84"/>
                        </a:cubicBezTo>
                        <a:cubicBezTo>
                          <a:pt x="282" y="58"/>
                          <a:pt x="330" y="34"/>
                          <a:pt x="364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4" name="未知"/>
                  <p:cNvSpPr/>
                  <p:nvPr/>
                </p:nvSpPr>
                <p:spPr>
                  <a:xfrm>
                    <a:off x="2612520" y="2301480"/>
                    <a:ext cx="720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36">
                        <a:moveTo>
                          <a:pt x="0" y="336"/>
                        </a:moveTo>
                        <a:cubicBezTo>
                          <a:pt x="4" y="288"/>
                          <a:pt x="6" y="240"/>
                          <a:pt x="12" y="192"/>
                        </a:cubicBezTo>
                        <a:cubicBezTo>
                          <a:pt x="14" y="179"/>
                          <a:pt x="24" y="169"/>
                          <a:pt x="24" y="156"/>
                        </a:cubicBezTo>
                        <a:cubicBezTo>
                          <a:pt x="24" y="104"/>
                          <a:pt x="12" y="52"/>
                          <a:pt x="12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85" name=""/>
                <p:cNvGrpSpPr/>
                <p:nvPr/>
              </p:nvGrpSpPr>
              <p:grpSpPr>
                <a:xfrm>
                  <a:off x="2209680" y="2286000"/>
                  <a:ext cx="228600" cy="75960"/>
                  <a:chOff x="2209680" y="2286000"/>
                  <a:chExt cx="228600" cy="75960"/>
                </a:xfrm>
              </p:grpSpPr>
              <p:sp>
                <p:nvSpPr>
                  <p:cNvPr id="1186" name="未知"/>
                  <p:cNvSpPr/>
                  <p:nvPr/>
                </p:nvSpPr>
                <p:spPr>
                  <a:xfrm>
                    <a:off x="2209680" y="2286000"/>
                    <a:ext cx="79560" cy="72360"/>
                  </a:xfrm>
                  <a:custGeom>
                    <a:avLst/>
                    <a:gdLst/>
                    <a:ahLst/>
                    <a:rect l="l" t="t" r="r" b="b"/>
                    <a:pathLst>
                      <a:path w="264" h="444">
                        <a:moveTo>
                          <a:pt x="0" y="0"/>
                        </a:moveTo>
                        <a:cubicBezTo>
                          <a:pt x="34" y="69"/>
                          <a:pt x="63" y="66"/>
                          <a:pt x="108" y="120"/>
                        </a:cubicBezTo>
                        <a:cubicBezTo>
                          <a:pt x="130" y="146"/>
                          <a:pt x="147" y="176"/>
                          <a:pt x="168" y="204"/>
                        </a:cubicBezTo>
                        <a:cubicBezTo>
                          <a:pt x="172" y="220"/>
                          <a:pt x="173" y="237"/>
                          <a:pt x="180" y="252"/>
                        </a:cubicBezTo>
                        <a:cubicBezTo>
                          <a:pt x="189" y="270"/>
                          <a:pt x="209" y="281"/>
                          <a:pt x="216" y="300"/>
                        </a:cubicBezTo>
                        <a:cubicBezTo>
                          <a:pt x="225" y="323"/>
                          <a:pt x="223" y="348"/>
                          <a:pt x="228" y="372"/>
                        </a:cubicBezTo>
                        <a:cubicBezTo>
                          <a:pt x="231" y="384"/>
                          <a:pt x="234" y="397"/>
                          <a:pt x="240" y="408"/>
                        </a:cubicBezTo>
                        <a:cubicBezTo>
                          <a:pt x="246" y="421"/>
                          <a:pt x="264" y="444"/>
                          <a:pt x="264" y="444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" name="未知"/>
                  <p:cNvSpPr/>
                  <p:nvPr/>
                </p:nvSpPr>
                <p:spPr>
                  <a:xfrm>
                    <a:off x="2328120" y="2295720"/>
                    <a:ext cx="11016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364" h="408">
                        <a:moveTo>
                          <a:pt x="16" y="408"/>
                        </a:moveTo>
                        <a:cubicBezTo>
                          <a:pt x="27" y="241"/>
                          <a:pt x="0" y="165"/>
                          <a:pt x="160" y="108"/>
                        </a:cubicBezTo>
                        <a:cubicBezTo>
                          <a:pt x="187" y="98"/>
                          <a:pt x="216" y="92"/>
                          <a:pt x="244" y="84"/>
                        </a:cubicBezTo>
                        <a:cubicBezTo>
                          <a:pt x="282" y="58"/>
                          <a:pt x="330" y="34"/>
                          <a:pt x="364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8" name="未知"/>
                  <p:cNvSpPr/>
                  <p:nvPr/>
                </p:nvSpPr>
                <p:spPr>
                  <a:xfrm>
                    <a:off x="2307600" y="2301480"/>
                    <a:ext cx="720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36">
                        <a:moveTo>
                          <a:pt x="0" y="336"/>
                        </a:moveTo>
                        <a:cubicBezTo>
                          <a:pt x="4" y="288"/>
                          <a:pt x="6" y="240"/>
                          <a:pt x="12" y="192"/>
                        </a:cubicBezTo>
                        <a:cubicBezTo>
                          <a:pt x="14" y="179"/>
                          <a:pt x="24" y="169"/>
                          <a:pt x="24" y="156"/>
                        </a:cubicBezTo>
                        <a:cubicBezTo>
                          <a:pt x="24" y="104"/>
                          <a:pt x="12" y="52"/>
                          <a:pt x="12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89" name=""/>
              <p:cNvGrpSpPr/>
              <p:nvPr/>
            </p:nvGrpSpPr>
            <p:grpSpPr>
              <a:xfrm>
                <a:off x="2514600" y="1981080"/>
                <a:ext cx="228600" cy="76320"/>
                <a:chOff x="2514600" y="1981080"/>
                <a:chExt cx="228600" cy="76320"/>
              </a:xfrm>
            </p:grpSpPr>
            <p:sp>
              <p:nvSpPr>
                <p:cNvPr id="1190" name="未知"/>
                <p:cNvSpPr/>
                <p:nvPr/>
              </p:nvSpPr>
              <p:spPr>
                <a:xfrm>
                  <a:off x="2514600" y="1981080"/>
                  <a:ext cx="79560" cy="72360"/>
                </a:xfrm>
                <a:custGeom>
                  <a:avLst/>
                  <a:gdLst/>
                  <a:ahLst/>
                  <a:rect l="l" t="t" r="r" b="b"/>
                  <a:pathLst>
                    <a:path w="264" h="444">
                      <a:moveTo>
                        <a:pt x="0" y="0"/>
                      </a:moveTo>
                      <a:cubicBezTo>
                        <a:pt x="34" y="69"/>
                        <a:pt x="63" y="66"/>
                        <a:pt x="108" y="120"/>
                      </a:cubicBezTo>
                      <a:cubicBezTo>
                        <a:pt x="130" y="146"/>
                        <a:pt x="147" y="176"/>
                        <a:pt x="168" y="204"/>
                      </a:cubicBezTo>
                      <a:cubicBezTo>
                        <a:pt x="172" y="220"/>
                        <a:pt x="173" y="237"/>
                        <a:pt x="180" y="252"/>
                      </a:cubicBezTo>
                      <a:cubicBezTo>
                        <a:pt x="189" y="270"/>
                        <a:pt x="209" y="281"/>
                        <a:pt x="216" y="300"/>
                      </a:cubicBezTo>
                      <a:cubicBezTo>
                        <a:pt x="225" y="323"/>
                        <a:pt x="223" y="348"/>
                        <a:pt x="228" y="372"/>
                      </a:cubicBezTo>
                      <a:cubicBezTo>
                        <a:pt x="231" y="384"/>
                        <a:pt x="234" y="397"/>
                        <a:pt x="240" y="408"/>
                      </a:cubicBezTo>
                      <a:cubicBezTo>
                        <a:pt x="246" y="421"/>
                        <a:pt x="264" y="444"/>
                        <a:pt x="264" y="444"/>
                      </a:cubicBezTo>
                    </a:path>
                  </a:pathLst>
                </a:custGeom>
                <a:noFill/>
                <a:ln w="9360">
                  <a:solidFill>
                    <a:srgbClr val="33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未知"/>
                <p:cNvSpPr/>
                <p:nvPr/>
              </p:nvSpPr>
              <p:spPr>
                <a:xfrm>
                  <a:off x="2633040" y="1990800"/>
                  <a:ext cx="110160" cy="66600"/>
                </a:xfrm>
                <a:custGeom>
                  <a:avLst/>
                  <a:gdLst/>
                  <a:ahLst/>
                  <a:rect l="l" t="t" r="r" b="b"/>
                  <a:pathLst>
                    <a:path w="364" h="408">
                      <a:moveTo>
                        <a:pt x="16" y="408"/>
                      </a:moveTo>
                      <a:cubicBezTo>
                        <a:pt x="27" y="241"/>
                        <a:pt x="0" y="165"/>
                        <a:pt x="160" y="108"/>
                      </a:cubicBezTo>
                      <a:cubicBezTo>
                        <a:pt x="187" y="98"/>
                        <a:pt x="216" y="92"/>
                        <a:pt x="244" y="84"/>
                      </a:cubicBezTo>
                      <a:cubicBezTo>
                        <a:pt x="282" y="58"/>
                        <a:pt x="330" y="34"/>
                        <a:pt x="364" y="0"/>
                      </a:cubicBezTo>
                    </a:path>
                  </a:pathLst>
                </a:custGeom>
                <a:noFill/>
                <a:ln w="9360">
                  <a:solidFill>
                    <a:srgbClr val="33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未知"/>
                <p:cNvSpPr/>
                <p:nvPr/>
              </p:nvSpPr>
              <p:spPr>
                <a:xfrm>
                  <a:off x="2612520" y="1996560"/>
                  <a:ext cx="7200" cy="54720"/>
                </a:xfrm>
                <a:custGeom>
                  <a:avLst/>
                  <a:gdLst/>
                  <a:ahLst/>
                  <a:rect l="l" t="t" r="r" b="b"/>
                  <a:pathLst>
                    <a:path w="24" h="336">
                      <a:moveTo>
                        <a:pt x="0" y="336"/>
                      </a:moveTo>
                      <a:cubicBezTo>
                        <a:pt x="4" y="288"/>
                        <a:pt x="6" y="240"/>
                        <a:pt x="12" y="192"/>
                      </a:cubicBezTo>
                      <a:cubicBezTo>
                        <a:pt x="14" y="179"/>
                        <a:pt x="24" y="169"/>
                        <a:pt x="24" y="156"/>
                      </a:cubicBezTo>
                      <a:cubicBezTo>
                        <a:pt x="24" y="104"/>
                        <a:pt x="12" y="52"/>
                        <a:pt x="12" y="0"/>
                      </a:cubicBezTo>
                    </a:path>
                  </a:pathLst>
                </a:custGeom>
                <a:noFill/>
                <a:ln w="9360">
                  <a:solidFill>
                    <a:srgbClr val="33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3" name=""/>
              <p:cNvGrpSpPr/>
              <p:nvPr/>
            </p:nvGrpSpPr>
            <p:grpSpPr>
              <a:xfrm>
                <a:off x="2514600" y="2133360"/>
                <a:ext cx="532800" cy="76320"/>
                <a:chOff x="2514600" y="2133360"/>
                <a:chExt cx="532800" cy="76320"/>
              </a:xfrm>
            </p:grpSpPr>
            <p:grpSp>
              <p:nvGrpSpPr>
                <p:cNvPr id="1194" name=""/>
                <p:cNvGrpSpPr/>
                <p:nvPr/>
              </p:nvGrpSpPr>
              <p:grpSpPr>
                <a:xfrm>
                  <a:off x="2666520" y="2133360"/>
                  <a:ext cx="228240" cy="76320"/>
                  <a:chOff x="2666520" y="2133360"/>
                  <a:chExt cx="228240" cy="76320"/>
                </a:xfrm>
              </p:grpSpPr>
              <p:sp>
                <p:nvSpPr>
                  <p:cNvPr id="1195" name="未知"/>
                  <p:cNvSpPr/>
                  <p:nvPr/>
                </p:nvSpPr>
                <p:spPr>
                  <a:xfrm>
                    <a:off x="2666520" y="2133360"/>
                    <a:ext cx="79560" cy="72360"/>
                  </a:xfrm>
                  <a:custGeom>
                    <a:avLst/>
                    <a:gdLst/>
                    <a:ahLst/>
                    <a:rect l="l" t="t" r="r" b="b"/>
                    <a:pathLst>
                      <a:path w="264" h="444">
                        <a:moveTo>
                          <a:pt x="0" y="0"/>
                        </a:moveTo>
                        <a:cubicBezTo>
                          <a:pt x="34" y="69"/>
                          <a:pt x="63" y="66"/>
                          <a:pt x="108" y="120"/>
                        </a:cubicBezTo>
                        <a:cubicBezTo>
                          <a:pt x="130" y="146"/>
                          <a:pt x="147" y="176"/>
                          <a:pt x="168" y="204"/>
                        </a:cubicBezTo>
                        <a:cubicBezTo>
                          <a:pt x="172" y="220"/>
                          <a:pt x="173" y="237"/>
                          <a:pt x="180" y="252"/>
                        </a:cubicBezTo>
                        <a:cubicBezTo>
                          <a:pt x="189" y="270"/>
                          <a:pt x="209" y="281"/>
                          <a:pt x="216" y="300"/>
                        </a:cubicBezTo>
                        <a:cubicBezTo>
                          <a:pt x="225" y="323"/>
                          <a:pt x="223" y="348"/>
                          <a:pt x="228" y="372"/>
                        </a:cubicBezTo>
                        <a:cubicBezTo>
                          <a:pt x="231" y="384"/>
                          <a:pt x="234" y="397"/>
                          <a:pt x="240" y="408"/>
                        </a:cubicBezTo>
                        <a:cubicBezTo>
                          <a:pt x="246" y="421"/>
                          <a:pt x="264" y="444"/>
                          <a:pt x="264" y="444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6" name="未知"/>
                  <p:cNvSpPr/>
                  <p:nvPr/>
                </p:nvSpPr>
                <p:spPr>
                  <a:xfrm>
                    <a:off x="2784960" y="2143080"/>
                    <a:ext cx="10980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364" h="408">
                        <a:moveTo>
                          <a:pt x="16" y="408"/>
                        </a:moveTo>
                        <a:cubicBezTo>
                          <a:pt x="27" y="241"/>
                          <a:pt x="0" y="165"/>
                          <a:pt x="160" y="108"/>
                        </a:cubicBezTo>
                        <a:cubicBezTo>
                          <a:pt x="187" y="98"/>
                          <a:pt x="216" y="92"/>
                          <a:pt x="244" y="84"/>
                        </a:cubicBezTo>
                        <a:cubicBezTo>
                          <a:pt x="282" y="58"/>
                          <a:pt x="330" y="34"/>
                          <a:pt x="364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7" name="未知"/>
                  <p:cNvSpPr/>
                  <p:nvPr/>
                </p:nvSpPr>
                <p:spPr>
                  <a:xfrm>
                    <a:off x="2764440" y="2148840"/>
                    <a:ext cx="720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36">
                        <a:moveTo>
                          <a:pt x="0" y="336"/>
                        </a:moveTo>
                        <a:cubicBezTo>
                          <a:pt x="4" y="288"/>
                          <a:pt x="6" y="240"/>
                          <a:pt x="12" y="192"/>
                        </a:cubicBezTo>
                        <a:cubicBezTo>
                          <a:pt x="14" y="179"/>
                          <a:pt x="24" y="169"/>
                          <a:pt x="24" y="156"/>
                        </a:cubicBezTo>
                        <a:cubicBezTo>
                          <a:pt x="24" y="104"/>
                          <a:pt x="12" y="52"/>
                          <a:pt x="12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98" name=""/>
                <p:cNvGrpSpPr/>
                <p:nvPr/>
              </p:nvGrpSpPr>
              <p:grpSpPr>
                <a:xfrm>
                  <a:off x="2819160" y="2133360"/>
                  <a:ext cx="228240" cy="76320"/>
                  <a:chOff x="2819160" y="2133360"/>
                  <a:chExt cx="228240" cy="76320"/>
                </a:xfrm>
              </p:grpSpPr>
              <p:sp>
                <p:nvSpPr>
                  <p:cNvPr id="1199" name="未知"/>
                  <p:cNvSpPr/>
                  <p:nvPr/>
                </p:nvSpPr>
                <p:spPr>
                  <a:xfrm>
                    <a:off x="2819160" y="2133360"/>
                    <a:ext cx="79560" cy="72360"/>
                  </a:xfrm>
                  <a:custGeom>
                    <a:avLst/>
                    <a:gdLst/>
                    <a:ahLst/>
                    <a:rect l="l" t="t" r="r" b="b"/>
                    <a:pathLst>
                      <a:path w="264" h="444">
                        <a:moveTo>
                          <a:pt x="0" y="0"/>
                        </a:moveTo>
                        <a:cubicBezTo>
                          <a:pt x="34" y="69"/>
                          <a:pt x="63" y="66"/>
                          <a:pt x="108" y="120"/>
                        </a:cubicBezTo>
                        <a:cubicBezTo>
                          <a:pt x="130" y="146"/>
                          <a:pt x="147" y="176"/>
                          <a:pt x="168" y="204"/>
                        </a:cubicBezTo>
                        <a:cubicBezTo>
                          <a:pt x="172" y="220"/>
                          <a:pt x="173" y="237"/>
                          <a:pt x="180" y="252"/>
                        </a:cubicBezTo>
                        <a:cubicBezTo>
                          <a:pt x="189" y="270"/>
                          <a:pt x="209" y="281"/>
                          <a:pt x="216" y="300"/>
                        </a:cubicBezTo>
                        <a:cubicBezTo>
                          <a:pt x="225" y="323"/>
                          <a:pt x="223" y="348"/>
                          <a:pt x="228" y="372"/>
                        </a:cubicBezTo>
                        <a:cubicBezTo>
                          <a:pt x="231" y="384"/>
                          <a:pt x="234" y="397"/>
                          <a:pt x="240" y="408"/>
                        </a:cubicBezTo>
                        <a:cubicBezTo>
                          <a:pt x="246" y="421"/>
                          <a:pt x="264" y="444"/>
                          <a:pt x="264" y="444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0" name="未知"/>
                  <p:cNvSpPr/>
                  <p:nvPr/>
                </p:nvSpPr>
                <p:spPr>
                  <a:xfrm>
                    <a:off x="2937600" y="2143080"/>
                    <a:ext cx="10980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364" h="408">
                        <a:moveTo>
                          <a:pt x="16" y="408"/>
                        </a:moveTo>
                        <a:cubicBezTo>
                          <a:pt x="27" y="241"/>
                          <a:pt x="0" y="165"/>
                          <a:pt x="160" y="108"/>
                        </a:cubicBezTo>
                        <a:cubicBezTo>
                          <a:pt x="187" y="98"/>
                          <a:pt x="216" y="92"/>
                          <a:pt x="244" y="84"/>
                        </a:cubicBezTo>
                        <a:cubicBezTo>
                          <a:pt x="282" y="58"/>
                          <a:pt x="330" y="34"/>
                          <a:pt x="364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1" name="未知"/>
                  <p:cNvSpPr/>
                  <p:nvPr/>
                </p:nvSpPr>
                <p:spPr>
                  <a:xfrm>
                    <a:off x="2917080" y="2148840"/>
                    <a:ext cx="720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36">
                        <a:moveTo>
                          <a:pt x="0" y="336"/>
                        </a:moveTo>
                        <a:cubicBezTo>
                          <a:pt x="4" y="288"/>
                          <a:pt x="6" y="240"/>
                          <a:pt x="12" y="192"/>
                        </a:cubicBezTo>
                        <a:cubicBezTo>
                          <a:pt x="14" y="179"/>
                          <a:pt x="24" y="169"/>
                          <a:pt x="24" y="156"/>
                        </a:cubicBezTo>
                        <a:cubicBezTo>
                          <a:pt x="24" y="104"/>
                          <a:pt x="12" y="52"/>
                          <a:pt x="12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02" name=""/>
                <p:cNvGrpSpPr/>
                <p:nvPr/>
              </p:nvGrpSpPr>
              <p:grpSpPr>
                <a:xfrm>
                  <a:off x="2514600" y="2133360"/>
                  <a:ext cx="228240" cy="76320"/>
                  <a:chOff x="2514600" y="2133360"/>
                  <a:chExt cx="228240" cy="76320"/>
                </a:xfrm>
              </p:grpSpPr>
              <p:sp>
                <p:nvSpPr>
                  <p:cNvPr id="1203" name="未知"/>
                  <p:cNvSpPr/>
                  <p:nvPr/>
                </p:nvSpPr>
                <p:spPr>
                  <a:xfrm>
                    <a:off x="2514600" y="2133360"/>
                    <a:ext cx="79560" cy="72360"/>
                  </a:xfrm>
                  <a:custGeom>
                    <a:avLst/>
                    <a:gdLst/>
                    <a:ahLst/>
                    <a:rect l="l" t="t" r="r" b="b"/>
                    <a:pathLst>
                      <a:path w="264" h="444">
                        <a:moveTo>
                          <a:pt x="0" y="0"/>
                        </a:moveTo>
                        <a:cubicBezTo>
                          <a:pt x="34" y="69"/>
                          <a:pt x="63" y="66"/>
                          <a:pt x="108" y="120"/>
                        </a:cubicBezTo>
                        <a:cubicBezTo>
                          <a:pt x="130" y="146"/>
                          <a:pt x="147" y="176"/>
                          <a:pt x="168" y="204"/>
                        </a:cubicBezTo>
                        <a:cubicBezTo>
                          <a:pt x="172" y="220"/>
                          <a:pt x="173" y="237"/>
                          <a:pt x="180" y="252"/>
                        </a:cubicBezTo>
                        <a:cubicBezTo>
                          <a:pt x="189" y="270"/>
                          <a:pt x="209" y="281"/>
                          <a:pt x="216" y="300"/>
                        </a:cubicBezTo>
                        <a:cubicBezTo>
                          <a:pt x="225" y="323"/>
                          <a:pt x="223" y="348"/>
                          <a:pt x="228" y="372"/>
                        </a:cubicBezTo>
                        <a:cubicBezTo>
                          <a:pt x="231" y="384"/>
                          <a:pt x="234" y="397"/>
                          <a:pt x="240" y="408"/>
                        </a:cubicBezTo>
                        <a:cubicBezTo>
                          <a:pt x="246" y="421"/>
                          <a:pt x="264" y="444"/>
                          <a:pt x="264" y="444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4" name="未知"/>
                  <p:cNvSpPr/>
                  <p:nvPr/>
                </p:nvSpPr>
                <p:spPr>
                  <a:xfrm>
                    <a:off x="2633040" y="2143080"/>
                    <a:ext cx="10980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364" h="408">
                        <a:moveTo>
                          <a:pt x="16" y="408"/>
                        </a:moveTo>
                        <a:cubicBezTo>
                          <a:pt x="27" y="241"/>
                          <a:pt x="0" y="165"/>
                          <a:pt x="160" y="108"/>
                        </a:cubicBezTo>
                        <a:cubicBezTo>
                          <a:pt x="187" y="98"/>
                          <a:pt x="216" y="92"/>
                          <a:pt x="244" y="84"/>
                        </a:cubicBezTo>
                        <a:cubicBezTo>
                          <a:pt x="282" y="58"/>
                          <a:pt x="330" y="34"/>
                          <a:pt x="364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5" name="未知"/>
                  <p:cNvSpPr/>
                  <p:nvPr/>
                </p:nvSpPr>
                <p:spPr>
                  <a:xfrm>
                    <a:off x="2612520" y="2148840"/>
                    <a:ext cx="720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36">
                        <a:moveTo>
                          <a:pt x="0" y="336"/>
                        </a:moveTo>
                        <a:cubicBezTo>
                          <a:pt x="4" y="288"/>
                          <a:pt x="6" y="240"/>
                          <a:pt x="12" y="192"/>
                        </a:cubicBezTo>
                        <a:cubicBezTo>
                          <a:pt x="14" y="179"/>
                          <a:pt x="24" y="169"/>
                          <a:pt x="24" y="156"/>
                        </a:cubicBezTo>
                        <a:cubicBezTo>
                          <a:pt x="24" y="104"/>
                          <a:pt x="12" y="52"/>
                          <a:pt x="12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06" name=""/>
              <p:cNvGrpSpPr/>
              <p:nvPr/>
            </p:nvGrpSpPr>
            <p:grpSpPr>
              <a:xfrm>
                <a:off x="1981080" y="2133360"/>
                <a:ext cx="533520" cy="76320"/>
                <a:chOff x="1981080" y="2133360"/>
                <a:chExt cx="533520" cy="76320"/>
              </a:xfrm>
            </p:grpSpPr>
            <p:grpSp>
              <p:nvGrpSpPr>
                <p:cNvPr id="1207" name=""/>
                <p:cNvGrpSpPr/>
                <p:nvPr/>
              </p:nvGrpSpPr>
              <p:grpSpPr>
                <a:xfrm>
                  <a:off x="2133360" y="2133360"/>
                  <a:ext cx="228600" cy="76320"/>
                  <a:chOff x="2133360" y="2133360"/>
                  <a:chExt cx="228600" cy="76320"/>
                </a:xfrm>
              </p:grpSpPr>
              <p:sp>
                <p:nvSpPr>
                  <p:cNvPr id="1208" name="未知"/>
                  <p:cNvSpPr/>
                  <p:nvPr/>
                </p:nvSpPr>
                <p:spPr>
                  <a:xfrm>
                    <a:off x="2133360" y="2133360"/>
                    <a:ext cx="79560" cy="72360"/>
                  </a:xfrm>
                  <a:custGeom>
                    <a:avLst/>
                    <a:gdLst/>
                    <a:ahLst/>
                    <a:rect l="l" t="t" r="r" b="b"/>
                    <a:pathLst>
                      <a:path w="264" h="444">
                        <a:moveTo>
                          <a:pt x="0" y="0"/>
                        </a:moveTo>
                        <a:cubicBezTo>
                          <a:pt x="34" y="69"/>
                          <a:pt x="63" y="66"/>
                          <a:pt x="108" y="120"/>
                        </a:cubicBezTo>
                        <a:cubicBezTo>
                          <a:pt x="130" y="146"/>
                          <a:pt x="147" y="176"/>
                          <a:pt x="168" y="204"/>
                        </a:cubicBezTo>
                        <a:cubicBezTo>
                          <a:pt x="172" y="220"/>
                          <a:pt x="173" y="237"/>
                          <a:pt x="180" y="252"/>
                        </a:cubicBezTo>
                        <a:cubicBezTo>
                          <a:pt x="189" y="270"/>
                          <a:pt x="209" y="281"/>
                          <a:pt x="216" y="300"/>
                        </a:cubicBezTo>
                        <a:cubicBezTo>
                          <a:pt x="225" y="323"/>
                          <a:pt x="223" y="348"/>
                          <a:pt x="228" y="372"/>
                        </a:cubicBezTo>
                        <a:cubicBezTo>
                          <a:pt x="231" y="384"/>
                          <a:pt x="234" y="397"/>
                          <a:pt x="240" y="408"/>
                        </a:cubicBezTo>
                        <a:cubicBezTo>
                          <a:pt x="246" y="421"/>
                          <a:pt x="264" y="444"/>
                          <a:pt x="264" y="444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9" name="未知"/>
                  <p:cNvSpPr/>
                  <p:nvPr/>
                </p:nvSpPr>
                <p:spPr>
                  <a:xfrm>
                    <a:off x="2251800" y="2143080"/>
                    <a:ext cx="11016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364" h="408">
                        <a:moveTo>
                          <a:pt x="16" y="408"/>
                        </a:moveTo>
                        <a:cubicBezTo>
                          <a:pt x="27" y="241"/>
                          <a:pt x="0" y="165"/>
                          <a:pt x="160" y="108"/>
                        </a:cubicBezTo>
                        <a:cubicBezTo>
                          <a:pt x="187" y="98"/>
                          <a:pt x="216" y="92"/>
                          <a:pt x="244" y="84"/>
                        </a:cubicBezTo>
                        <a:cubicBezTo>
                          <a:pt x="282" y="58"/>
                          <a:pt x="330" y="34"/>
                          <a:pt x="364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0" name="未知"/>
                  <p:cNvSpPr/>
                  <p:nvPr/>
                </p:nvSpPr>
                <p:spPr>
                  <a:xfrm>
                    <a:off x="2231280" y="2148840"/>
                    <a:ext cx="720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36">
                        <a:moveTo>
                          <a:pt x="0" y="336"/>
                        </a:moveTo>
                        <a:cubicBezTo>
                          <a:pt x="4" y="288"/>
                          <a:pt x="6" y="240"/>
                          <a:pt x="12" y="192"/>
                        </a:cubicBezTo>
                        <a:cubicBezTo>
                          <a:pt x="14" y="179"/>
                          <a:pt x="24" y="169"/>
                          <a:pt x="24" y="156"/>
                        </a:cubicBezTo>
                        <a:cubicBezTo>
                          <a:pt x="24" y="104"/>
                          <a:pt x="12" y="52"/>
                          <a:pt x="12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11" name=""/>
                <p:cNvGrpSpPr/>
                <p:nvPr/>
              </p:nvGrpSpPr>
              <p:grpSpPr>
                <a:xfrm>
                  <a:off x="2286000" y="2133360"/>
                  <a:ext cx="228600" cy="76320"/>
                  <a:chOff x="2286000" y="2133360"/>
                  <a:chExt cx="228600" cy="76320"/>
                </a:xfrm>
              </p:grpSpPr>
              <p:sp>
                <p:nvSpPr>
                  <p:cNvPr id="1212" name="未知"/>
                  <p:cNvSpPr/>
                  <p:nvPr/>
                </p:nvSpPr>
                <p:spPr>
                  <a:xfrm>
                    <a:off x="2286000" y="2133360"/>
                    <a:ext cx="79560" cy="72360"/>
                  </a:xfrm>
                  <a:custGeom>
                    <a:avLst/>
                    <a:gdLst/>
                    <a:ahLst/>
                    <a:rect l="l" t="t" r="r" b="b"/>
                    <a:pathLst>
                      <a:path w="264" h="444">
                        <a:moveTo>
                          <a:pt x="0" y="0"/>
                        </a:moveTo>
                        <a:cubicBezTo>
                          <a:pt x="34" y="69"/>
                          <a:pt x="63" y="66"/>
                          <a:pt x="108" y="120"/>
                        </a:cubicBezTo>
                        <a:cubicBezTo>
                          <a:pt x="130" y="146"/>
                          <a:pt x="147" y="176"/>
                          <a:pt x="168" y="204"/>
                        </a:cubicBezTo>
                        <a:cubicBezTo>
                          <a:pt x="172" y="220"/>
                          <a:pt x="173" y="237"/>
                          <a:pt x="180" y="252"/>
                        </a:cubicBezTo>
                        <a:cubicBezTo>
                          <a:pt x="189" y="270"/>
                          <a:pt x="209" y="281"/>
                          <a:pt x="216" y="300"/>
                        </a:cubicBezTo>
                        <a:cubicBezTo>
                          <a:pt x="225" y="323"/>
                          <a:pt x="223" y="348"/>
                          <a:pt x="228" y="372"/>
                        </a:cubicBezTo>
                        <a:cubicBezTo>
                          <a:pt x="231" y="384"/>
                          <a:pt x="234" y="397"/>
                          <a:pt x="240" y="408"/>
                        </a:cubicBezTo>
                        <a:cubicBezTo>
                          <a:pt x="246" y="421"/>
                          <a:pt x="264" y="444"/>
                          <a:pt x="264" y="444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未知"/>
                  <p:cNvSpPr/>
                  <p:nvPr/>
                </p:nvSpPr>
                <p:spPr>
                  <a:xfrm>
                    <a:off x="2404440" y="2143080"/>
                    <a:ext cx="11016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364" h="408">
                        <a:moveTo>
                          <a:pt x="16" y="408"/>
                        </a:moveTo>
                        <a:cubicBezTo>
                          <a:pt x="27" y="241"/>
                          <a:pt x="0" y="165"/>
                          <a:pt x="160" y="108"/>
                        </a:cubicBezTo>
                        <a:cubicBezTo>
                          <a:pt x="187" y="98"/>
                          <a:pt x="216" y="92"/>
                          <a:pt x="244" y="84"/>
                        </a:cubicBezTo>
                        <a:cubicBezTo>
                          <a:pt x="282" y="58"/>
                          <a:pt x="330" y="34"/>
                          <a:pt x="364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未知"/>
                  <p:cNvSpPr/>
                  <p:nvPr/>
                </p:nvSpPr>
                <p:spPr>
                  <a:xfrm>
                    <a:off x="2383920" y="2148840"/>
                    <a:ext cx="720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36">
                        <a:moveTo>
                          <a:pt x="0" y="336"/>
                        </a:moveTo>
                        <a:cubicBezTo>
                          <a:pt x="4" y="288"/>
                          <a:pt x="6" y="240"/>
                          <a:pt x="12" y="192"/>
                        </a:cubicBezTo>
                        <a:cubicBezTo>
                          <a:pt x="14" y="179"/>
                          <a:pt x="24" y="169"/>
                          <a:pt x="24" y="156"/>
                        </a:cubicBezTo>
                        <a:cubicBezTo>
                          <a:pt x="24" y="104"/>
                          <a:pt x="12" y="52"/>
                          <a:pt x="12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15" name=""/>
                <p:cNvGrpSpPr/>
                <p:nvPr/>
              </p:nvGrpSpPr>
              <p:grpSpPr>
                <a:xfrm>
                  <a:off x="1981080" y="2133360"/>
                  <a:ext cx="228600" cy="76320"/>
                  <a:chOff x="1981080" y="2133360"/>
                  <a:chExt cx="228600" cy="76320"/>
                </a:xfrm>
              </p:grpSpPr>
              <p:sp>
                <p:nvSpPr>
                  <p:cNvPr id="1216" name="未知"/>
                  <p:cNvSpPr/>
                  <p:nvPr/>
                </p:nvSpPr>
                <p:spPr>
                  <a:xfrm>
                    <a:off x="1981080" y="2133360"/>
                    <a:ext cx="79560" cy="72360"/>
                  </a:xfrm>
                  <a:custGeom>
                    <a:avLst/>
                    <a:gdLst/>
                    <a:ahLst/>
                    <a:rect l="l" t="t" r="r" b="b"/>
                    <a:pathLst>
                      <a:path w="264" h="444">
                        <a:moveTo>
                          <a:pt x="0" y="0"/>
                        </a:moveTo>
                        <a:cubicBezTo>
                          <a:pt x="34" y="69"/>
                          <a:pt x="63" y="66"/>
                          <a:pt x="108" y="120"/>
                        </a:cubicBezTo>
                        <a:cubicBezTo>
                          <a:pt x="130" y="146"/>
                          <a:pt x="147" y="176"/>
                          <a:pt x="168" y="204"/>
                        </a:cubicBezTo>
                        <a:cubicBezTo>
                          <a:pt x="172" y="220"/>
                          <a:pt x="173" y="237"/>
                          <a:pt x="180" y="252"/>
                        </a:cubicBezTo>
                        <a:cubicBezTo>
                          <a:pt x="189" y="270"/>
                          <a:pt x="209" y="281"/>
                          <a:pt x="216" y="300"/>
                        </a:cubicBezTo>
                        <a:cubicBezTo>
                          <a:pt x="225" y="323"/>
                          <a:pt x="223" y="348"/>
                          <a:pt x="228" y="372"/>
                        </a:cubicBezTo>
                        <a:cubicBezTo>
                          <a:pt x="231" y="384"/>
                          <a:pt x="234" y="397"/>
                          <a:pt x="240" y="408"/>
                        </a:cubicBezTo>
                        <a:cubicBezTo>
                          <a:pt x="246" y="421"/>
                          <a:pt x="264" y="444"/>
                          <a:pt x="264" y="444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未知"/>
                  <p:cNvSpPr/>
                  <p:nvPr/>
                </p:nvSpPr>
                <p:spPr>
                  <a:xfrm>
                    <a:off x="2099520" y="2143080"/>
                    <a:ext cx="11016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364" h="408">
                        <a:moveTo>
                          <a:pt x="16" y="408"/>
                        </a:moveTo>
                        <a:cubicBezTo>
                          <a:pt x="27" y="241"/>
                          <a:pt x="0" y="165"/>
                          <a:pt x="160" y="108"/>
                        </a:cubicBezTo>
                        <a:cubicBezTo>
                          <a:pt x="187" y="98"/>
                          <a:pt x="216" y="92"/>
                          <a:pt x="244" y="84"/>
                        </a:cubicBezTo>
                        <a:cubicBezTo>
                          <a:pt x="282" y="58"/>
                          <a:pt x="330" y="34"/>
                          <a:pt x="364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未知"/>
                  <p:cNvSpPr/>
                  <p:nvPr/>
                </p:nvSpPr>
                <p:spPr>
                  <a:xfrm>
                    <a:off x="2079000" y="2148840"/>
                    <a:ext cx="720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36">
                        <a:moveTo>
                          <a:pt x="0" y="336"/>
                        </a:moveTo>
                        <a:cubicBezTo>
                          <a:pt x="4" y="288"/>
                          <a:pt x="6" y="240"/>
                          <a:pt x="12" y="192"/>
                        </a:cubicBezTo>
                        <a:cubicBezTo>
                          <a:pt x="14" y="179"/>
                          <a:pt x="24" y="169"/>
                          <a:pt x="24" y="156"/>
                        </a:cubicBezTo>
                        <a:cubicBezTo>
                          <a:pt x="24" y="104"/>
                          <a:pt x="12" y="52"/>
                          <a:pt x="12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19" name=""/>
              <p:cNvGrpSpPr/>
              <p:nvPr/>
            </p:nvGrpSpPr>
            <p:grpSpPr>
              <a:xfrm>
                <a:off x="2590560" y="2209680"/>
                <a:ext cx="533520" cy="76320"/>
                <a:chOff x="2590560" y="2209680"/>
                <a:chExt cx="533520" cy="76320"/>
              </a:xfrm>
            </p:grpSpPr>
            <p:grpSp>
              <p:nvGrpSpPr>
                <p:cNvPr id="1220" name=""/>
                <p:cNvGrpSpPr/>
                <p:nvPr/>
              </p:nvGrpSpPr>
              <p:grpSpPr>
                <a:xfrm>
                  <a:off x="2742840" y="2209680"/>
                  <a:ext cx="228600" cy="76320"/>
                  <a:chOff x="2742840" y="2209680"/>
                  <a:chExt cx="228600" cy="76320"/>
                </a:xfrm>
              </p:grpSpPr>
              <p:sp>
                <p:nvSpPr>
                  <p:cNvPr id="1221" name="未知"/>
                  <p:cNvSpPr/>
                  <p:nvPr/>
                </p:nvSpPr>
                <p:spPr>
                  <a:xfrm>
                    <a:off x="2742840" y="2209680"/>
                    <a:ext cx="79560" cy="72360"/>
                  </a:xfrm>
                  <a:custGeom>
                    <a:avLst/>
                    <a:gdLst/>
                    <a:ahLst/>
                    <a:rect l="l" t="t" r="r" b="b"/>
                    <a:pathLst>
                      <a:path w="264" h="444">
                        <a:moveTo>
                          <a:pt x="0" y="0"/>
                        </a:moveTo>
                        <a:cubicBezTo>
                          <a:pt x="34" y="69"/>
                          <a:pt x="63" y="66"/>
                          <a:pt x="108" y="120"/>
                        </a:cubicBezTo>
                        <a:cubicBezTo>
                          <a:pt x="130" y="146"/>
                          <a:pt x="147" y="176"/>
                          <a:pt x="168" y="204"/>
                        </a:cubicBezTo>
                        <a:cubicBezTo>
                          <a:pt x="172" y="220"/>
                          <a:pt x="173" y="237"/>
                          <a:pt x="180" y="252"/>
                        </a:cubicBezTo>
                        <a:cubicBezTo>
                          <a:pt x="189" y="270"/>
                          <a:pt x="209" y="281"/>
                          <a:pt x="216" y="300"/>
                        </a:cubicBezTo>
                        <a:cubicBezTo>
                          <a:pt x="225" y="323"/>
                          <a:pt x="223" y="348"/>
                          <a:pt x="228" y="372"/>
                        </a:cubicBezTo>
                        <a:cubicBezTo>
                          <a:pt x="231" y="384"/>
                          <a:pt x="234" y="397"/>
                          <a:pt x="240" y="408"/>
                        </a:cubicBezTo>
                        <a:cubicBezTo>
                          <a:pt x="246" y="421"/>
                          <a:pt x="264" y="444"/>
                          <a:pt x="264" y="444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2" name="未知"/>
                  <p:cNvSpPr/>
                  <p:nvPr/>
                </p:nvSpPr>
                <p:spPr>
                  <a:xfrm>
                    <a:off x="2861280" y="2219400"/>
                    <a:ext cx="11016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364" h="408">
                        <a:moveTo>
                          <a:pt x="16" y="408"/>
                        </a:moveTo>
                        <a:cubicBezTo>
                          <a:pt x="27" y="241"/>
                          <a:pt x="0" y="165"/>
                          <a:pt x="160" y="108"/>
                        </a:cubicBezTo>
                        <a:cubicBezTo>
                          <a:pt x="187" y="98"/>
                          <a:pt x="216" y="92"/>
                          <a:pt x="244" y="84"/>
                        </a:cubicBezTo>
                        <a:cubicBezTo>
                          <a:pt x="282" y="58"/>
                          <a:pt x="330" y="34"/>
                          <a:pt x="364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3" name="未知"/>
                  <p:cNvSpPr/>
                  <p:nvPr/>
                </p:nvSpPr>
                <p:spPr>
                  <a:xfrm>
                    <a:off x="2840760" y="2225160"/>
                    <a:ext cx="720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36">
                        <a:moveTo>
                          <a:pt x="0" y="336"/>
                        </a:moveTo>
                        <a:cubicBezTo>
                          <a:pt x="4" y="288"/>
                          <a:pt x="6" y="240"/>
                          <a:pt x="12" y="192"/>
                        </a:cubicBezTo>
                        <a:cubicBezTo>
                          <a:pt x="14" y="179"/>
                          <a:pt x="24" y="169"/>
                          <a:pt x="24" y="156"/>
                        </a:cubicBezTo>
                        <a:cubicBezTo>
                          <a:pt x="24" y="104"/>
                          <a:pt x="12" y="52"/>
                          <a:pt x="12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24" name=""/>
                <p:cNvGrpSpPr/>
                <p:nvPr/>
              </p:nvGrpSpPr>
              <p:grpSpPr>
                <a:xfrm>
                  <a:off x="2895480" y="2209680"/>
                  <a:ext cx="228600" cy="76320"/>
                  <a:chOff x="2895480" y="2209680"/>
                  <a:chExt cx="228600" cy="76320"/>
                </a:xfrm>
              </p:grpSpPr>
              <p:sp>
                <p:nvSpPr>
                  <p:cNvPr id="1225" name="未知"/>
                  <p:cNvSpPr/>
                  <p:nvPr/>
                </p:nvSpPr>
                <p:spPr>
                  <a:xfrm>
                    <a:off x="2895480" y="2209680"/>
                    <a:ext cx="79560" cy="72360"/>
                  </a:xfrm>
                  <a:custGeom>
                    <a:avLst/>
                    <a:gdLst/>
                    <a:ahLst/>
                    <a:rect l="l" t="t" r="r" b="b"/>
                    <a:pathLst>
                      <a:path w="264" h="444">
                        <a:moveTo>
                          <a:pt x="0" y="0"/>
                        </a:moveTo>
                        <a:cubicBezTo>
                          <a:pt x="34" y="69"/>
                          <a:pt x="63" y="66"/>
                          <a:pt x="108" y="120"/>
                        </a:cubicBezTo>
                        <a:cubicBezTo>
                          <a:pt x="130" y="146"/>
                          <a:pt x="147" y="176"/>
                          <a:pt x="168" y="204"/>
                        </a:cubicBezTo>
                        <a:cubicBezTo>
                          <a:pt x="172" y="220"/>
                          <a:pt x="173" y="237"/>
                          <a:pt x="180" y="252"/>
                        </a:cubicBezTo>
                        <a:cubicBezTo>
                          <a:pt x="189" y="270"/>
                          <a:pt x="209" y="281"/>
                          <a:pt x="216" y="300"/>
                        </a:cubicBezTo>
                        <a:cubicBezTo>
                          <a:pt x="225" y="323"/>
                          <a:pt x="223" y="348"/>
                          <a:pt x="228" y="372"/>
                        </a:cubicBezTo>
                        <a:cubicBezTo>
                          <a:pt x="231" y="384"/>
                          <a:pt x="234" y="397"/>
                          <a:pt x="240" y="408"/>
                        </a:cubicBezTo>
                        <a:cubicBezTo>
                          <a:pt x="246" y="421"/>
                          <a:pt x="264" y="444"/>
                          <a:pt x="264" y="444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6" name="未知"/>
                  <p:cNvSpPr/>
                  <p:nvPr/>
                </p:nvSpPr>
                <p:spPr>
                  <a:xfrm>
                    <a:off x="3013920" y="2219400"/>
                    <a:ext cx="11016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364" h="408">
                        <a:moveTo>
                          <a:pt x="16" y="408"/>
                        </a:moveTo>
                        <a:cubicBezTo>
                          <a:pt x="27" y="241"/>
                          <a:pt x="0" y="165"/>
                          <a:pt x="160" y="108"/>
                        </a:cubicBezTo>
                        <a:cubicBezTo>
                          <a:pt x="187" y="98"/>
                          <a:pt x="216" y="92"/>
                          <a:pt x="244" y="84"/>
                        </a:cubicBezTo>
                        <a:cubicBezTo>
                          <a:pt x="282" y="58"/>
                          <a:pt x="330" y="34"/>
                          <a:pt x="364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7" name="未知"/>
                  <p:cNvSpPr/>
                  <p:nvPr/>
                </p:nvSpPr>
                <p:spPr>
                  <a:xfrm>
                    <a:off x="2993400" y="2225160"/>
                    <a:ext cx="720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36">
                        <a:moveTo>
                          <a:pt x="0" y="336"/>
                        </a:moveTo>
                        <a:cubicBezTo>
                          <a:pt x="4" y="288"/>
                          <a:pt x="6" y="240"/>
                          <a:pt x="12" y="192"/>
                        </a:cubicBezTo>
                        <a:cubicBezTo>
                          <a:pt x="14" y="179"/>
                          <a:pt x="24" y="169"/>
                          <a:pt x="24" y="156"/>
                        </a:cubicBezTo>
                        <a:cubicBezTo>
                          <a:pt x="24" y="104"/>
                          <a:pt x="12" y="52"/>
                          <a:pt x="12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28" name=""/>
                <p:cNvGrpSpPr/>
                <p:nvPr/>
              </p:nvGrpSpPr>
              <p:grpSpPr>
                <a:xfrm>
                  <a:off x="2590560" y="2209680"/>
                  <a:ext cx="228600" cy="76320"/>
                  <a:chOff x="2590560" y="2209680"/>
                  <a:chExt cx="228600" cy="76320"/>
                </a:xfrm>
              </p:grpSpPr>
              <p:sp>
                <p:nvSpPr>
                  <p:cNvPr id="1229" name="未知"/>
                  <p:cNvSpPr/>
                  <p:nvPr/>
                </p:nvSpPr>
                <p:spPr>
                  <a:xfrm>
                    <a:off x="2590560" y="2209680"/>
                    <a:ext cx="79560" cy="72360"/>
                  </a:xfrm>
                  <a:custGeom>
                    <a:avLst/>
                    <a:gdLst/>
                    <a:ahLst/>
                    <a:rect l="l" t="t" r="r" b="b"/>
                    <a:pathLst>
                      <a:path w="264" h="444">
                        <a:moveTo>
                          <a:pt x="0" y="0"/>
                        </a:moveTo>
                        <a:cubicBezTo>
                          <a:pt x="34" y="69"/>
                          <a:pt x="63" y="66"/>
                          <a:pt x="108" y="120"/>
                        </a:cubicBezTo>
                        <a:cubicBezTo>
                          <a:pt x="130" y="146"/>
                          <a:pt x="147" y="176"/>
                          <a:pt x="168" y="204"/>
                        </a:cubicBezTo>
                        <a:cubicBezTo>
                          <a:pt x="172" y="220"/>
                          <a:pt x="173" y="237"/>
                          <a:pt x="180" y="252"/>
                        </a:cubicBezTo>
                        <a:cubicBezTo>
                          <a:pt x="189" y="270"/>
                          <a:pt x="209" y="281"/>
                          <a:pt x="216" y="300"/>
                        </a:cubicBezTo>
                        <a:cubicBezTo>
                          <a:pt x="225" y="323"/>
                          <a:pt x="223" y="348"/>
                          <a:pt x="228" y="372"/>
                        </a:cubicBezTo>
                        <a:cubicBezTo>
                          <a:pt x="231" y="384"/>
                          <a:pt x="234" y="397"/>
                          <a:pt x="240" y="408"/>
                        </a:cubicBezTo>
                        <a:cubicBezTo>
                          <a:pt x="246" y="421"/>
                          <a:pt x="264" y="444"/>
                          <a:pt x="264" y="444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" name="未知"/>
                  <p:cNvSpPr/>
                  <p:nvPr/>
                </p:nvSpPr>
                <p:spPr>
                  <a:xfrm>
                    <a:off x="2709000" y="2219400"/>
                    <a:ext cx="11016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364" h="408">
                        <a:moveTo>
                          <a:pt x="16" y="408"/>
                        </a:moveTo>
                        <a:cubicBezTo>
                          <a:pt x="27" y="241"/>
                          <a:pt x="0" y="165"/>
                          <a:pt x="160" y="108"/>
                        </a:cubicBezTo>
                        <a:cubicBezTo>
                          <a:pt x="187" y="98"/>
                          <a:pt x="216" y="92"/>
                          <a:pt x="244" y="84"/>
                        </a:cubicBezTo>
                        <a:cubicBezTo>
                          <a:pt x="282" y="58"/>
                          <a:pt x="330" y="34"/>
                          <a:pt x="364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1" name="未知"/>
                  <p:cNvSpPr/>
                  <p:nvPr/>
                </p:nvSpPr>
                <p:spPr>
                  <a:xfrm>
                    <a:off x="2688480" y="2225160"/>
                    <a:ext cx="720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36">
                        <a:moveTo>
                          <a:pt x="0" y="336"/>
                        </a:moveTo>
                        <a:cubicBezTo>
                          <a:pt x="4" y="288"/>
                          <a:pt x="6" y="240"/>
                          <a:pt x="12" y="192"/>
                        </a:cubicBezTo>
                        <a:cubicBezTo>
                          <a:pt x="14" y="179"/>
                          <a:pt x="24" y="169"/>
                          <a:pt x="24" y="156"/>
                        </a:cubicBezTo>
                        <a:cubicBezTo>
                          <a:pt x="24" y="104"/>
                          <a:pt x="12" y="52"/>
                          <a:pt x="12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232" name=""/>
          <p:cNvSpPr txBox="1"/>
          <p:nvPr/>
        </p:nvSpPr>
        <p:spPr>
          <a:xfrm>
            <a:off x="4267080" y="685800"/>
            <a:ext cx="10670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solidFill>
                    <a:srgbClr val="ff0000"/>
                  </a:solidFill>
                </a:ln>
                <a:solidFill>
                  <a:srgbClr val="ff0000"/>
                </a:solidFill>
                <a:latin typeface="幼圆"/>
              </a:rPr>
              <a:t>陕甘宁</a:t>
            </a:r>
            <a:endParaRPr b="0" lang="en-US" sz="2400" spc="-1" strike="noStrike">
              <a:ln w="0">
                <a:solidFill>
                  <a:srgbClr val="ff0000"/>
                </a:solidFill>
              </a:ln>
              <a:solidFill>
                <a:srgbClr val="ff0000"/>
              </a:solidFill>
              <a:latin typeface="幼圆"/>
              <a:ea typeface="幼圆"/>
            </a:endParaRPr>
          </a:p>
        </p:txBody>
      </p:sp>
      <p:sp>
        <p:nvSpPr>
          <p:cNvPr id="1233" name=""/>
          <p:cNvSpPr txBox="1"/>
          <p:nvPr/>
        </p:nvSpPr>
        <p:spPr>
          <a:xfrm>
            <a:off x="6705720" y="5029200"/>
            <a:ext cx="11430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691911"/>
                  </a:solidFill>
                  <a:miter/>
                </a:ln>
                <a:solidFill>
                  <a:srgbClr val="000080"/>
                </a:solidFill>
                <a:latin typeface="宋体"/>
              </a:rPr>
              <a:t>江    西</a:t>
            </a:r>
            <a:endParaRPr b="0" lang="en-US" sz="2400" spc="-1" strike="noStrike">
              <a:ln w="9360">
                <a:solidFill>
                  <a:srgbClr val="691911"/>
                </a:solidFill>
                <a:miter/>
              </a:ln>
              <a:solidFill>
                <a:srgbClr val="000080"/>
              </a:solidFill>
              <a:latin typeface="宋体"/>
              <a:ea typeface="宋体"/>
            </a:endParaRPr>
          </a:p>
        </p:txBody>
      </p:sp>
      <p:sp>
        <p:nvSpPr>
          <p:cNvPr id="1234" name=""/>
          <p:cNvSpPr txBox="1"/>
          <p:nvPr/>
        </p:nvSpPr>
        <p:spPr>
          <a:xfrm>
            <a:off x="8229600" y="5638680"/>
            <a:ext cx="6094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691911"/>
                  </a:solidFill>
                  <a:miter/>
                </a:ln>
                <a:solidFill>
                  <a:srgbClr val="000080"/>
                </a:solidFill>
                <a:latin typeface="宋体"/>
              </a:rPr>
              <a:t>福建</a:t>
            </a:r>
            <a:endParaRPr b="0" lang="en-US" sz="2400" spc="-1" strike="noStrike">
              <a:ln w="9360">
                <a:solidFill>
                  <a:srgbClr val="691911"/>
                </a:solidFill>
                <a:miter/>
              </a:ln>
              <a:solidFill>
                <a:srgbClr val="000080"/>
              </a:solidFill>
              <a:latin typeface="宋体"/>
              <a:ea typeface="宋体"/>
            </a:endParaRPr>
          </a:p>
        </p:txBody>
      </p:sp>
      <p:sp>
        <p:nvSpPr>
          <p:cNvPr id="1235" name=""/>
          <p:cNvSpPr txBox="1"/>
          <p:nvPr/>
        </p:nvSpPr>
        <p:spPr>
          <a:xfrm>
            <a:off x="6781680" y="6477120"/>
            <a:ext cx="8384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691911"/>
                  </a:solidFill>
                  <a:miter/>
                </a:ln>
                <a:solidFill>
                  <a:srgbClr val="000080"/>
                </a:solidFill>
                <a:latin typeface="宋体"/>
              </a:rPr>
              <a:t>广 东</a:t>
            </a:r>
            <a:endParaRPr b="0" lang="en-US" sz="2400" spc="-1" strike="noStrike">
              <a:ln w="9360">
                <a:solidFill>
                  <a:srgbClr val="691911"/>
                </a:solidFill>
                <a:miter/>
              </a:ln>
              <a:solidFill>
                <a:srgbClr val="000080"/>
              </a:solidFill>
              <a:latin typeface="宋体"/>
              <a:ea typeface="宋体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962520" y="64008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691911"/>
                  </a:solidFill>
                  <a:miter/>
                </a:ln>
                <a:solidFill>
                  <a:srgbClr val="000080"/>
                </a:solidFill>
                <a:latin typeface="宋体"/>
              </a:rPr>
              <a:t>广   西</a:t>
            </a:r>
            <a:endParaRPr b="0" lang="en-US" sz="2400" spc="-1" strike="noStrike">
              <a:ln w="9360">
                <a:solidFill>
                  <a:srgbClr val="691911"/>
                </a:solidFill>
                <a:miter/>
              </a:ln>
              <a:solidFill>
                <a:srgbClr val="000080"/>
              </a:solidFill>
              <a:latin typeface="宋体"/>
              <a:ea typeface="宋体"/>
            </a:endParaRPr>
          </a:p>
        </p:txBody>
      </p:sp>
      <p:sp>
        <p:nvSpPr>
          <p:cNvPr id="1237" name=""/>
          <p:cNvSpPr txBox="1"/>
          <p:nvPr/>
        </p:nvSpPr>
        <p:spPr>
          <a:xfrm>
            <a:off x="3276720" y="5486400"/>
            <a:ext cx="11430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691911"/>
                  </a:solidFill>
                  <a:miter/>
                </a:ln>
                <a:solidFill>
                  <a:srgbClr val="000080"/>
                </a:solidFill>
                <a:latin typeface="宋体"/>
              </a:rPr>
              <a:t>贵   州</a:t>
            </a:r>
            <a:endParaRPr b="0" lang="en-US" sz="2400" spc="-1" strike="noStrike">
              <a:ln w="9360">
                <a:solidFill>
                  <a:srgbClr val="691911"/>
                </a:solidFill>
                <a:miter/>
              </a:ln>
              <a:solidFill>
                <a:srgbClr val="000080"/>
              </a:solidFill>
              <a:latin typeface="宋体"/>
              <a:ea typeface="宋体"/>
            </a:endParaRPr>
          </a:p>
        </p:txBody>
      </p:sp>
      <p:sp>
        <p:nvSpPr>
          <p:cNvPr id="1238" name=""/>
          <p:cNvSpPr txBox="1"/>
          <p:nvPr/>
        </p:nvSpPr>
        <p:spPr>
          <a:xfrm>
            <a:off x="1752480" y="609588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691911"/>
                  </a:solidFill>
                  <a:miter/>
                </a:ln>
                <a:solidFill>
                  <a:srgbClr val="000080"/>
                </a:solidFill>
                <a:latin typeface="宋体"/>
              </a:rPr>
              <a:t>云   南</a:t>
            </a:r>
            <a:endParaRPr b="0" lang="en-US" sz="2400" spc="-1" strike="noStrike">
              <a:ln w="9360">
                <a:solidFill>
                  <a:srgbClr val="691911"/>
                </a:solidFill>
                <a:miter/>
              </a:ln>
              <a:solidFill>
                <a:srgbClr val="000080"/>
              </a:solidFill>
              <a:latin typeface="宋体"/>
              <a:ea typeface="宋体"/>
            </a:endParaRPr>
          </a:p>
        </p:txBody>
      </p:sp>
      <p:sp>
        <p:nvSpPr>
          <p:cNvPr id="1239" name=""/>
          <p:cNvSpPr txBox="1"/>
          <p:nvPr/>
        </p:nvSpPr>
        <p:spPr>
          <a:xfrm>
            <a:off x="3048120" y="36576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691911"/>
                  </a:solidFill>
                  <a:miter/>
                </a:ln>
                <a:solidFill>
                  <a:srgbClr val="000080"/>
                </a:solidFill>
                <a:latin typeface="宋体"/>
              </a:rPr>
              <a:t>四   川</a:t>
            </a:r>
            <a:endParaRPr b="0" lang="en-US" sz="2400" spc="-1" strike="noStrike">
              <a:ln w="9360">
                <a:solidFill>
                  <a:srgbClr val="691911"/>
                </a:solidFill>
                <a:miter/>
              </a:ln>
              <a:solidFill>
                <a:srgbClr val="000080"/>
              </a:solidFill>
              <a:latin typeface="宋体"/>
              <a:ea typeface="宋体"/>
            </a:endParaRPr>
          </a:p>
        </p:txBody>
      </p:sp>
      <p:sp>
        <p:nvSpPr>
          <p:cNvPr id="1240" name=""/>
          <p:cNvSpPr/>
          <p:nvPr/>
        </p:nvSpPr>
        <p:spPr>
          <a:xfrm rot="2080200">
            <a:off x="4053960" y="5430960"/>
            <a:ext cx="1427400" cy="323640"/>
          </a:xfrm>
          <a:prstGeom prst="leftArrow">
            <a:avLst>
              <a:gd name="adj1" fmla="val 50000"/>
              <a:gd name="adj2" fmla="val 11026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4971240" y="4572000"/>
            <a:ext cx="91188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1911"/>
                </a:solidFill>
                <a:latin typeface="Times New Roman"/>
              </a:rPr>
              <a:t>湖   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1009080" y="3124080"/>
            <a:ext cx="9118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1911"/>
                </a:solidFill>
                <a:latin typeface="Times New Roman"/>
              </a:rPr>
              <a:t>西       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 rot="20270400">
            <a:off x="3050640" y="304200"/>
            <a:ext cx="5461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1911"/>
                </a:solidFill>
                <a:latin typeface="Times New Roman"/>
              </a:rPr>
              <a:t>甘                   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2340000" y="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黑体"/>
              </a:rPr>
              <a:t>中国工农红军长征简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5559480" y="804960"/>
            <a:ext cx="182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1911"/>
                </a:solidFill>
                <a:latin typeface="Arial"/>
              </a:rPr>
              <a:t>陕   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7381800" y="5330880"/>
            <a:ext cx="507960" cy="5079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073400" y="4495680"/>
            <a:ext cx="507960" cy="5079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3583080" y="4478400"/>
            <a:ext cx="1079280" cy="547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遵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4898880" y="1257480"/>
            <a:ext cx="508320" cy="5079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565360" y="1046160"/>
            <a:ext cx="507960" cy="5079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1965240" y="-6318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7223040" y="5334120"/>
            <a:ext cx="1079640" cy="552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瑞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4724280" y="1260360"/>
            <a:ext cx="1440000" cy="507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吴起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992240" y="1035000"/>
            <a:ext cx="1079640" cy="565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会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6480" y="0"/>
            <a:ext cx="188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填 图 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7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7" name="" descr=""/>
          <p:cNvPicPr/>
          <p:nvPr/>
        </p:nvPicPr>
        <p:blipFill>
          <a:blip r:embed="rId2"/>
          <a:stretch/>
        </p:blipFill>
        <p:spPr>
          <a:xfrm>
            <a:off x="4519440" y="-27000"/>
            <a:ext cx="3272040" cy="3348000"/>
          </a:xfrm>
          <a:prstGeom prst="rect">
            <a:avLst/>
          </a:prstGeom>
          <a:ln w="0">
            <a:noFill/>
          </a:ln>
        </p:spPr>
      </p:pic>
      <p:pic>
        <p:nvPicPr>
          <p:cNvPr id="1258" name="" descr=""/>
          <p:cNvPicPr/>
          <p:nvPr/>
        </p:nvPicPr>
        <p:blipFill>
          <a:blip r:embed="rId3"/>
          <a:stretch/>
        </p:blipFill>
        <p:spPr>
          <a:xfrm>
            <a:off x="4494240" y="3340080"/>
            <a:ext cx="3271680" cy="3382920"/>
          </a:xfrm>
          <a:prstGeom prst="rect">
            <a:avLst/>
          </a:prstGeom>
          <a:ln w="0">
            <a:noFill/>
          </a:ln>
        </p:spPr>
      </p:pic>
      <p:pic>
        <p:nvPicPr>
          <p:cNvPr id="1259" name="" descr=""/>
          <p:cNvPicPr/>
          <p:nvPr/>
        </p:nvPicPr>
        <p:blipFill>
          <a:blip r:embed="rId4"/>
          <a:stretch/>
        </p:blipFill>
        <p:spPr>
          <a:xfrm>
            <a:off x="1182600" y="3340080"/>
            <a:ext cx="3270240" cy="3359160"/>
          </a:xfrm>
          <a:prstGeom prst="rect">
            <a:avLst/>
          </a:prstGeom>
          <a:ln w="0">
            <a:noFill/>
          </a:ln>
        </p:spPr>
      </p:pic>
      <p:pic>
        <p:nvPicPr>
          <p:cNvPr id="1260" name="" descr=""/>
          <p:cNvPicPr/>
          <p:nvPr/>
        </p:nvPicPr>
        <p:blipFill>
          <a:blip r:embed="rId5"/>
          <a:stretch/>
        </p:blipFill>
        <p:spPr>
          <a:xfrm>
            <a:off x="1219320" y="-27000"/>
            <a:ext cx="3270240" cy="3354480"/>
          </a:xfrm>
          <a:prstGeom prst="rect">
            <a:avLst/>
          </a:prstGeom>
          <a:ln w="0">
            <a:noFill/>
          </a:ln>
        </p:spPr>
      </p:pic>
      <p:sp>
        <p:nvSpPr>
          <p:cNvPr id="1261" name=""/>
          <p:cNvSpPr/>
          <p:nvPr/>
        </p:nvSpPr>
        <p:spPr>
          <a:xfrm>
            <a:off x="7810560" y="1079640"/>
            <a:ext cx="915840" cy="4678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胸有祖国和人民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281160" y="1079640"/>
            <a:ext cx="917280" cy="4678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万里长征只等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0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500"/>
                            </p:stCondLst>
                            <p:childTnLst>
                              <p:par>
                                <p:cTn id="8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1000"/>
                            </p:stCondLst>
                            <p:childTnLst>
                              <p:par>
                                <p:cTn id="8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1500"/>
                            </p:stCondLst>
                            <p:childTnLst>
                              <p:par>
                                <p:cTn id="8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676440" y="976320"/>
            <a:ext cx="725472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d72f4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第</a:t>
            </a:r>
            <a:r>
              <a:rPr b="1" lang="en-US" sz="2400" spc="-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d72f4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13</a:t>
            </a:r>
            <a:r>
              <a:rPr b="1" lang="zh-CN" sz="2400" spc="-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d72f4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课</a:t>
            </a:r>
            <a:endParaRPr b="1" lang="en-US" sz="2400" spc="-1" strike="noStrike">
              <a:ln w="9360">
                <a:solidFill>
                  <a:srgbClr val="ffff00"/>
                </a:solidFill>
                <a:miter/>
              </a:ln>
              <a:solidFill>
                <a:srgbClr val="d72f4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d72f4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红军不怕远征难</a:t>
            </a:r>
            <a:endParaRPr b="1" lang="en-US" sz="2400" spc="-1" strike="noStrike">
              <a:ln w="9360">
                <a:solidFill>
                  <a:srgbClr val="ffff00"/>
                </a:solidFill>
                <a:miter/>
              </a:ln>
              <a:solidFill>
                <a:srgbClr val="d72f4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12720" y="188640"/>
            <a:ext cx="828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自学导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4247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红军长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微软雅黑"/>
                <a:ea typeface="微软雅黑"/>
              </a:rPr>
              <a:t>1</a:t>
            </a:r>
            <a:r>
              <a:rPr b="1" lang="zh-CN" sz="4000" spc="-1" strike="noStrike">
                <a:solidFill>
                  <a:srgbClr val="ff3300"/>
                </a:solidFill>
                <a:latin typeface="微软雅黑"/>
                <a:ea typeface="微软雅黑"/>
              </a:rPr>
              <a:t>、原    因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微软雅黑"/>
                <a:ea typeface="微软雅黑"/>
              </a:rPr>
              <a:t>2</a:t>
            </a:r>
            <a:r>
              <a:rPr b="1" lang="zh-CN" sz="4000" spc="-1" strike="noStrike">
                <a:solidFill>
                  <a:srgbClr val="ff3300"/>
                </a:solidFill>
                <a:latin typeface="微软雅黑"/>
                <a:ea typeface="微软雅黑"/>
              </a:rPr>
              <a:t>、时    间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微软雅黑"/>
                <a:ea typeface="微软雅黑"/>
              </a:rPr>
              <a:t>3</a:t>
            </a:r>
            <a:r>
              <a:rPr b="1" lang="zh-CN" sz="4000" spc="-1" strike="noStrike">
                <a:solidFill>
                  <a:srgbClr val="ff3300"/>
                </a:solidFill>
                <a:latin typeface="微软雅黑"/>
                <a:ea typeface="微软雅黑"/>
              </a:rPr>
              <a:t>、经    过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微软雅黑"/>
                <a:ea typeface="微软雅黑"/>
              </a:rPr>
              <a:t>4</a:t>
            </a:r>
            <a:r>
              <a:rPr b="1" lang="zh-CN" sz="4000" spc="-1" strike="noStrike">
                <a:solidFill>
                  <a:srgbClr val="ff3300"/>
                </a:solidFill>
                <a:latin typeface="微软雅黑"/>
                <a:ea typeface="微软雅黑"/>
              </a:rPr>
              <a:t>、结    果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微软雅黑"/>
                <a:ea typeface="微软雅黑"/>
              </a:rPr>
              <a:t>5</a:t>
            </a:r>
            <a:r>
              <a:rPr b="1" lang="zh-CN" sz="4000" spc="-1" strike="noStrike">
                <a:solidFill>
                  <a:srgbClr val="ff3300"/>
                </a:solidFill>
                <a:latin typeface="微软雅黑"/>
                <a:ea typeface="微软雅黑"/>
              </a:rPr>
              <a:t>、意    义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微软雅黑"/>
                <a:ea typeface="微软雅黑"/>
              </a:rPr>
              <a:t>6</a:t>
            </a:r>
            <a:r>
              <a:rPr b="1" lang="zh-CN" sz="4000" spc="-1" strike="noStrike">
                <a:solidFill>
                  <a:srgbClr val="ff3300"/>
                </a:solidFill>
                <a:latin typeface="微软雅黑"/>
                <a:ea typeface="微软雅黑"/>
              </a:rPr>
              <a:t>、长征精神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7" name=""/>
          <p:cNvGraphicFramePr/>
          <p:nvPr/>
        </p:nvGraphicFramePr>
        <p:xfrm>
          <a:off x="152280" y="1484280"/>
          <a:ext cx="8991720" cy="4803840"/>
        </p:xfrm>
        <a:graphic>
          <a:graphicData uri="http://schemas.openxmlformats.org/drawingml/2006/table">
            <a:tbl>
              <a:tblPr/>
              <a:tblGrid>
                <a:gridCol w="762120"/>
                <a:gridCol w="1904760"/>
                <a:gridCol w="1752840"/>
                <a:gridCol w="1438200"/>
                <a:gridCol w="1636560"/>
                <a:gridCol w="1497240"/>
              </a:tblGrid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时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敌        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领导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战略战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结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第一至四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"/>
          <p:cNvSpPr/>
          <p:nvPr/>
        </p:nvSpPr>
        <p:spPr>
          <a:xfrm>
            <a:off x="2817720" y="24400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42920" y="2997360"/>
            <a:ext cx="167652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1930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1933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43280" y="2852640"/>
            <a:ext cx="182556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万   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万   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30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万   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50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万   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0" y="2708280"/>
            <a:ext cx="16002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毛泽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Times New Roman"/>
              </a:rPr>
              <a:t>（前三次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835760" y="3492360"/>
            <a:ext cx="129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胜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711680" y="5168880"/>
            <a:ext cx="12193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博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李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84720" y="2924280"/>
            <a:ext cx="152424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避敌主力诱敌深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集中优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各个击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6012000" y="5013360"/>
            <a:ext cx="3043080" cy="752400"/>
            <a:chOff x="6012000" y="5013360"/>
            <a:chExt cx="3043080" cy="752400"/>
          </a:xfrm>
        </p:grpSpPr>
        <p:sp>
          <p:nvSpPr>
            <p:cNvPr id="176" name=""/>
            <p:cNvSpPr/>
            <p:nvPr/>
          </p:nvSpPr>
          <p:spPr>
            <a:xfrm>
              <a:off x="7912080" y="524520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失利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12000" y="5013360"/>
              <a:ext cx="194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分散兵力，进攻冒险，防御保守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971640" y="4869000"/>
            <a:ext cx="1871640" cy="21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1933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年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月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1934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384200" y="476280"/>
            <a:ext cx="68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5e221c"/>
                </a:solidFill>
                <a:latin typeface="Arial"/>
              </a:rPr>
              <a:t>红军的五次反</a:t>
            </a:r>
            <a:r>
              <a:rPr b="1" lang="en-US" sz="5400" spc="-1" strike="noStrike">
                <a:solidFill>
                  <a:srgbClr val="5e221c"/>
                </a:solidFill>
                <a:latin typeface="Arial"/>
                <a:ea typeface="Arial"/>
              </a:rPr>
              <a:t>“</a:t>
            </a:r>
            <a:r>
              <a:rPr b="1" lang="zh-CN" sz="5400" spc="-1" strike="noStrike">
                <a:solidFill>
                  <a:srgbClr val="5e221c"/>
                </a:solidFill>
                <a:latin typeface="Arial"/>
              </a:rPr>
              <a:t>围剿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11600" y="3357720"/>
            <a:ext cx="176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43280" y="3933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38600" y="4437000"/>
            <a:ext cx="173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0" y="35733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0" y="3587760"/>
            <a:ext cx="1592280" cy="13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周恩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朱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Times New Roman"/>
              </a:rPr>
              <a:t>（第四次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-86400" y="5000760"/>
            <a:ext cx="4804200" cy="1218960"/>
            <a:chOff x="-86400" y="5000760"/>
            <a:chExt cx="4804200" cy="1218960"/>
          </a:xfrm>
        </p:grpSpPr>
        <p:sp>
          <p:nvSpPr>
            <p:cNvPr id="186" name=""/>
            <p:cNvSpPr/>
            <p:nvPr/>
          </p:nvSpPr>
          <p:spPr>
            <a:xfrm>
              <a:off x="2913840" y="5395680"/>
              <a:ext cx="83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ff"/>
                  </a:solidFill>
                  <a:latin typeface="Times New Roman"/>
                </a:rPr>
                <a:t>50</a:t>
              </a:r>
              <a:r>
                <a:rPr b="1" lang="zh-CN" sz="2800" spc="-1" strike="noStrike">
                  <a:solidFill>
                    <a:srgbClr val="ff00ff"/>
                  </a:solidFill>
                  <a:latin typeface="Times New Roman"/>
                </a:rPr>
                <a:t>万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-86400" y="5000760"/>
              <a:ext cx="4804200" cy="1218960"/>
              <a:chOff x="-86400" y="5000760"/>
              <a:chExt cx="4804200" cy="1218960"/>
            </a:xfrm>
          </p:grpSpPr>
          <p:sp>
            <p:nvSpPr>
              <p:cNvPr id="188" name=""/>
              <p:cNvSpPr/>
              <p:nvPr/>
            </p:nvSpPr>
            <p:spPr>
              <a:xfrm>
                <a:off x="-86400" y="5000760"/>
                <a:ext cx="911880" cy="121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ff"/>
                    </a:solidFill>
                    <a:latin typeface="Times New Roman"/>
                  </a:rPr>
                  <a:t>第五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879720" y="539568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ff"/>
                    </a:solidFill>
                    <a:latin typeface="Times New Roman"/>
                  </a:rPr>
                  <a:t>8</a:t>
                </a:r>
                <a:r>
                  <a:rPr b="1" lang="zh-CN" sz="2800" spc="-1" strike="noStrike">
                    <a:solidFill>
                      <a:srgbClr val="ff00ff"/>
                    </a:solidFill>
                    <a:latin typeface="Times New Roman"/>
                  </a:rPr>
                  <a:t>万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0" name=""/>
          <p:cNvSpPr/>
          <p:nvPr/>
        </p:nvSpPr>
        <p:spPr>
          <a:xfrm>
            <a:off x="2932200" y="180828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军队人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776760" y="2835360"/>
            <a:ext cx="0" cy="344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209600" y="58680"/>
            <a:ext cx="438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红军不怕远征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7360" y="757080"/>
            <a:ext cx="14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原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17360" y="1538280"/>
            <a:ext cx="126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经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 rot="5400000">
            <a:off x="5658120" y="3383640"/>
            <a:ext cx="6858000" cy="903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 rot="5400000">
            <a:off x="-3384000" y="3383640"/>
            <a:ext cx="6858000" cy="903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338120" y="798480"/>
            <a:ext cx="55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红军              反“围剿”失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92200" y="757080"/>
            <a:ext cx="157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第五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959360" y="856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1934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、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308240" y="1432080"/>
            <a:ext cx="1908000" cy="10792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黑体"/>
              </a:rPr>
              <a:t>中央革命根据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228840" y="1432080"/>
            <a:ext cx="2219400" cy="1079280"/>
            <a:chOff x="3228840" y="1432080"/>
            <a:chExt cx="2219400" cy="1079280"/>
          </a:xfrm>
        </p:grpSpPr>
        <p:sp>
          <p:nvSpPr>
            <p:cNvPr id="203" name=""/>
            <p:cNvSpPr/>
            <p:nvPr/>
          </p:nvSpPr>
          <p:spPr>
            <a:xfrm>
              <a:off x="3228840" y="1971360"/>
              <a:ext cx="36036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539880" y="1432080"/>
              <a:ext cx="1908360" cy="10792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66"/>
                  </a:solidFill>
                  <a:latin typeface="Times New Roman"/>
                  <a:ea typeface="黑体"/>
                </a:rPr>
                <a:t>突破四道封锁线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5411880" y="1432080"/>
            <a:ext cx="1563120" cy="1079280"/>
            <a:chOff x="5411880" y="1432080"/>
            <a:chExt cx="1563120" cy="1079280"/>
          </a:xfrm>
        </p:grpSpPr>
        <p:sp>
          <p:nvSpPr>
            <p:cNvPr id="206" name=""/>
            <p:cNvSpPr/>
            <p:nvPr/>
          </p:nvSpPr>
          <p:spPr>
            <a:xfrm>
              <a:off x="5964120" y="1432080"/>
              <a:ext cx="1010880" cy="10792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66"/>
                  </a:solidFill>
                  <a:latin typeface="Times New Roman"/>
                  <a:ea typeface="黑体"/>
                </a:rPr>
                <a:t>渡过湘江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411880" y="1971360"/>
              <a:ext cx="57600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8" dur="75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7086600" y="5562720"/>
            <a:ext cx="5335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幼圆"/>
              </a:rPr>
              <a:t>中   央</a:t>
            </a:r>
            <a:endParaRPr b="0" lang="en-US" sz="24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幼圆"/>
              <a:ea typeface="幼圆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0" y="5638680"/>
            <a:ext cx="152280" cy="228600"/>
          </a:xfrm>
          <a:prstGeom prst="triangle">
            <a:avLst>
              <a:gd name="adj" fmla="val 6333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7010280" y="5867280"/>
            <a:ext cx="30492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于都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7620120" y="5867280"/>
            <a:ext cx="30456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瑞金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12" name=""/>
          <p:cNvSpPr/>
          <p:nvPr/>
        </p:nvSpPr>
        <p:spPr>
          <a:xfrm>
            <a:off x="7391520" y="6019920"/>
            <a:ext cx="199800" cy="152280"/>
          </a:xfrm>
          <a:prstGeom prst="star5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未知"/>
          <p:cNvSpPr/>
          <p:nvPr/>
        </p:nvSpPr>
        <p:spPr>
          <a:xfrm>
            <a:off x="3257640" y="4819680"/>
            <a:ext cx="617400" cy="576360"/>
          </a:xfrm>
          <a:custGeom>
            <a:avLst/>
            <a:gdLst/>
            <a:ahLst/>
            <a:rect l="l" t="t" r="r" b="b"/>
            <a:pathLst>
              <a:path w="389" h="363">
                <a:moveTo>
                  <a:pt x="156" y="0"/>
                </a:moveTo>
                <a:cubicBezTo>
                  <a:pt x="164" y="12"/>
                  <a:pt x="174" y="23"/>
                  <a:pt x="180" y="36"/>
                </a:cubicBezTo>
                <a:cubicBezTo>
                  <a:pt x="186" y="51"/>
                  <a:pt x="182" y="71"/>
                  <a:pt x="192" y="84"/>
                </a:cubicBezTo>
                <a:cubicBezTo>
                  <a:pt x="200" y="94"/>
                  <a:pt x="216" y="92"/>
                  <a:pt x="228" y="96"/>
                </a:cubicBezTo>
                <a:cubicBezTo>
                  <a:pt x="236" y="108"/>
                  <a:pt x="247" y="118"/>
                  <a:pt x="252" y="132"/>
                </a:cubicBezTo>
                <a:cubicBezTo>
                  <a:pt x="259" y="151"/>
                  <a:pt x="253" y="175"/>
                  <a:pt x="264" y="192"/>
                </a:cubicBezTo>
                <a:cubicBezTo>
                  <a:pt x="271" y="203"/>
                  <a:pt x="289" y="198"/>
                  <a:pt x="300" y="204"/>
                </a:cubicBezTo>
                <a:cubicBezTo>
                  <a:pt x="325" y="218"/>
                  <a:pt x="372" y="252"/>
                  <a:pt x="372" y="252"/>
                </a:cubicBezTo>
                <a:cubicBezTo>
                  <a:pt x="376" y="264"/>
                  <a:pt x="389" y="276"/>
                  <a:pt x="384" y="288"/>
                </a:cubicBezTo>
                <a:cubicBezTo>
                  <a:pt x="378" y="302"/>
                  <a:pt x="326" y="322"/>
                  <a:pt x="312" y="324"/>
                </a:cubicBezTo>
                <a:cubicBezTo>
                  <a:pt x="264" y="330"/>
                  <a:pt x="216" y="332"/>
                  <a:pt x="168" y="336"/>
                </a:cubicBezTo>
                <a:cubicBezTo>
                  <a:pt x="129" y="349"/>
                  <a:pt x="107" y="363"/>
                  <a:pt x="60" y="336"/>
                </a:cubicBezTo>
                <a:cubicBezTo>
                  <a:pt x="49" y="330"/>
                  <a:pt x="57" y="309"/>
                  <a:pt x="48" y="300"/>
                </a:cubicBezTo>
                <a:cubicBezTo>
                  <a:pt x="35" y="287"/>
                  <a:pt x="16" y="288"/>
                  <a:pt x="0" y="288"/>
                </a:cubicBezTo>
              </a:path>
            </a:pathLst>
          </a:custGeom>
          <a:noFill/>
          <a:ln w="255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962520" y="5181480"/>
            <a:ext cx="152280" cy="152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114800" y="5029200"/>
            <a:ext cx="3808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遵义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16" name=""/>
          <p:cNvSpPr/>
          <p:nvPr/>
        </p:nvSpPr>
        <p:spPr>
          <a:xfrm rot="5238000">
            <a:off x="6283080" y="5373720"/>
            <a:ext cx="309600" cy="1751040"/>
          </a:xfrm>
          <a:prstGeom prst="downArrow">
            <a:avLst>
              <a:gd name="adj1" fmla="val 62287"/>
              <a:gd name="adj2" fmla="val 152026"/>
            </a:avLst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00600" y="1143000"/>
            <a:ext cx="15228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495680" y="1371600"/>
            <a:ext cx="7621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solidFill>
                    <a:srgbClr val="000000"/>
                  </a:solidFill>
                </a:ln>
                <a:solidFill>
                  <a:srgbClr val="000000"/>
                </a:solidFill>
                <a:latin typeface="宋体"/>
              </a:rPr>
              <a:t>吴起镇</a:t>
            </a:r>
            <a:endParaRPr b="0" lang="en-US" sz="2400" spc="-1" strike="noStrike">
              <a:ln w="0">
                <a:solidFill>
                  <a:srgbClr val="000000"/>
                </a:solidFill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19" name=""/>
          <p:cNvSpPr/>
          <p:nvPr/>
        </p:nvSpPr>
        <p:spPr>
          <a:xfrm>
            <a:off x="3124080" y="1447920"/>
            <a:ext cx="15264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819520" y="1600200"/>
            <a:ext cx="4572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solidFill>
                    <a:srgbClr val="000000"/>
                  </a:solidFill>
                </a:ln>
                <a:solidFill>
                  <a:srgbClr val="000000"/>
                </a:solidFill>
                <a:latin typeface="宋体"/>
              </a:rPr>
              <a:t>会宁</a:t>
            </a:r>
            <a:endParaRPr b="0" lang="en-US" sz="2400" spc="-1" strike="noStrike">
              <a:ln w="0">
                <a:solidFill>
                  <a:srgbClr val="000000"/>
                </a:solidFill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21" name=""/>
          <p:cNvSpPr/>
          <p:nvPr/>
        </p:nvSpPr>
        <p:spPr>
          <a:xfrm>
            <a:off x="5257800" y="5105520"/>
            <a:ext cx="1066680" cy="380880"/>
          </a:xfrm>
          <a:prstGeom prst="wedgeRectCallout">
            <a:avLst>
              <a:gd name="adj1" fmla="val -19495"/>
              <a:gd name="adj2" fmla="val 215833"/>
            </a:avLst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3300"/>
                </a:solidFill>
                <a:latin typeface="黑体"/>
                <a:ea typeface="黑体"/>
              </a:rPr>
              <a:t>突破湘江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96080" y="6324480"/>
            <a:ext cx="1447920" cy="533520"/>
          </a:xfrm>
          <a:prstGeom prst="wedgeRectCallout">
            <a:avLst>
              <a:gd name="adj1" fmla="val -60416"/>
              <a:gd name="adj2" fmla="val -92263"/>
            </a:avLst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黑体"/>
                <a:ea typeface="黑体"/>
              </a:rPr>
              <a:t>1934</a:t>
            </a:r>
            <a:r>
              <a:rPr b="0" lang="zh-CN" sz="1400" spc="-1" strike="noStrike">
                <a:solidFill>
                  <a:srgbClr val="ff3300"/>
                </a:solidFill>
                <a:latin typeface="黑体"/>
                <a:ea typeface="黑体"/>
              </a:rPr>
              <a:t>年</a:t>
            </a:r>
            <a:r>
              <a:rPr b="0" lang="en-US" sz="1400" spc="-1" strike="noStrike">
                <a:solidFill>
                  <a:srgbClr val="ff3300"/>
                </a:solidFill>
                <a:latin typeface="黑体"/>
                <a:ea typeface="黑体"/>
              </a:rPr>
              <a:t>10</a:t>
            </a:r>
            <a:r>
              <a:rPr b="0" lang="zh-CN" sz="1400" spc="-1" strike="noStrike">
                <a:solidFill>
                  <a:srgbClr val="ff3300"/>
                </a:solidFill>
                <a:latin typeface="黑体"/>
                <a:ea typeface="黑体"/>
              </a:rPr>
              <a:t>月中央红军开始长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81280" y="1295280"/>
            <a:ext cx="152640" cy="152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267080" y="838080"/>
            <a:ext cx="10670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solidFill>
                    <a:srgbClr val="ff0000"/>
                  </a:solidFill>
                </a:ln>
                <a:solidFill>
                  <a:srgbClr val="ff0000"/>
                </a:solidFill>
                <a:latin typeface="幼圆"/>
              </a:rPr>
              <a:t>陕甘宁</a:t>
            </a:r>
            <a:endParaRPr b="0" lang="en-US" sz="2400" spc="-1" strike="noStrike">
              <a:ln w="0">
                <a:solidFill>
                  <a:srgbClr val="ff0000"/>
                </a:solidFill>
              </a:ln>
              <a:solidFill>
                <a:srgbClr val="ff0000"/>
              </a:solidFill>
              <a:latin typeface="幼圆"/>
              <a:ea typeface="幼圆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429000" y="1447920"/>
            <a:ext cx="4572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solidFill>
                    <a:srgbClr val="000000"/>
                  </a:solidFill>
                </a:ln>
                <a:solidFill>
                  <a:srgbClr val="000000"/>
                </a:solidFill>
                <a:latin typeface="宋体"/>
              </a:rPr>
              <a:t>将台堡</a:t>
            </a:r>
            <a:endParaRPr b="0" lang="en-US" sz="2400" spc="-1" strike="noStrike">
              <a:ln w="0">
                <a:solidFill>
                  <a:srgbClr val="000000"/>
                </a:solidFill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3934440" y="5257800"/>
            <a:ext cx="3788280" cy="2714760"/>
            <a:chOff x="3934440" y="5257800"/>
            <a:chExt cx="3788280" cy="2714760"/>
          </a:xfrm>
        </p:grpSpPr>
        <p:grpSp>
          <p:nvGrpSpPr>
            <p:cNvPr id="227" name=""/>
            <p:cNvGrpSpPr/>
            <p:nvPr/>
          </p:nvGrpSpPr>
          <p:grpSpPr>
            <a:xfrm>
              <a:off x="3934440" y="5467320"/>
              <a:ext cx="3788280" cy="2505240"/>
              <a:chOff x="3934440" y="5467320"/>
              <a:chExt cx="3788280" cy="2505240"/>
            </a:xfrm>
          </p:grpSpPr>
          <p:grpSp>
            <p:nvGrpSpPr>
              <p:cNvPr id="228" name=""/>
              <p:cNvGrpSpPr/>
              <p:nvPr/>
            </p:nvGrpSpPr>
            <p:grpSpPr>
              <a:xfrm>
                <a:off x="3934440" y="5467320"/>
                <a:ext cx="3788280" cy="2505240"/>
                <a:chOff x="3934440" y="5467320"/>
                <a:chExt cx="3788280" cy="2505240"/>
              </a:xfrm>
            </p:grpSpPr>
            <p:grpSp>
              <p:nvGrpSpPr>
                <p:cNvPr id="229" name=""/>
                <p:cNvGrpSpPr/>
                <p:nvPr/>
              </p:nvGrpSpPr>
              <p:grpSpPr>
                <a:xfrm>
                  <a:off x="4484880" y="5525280"/>
                  <a:ext cx="3237840" cy="2447280"/>
                  <a:chOff x="4484880" y="5525280"/>
                  <a:chExt cx="3237840" cy="244728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 rot="4123800">
                    <a:off x="4989600" y="5444280"/>
                    <a:ext cx="1065960" cy="18126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318707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3187072"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 rot="1095600">
                    <a:off x="6148800" y="5983560"/>
                    <a:ext cx="1320840" cy="18277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355761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3557614"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 rot="3433800">
                    <a:off x="5582160" y="5788800"/>
                    <a:ext cx="1065960" cy="18126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5559" y="1357"/>
                        </a:moveTo>
                        <a:arcTo wR="10800" hR="10800" stAng="-7142001" swAng="492907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5559" y="1357"/>
                        </a:moveTo>
                        <a:arcTo wR="10800" hR="10800" stAng="-7142001" swAng="4929074"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3" name=""/>
                <p:cNvSpPr/>
                <p:nvPr/>
              </p:nvSpPr>
              <p:spPr>
                <a:xfrm rot="5247600">
                  <a:off x="4334760" y="5129280"/>
                  <a:ext cx="1065960" cy="182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318707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3187072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4" name=""/>
              <p:cNvSpPr/>
              <p:nvPr/>
            </p:nvSpPr>
            <p:spPr>
              <a:xfrm>
                <a:off x="4724280" y="6400440"/>
                <a:ext cx="1143000" cy="456840"/>
              </a:xfrm>
              <a:prstGeom prst="wedgeRectCallout">
                <a:avLst>
                  <a:gd name="adj1" fmla="val 93472"/>
                  <a:gd name="adj2" fmla="val -70138"/>
                </a:avLst>
              </a:prstGeom>
              <a:solidFill>
                <a:srgbClr val="ffffff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3300"/>
                    </a:solidFill>
                    <a:latin typeface="黑体"/>
                    <a:ea typeface="黑体"/>
                  </a:rPr>
                  <a:t>冲破四道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3300"/>
                    </a:solidFill>
                    <a:latin typeface="黑体"/>
                    <a:ea typeface="黑体"/>
                  </a:rPr>
                  <a:t>封锁线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5790960" y="5257800"/>
              <a:ext cx="990000" cy="838080"/>
              <a:chOff x="5790960" y="5257800"/>
              <a:chExt cx="990000" cy="838080"/>
            </a:xfrm>
          </p:grpSpPr>
          <p:sp>
            <p:nvSpPr>
              <p:cNvPr id="236" name=""/>
              <p:cNvSpPr txBox="1"/>
              <p:nvPr/>
            </p:nvSpPr>
            <p:spPr>
              <a:xfrm>
                <a:off x="6533640" y="5257800"/>
                <a:ext cx="247320" cy="152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Deflate">
                  <a:avLst>
                    <a:gd name="adj" fmla="val 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ln w="0">
                      <a:solidFill>
                        <a:srgbClr val="0000ff"/>
                      </a:solidFill>
                    </a:ln>
                    <a:solidFill>
                      <a:srgbClr val="0000ff"/>
                    </a:solidFill>
                    <a:latin typeface="宋体"/>
                  </a:rPr>
                  <a:t>湘</a:t>
                </a:r>
                <a:endParaRPr b="0" lang="en-US" sz="2400" spc="-1" strike="noStrike">
                  <a:ln w="0">
                    <a:solidFill>
                      <a:srgbClr val="0000ff"/>
                    </a:solidFill>
                  </a:ln>
                  <a:solidFill>
                    <a:srgbClr val="0000ff"/>
                  </a:solidFill>
                  <a:latin typeface="宋体"/>
                  <a:ea typeface="宋体"/>
                </a:endParaRPr>
              </a:p>
            </p:txBody>
          </p:sp>
          <p:sp>
            <p:nvSpPr>
              <p:cNvPr id="237" name=""/>
              <p:cNvSpPr txBox="1"/>
              <p:nvPr/>
            </p:nvSpPr>
            <p:spPr>
              <a:xfrm>
                <a:off x="5790960" y="5943600"/>
                <a:ext cx="247320" cy="152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Deflate">
                  <a:avLst>
                    <a:gd name="adj" fmla="val 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ln w="0">
                      <a:solidFill>
                        <a:srgbClr val="0000ff"/>
                      </a:solidFill>
                    </a:ln>
                    <a:solidFill>
                      <a:srgbClr val="0000ff"/>
                    </a:solidFill>
                    <a:latin typeface="宋体"/>
                  </a:rPr>
                  <a:t>江</a:t>
                </a:r>
                <a:endParaRPr b="0" lang="en-US" sz="2400" spc="-1" strike="noStrike">
                  <a:ln w="0">
                    <a:solidFill>
                      <a:srgbClr val="0000ff"/>
                    </a:solidFill>
                  </a:ln>
                  <a:solidFill>
                    <a:srgbClr val="0000ff"/>
                  </a:solidFill>
                  <a:latin typeface="宋体"/>
                  <a:ea typeface="宋体"/>
                </a:endParaRPr>
              </a:p>
            </p:txBody>
          </p:sp>
        </p:grpSp>
      </p:grp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3054240" y="0"/>
            <a:ext cx="6120000" cy="50054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500"/>
                            </p:stCondLst>
                            <p:childTnLst>
                              <p:par>
                                <p:cTn id="239" nodeType="afterEffect" fill="hold" presetClass="entr" presetID="22" presetSubtype="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3" nodeType="afterEffect" fill="hold" presetClass="entr" presetID="23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5500"/>
                            </p:stCondLst>
                            <p:childTnLst>
                              <p:par>
                                <p:cTn id="248" nodeType="afterEffect" fill="hold" presetClass="entr" presetID="2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252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55" dur="1" fill="hold"/>
                                        <p:tgtEl>
                                          <p:spTgt spid="2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07:49:18Z</dcterms:created>
  <dc:creator>为您服务教育网　http://www.wsbedu.com/</dc:creator>
  <dc:description/>
  <dc:language>en-US</dc:language>
  <cp:lastModifiedBy>qq</cp:lastModifiedBy>
  <cp:lastPrinted>1899-12-30T00:00:00Z</cp:lastPrinted>
  <dcterms:modified xsi:type="dcterms:W3CDTF">2012-10-22T02:35:53Z</dcterms:modified>
  <cp:revision>15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38</vt:lpwstr>
  </property>
</Properties>
</file>